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108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95040" y="729720"/>
            <a:ext cx="48690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38858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108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3444-DA53-48F8-9C4C-B2D5338B60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6F98-BC7F-4064-9460-E8BC7986C2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E359-0C6E-47DD-B394-B670574CB5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144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2AB-A5AF-47A6-BB62-6DE7ABF49F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2D6-4A96-4DC7-8231-AA3FA18E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046-459E-4A91-8DB8-3AAF8D1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CE919-CFD8-4991-999E-AA126B94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F80ED-943E-44DE-A4B9-EDBDAFB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A0CE0-467C-4472-83B1-7A14EA6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07D1-42EB-4CCE-99E6-24F9562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08C62-5C20-4183-86C0-BBAD73A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4813-C043-44B8-9E24-D732AE2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2912-2637-4F12-BB67-DC36F14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6F1F8-2FBB-493A-A19C-6657C0EF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FA12A-717B-4322-BF81-E52D71B7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D8599-8F66-42DF-91DA-D10539FE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22C-C02A-4176-B24D-2A9E2517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99B80-D4D7-4754-BD8E-EF360815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88715-A712-4007-8E1E-FEEF4A18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50C6B-8841-4791-B63D-07BDC20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997A0-4414-449C-B22E-FFBD2D5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E95C6-B025-4A63-812C-08B0315F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C9E54-5E87-4A0F-BE05-404AAD0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BBCE7-AEB0-4719-9386-A9EED8E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EE0E1-F579-4A76-8E63-54CF6B4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A77D2-3DCB-4569-A708-3F24FA5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D5ED9-B746-4C8C-9CC9-DB0E0EE7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050-FB0E-44D5-93A2-5121D524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D60C1-054F-4396-AD8E-1733FF20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F1BB-9F4C-4A5C-ADCC-A72FD825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36F88-0375-4BAE-B220-F1E5D882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523F3-D9E1-4A8C-A4F1-EE1BC316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B3AC-AC99-408D-9DDD-C611EC93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DB653-8DDB-4E60-ACE4-FCC542B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241F6-DDB9-41F3-A362-65F0195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CA9DD-01B9-41EF-9D10-094AA63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EED8-FC5D-44A8-98A6-7255FFA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83B08-B45D-423E-95D1-03D0E61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32A-5A4D-41E9-B6BB-779B0CB2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6053F-10B4-4699-A613-3F600C5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17E67-EBEC-4C61-BC7E-17CA286C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06A6B-9149-4844-BB51-682BFF96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860FC-A945-418E-BFF0-C969F12A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62DBC-9CBF-484F-A781-F0B2271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E33CF-DBF7-4410-8F0B-0B17F21C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ECABF-AC8D-446B-B7AC-2DA012F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BEA54-33F1-40AC-AAB5-231D40BF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1195-46C1-494F-9AB9-F80350FC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2B255-1EBB-41A4-9556-840E57E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0E4-3EAA-4F76-997A-042F325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4744E-BD0B-4289-8823-D37AE0D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CE8CE-4B72-4D28-90F9-6CAE314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B1612-917D-4B9D-B542-7561A76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29E29-4B5A-4F5C-A221-D86571D6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6D50E-A6E8-4614-A1D3-367274DE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F0B23-FD7F-4580-AD82-A0D55048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45B8E-06C7-46A1-9C05-0BA4D77E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0F376-BC2D-49D7-92CA-415ACD3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4C53A-533C-44B1-941F-9FBF33FA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19A3A-1220-4779-AD84-BF4DCFC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4A72-439D-4BD6-AB8F-9BDC910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B64D1-1EF1-4A74-9171-642ACD06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73601-03EF-430B-B713-9B18E28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E66C3-FE67-4806-89C0-EF87B88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8E2F2-BE22-465E-B654-CBFB801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0BC9E-ED3C-4216-87B5-008386B2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093DB-837A-4B04-94D6-82034FF5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4228D-3F95-4D12-9EEF-4A5DC649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A5A79-D24E-49EB-864D-4DBD54A6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A9AA1-95B6-4623-8556-6B3F80B9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8E630-5C68-4F72-B8A1-C12E2F3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736C-01E5-4C88-AD2F-3E0BB6E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81694-C35B-424C-8BB8-8101840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B08C6-4383-4354-9607-4BF391B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3E376-5DA0-4B12-BA54-5842CCD2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9BEDE-6F76-44BE-9FA5-C3544165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837FD-B781-4BEC-8C5C-2F4CFFD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8B501-0AF6-442E-A110-3C0CFF0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0127C-DFC6-4D05-8461-C190182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68D05-2D8E-4C0E-89A7-B9929F5D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2AD77-4A1E-477A-AC09-D9C89926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1AE5-1C6D-435B-910F-FE21381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9DF2-D8EB-45D2-A72C-DFB261FD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78DD-4AB0-4D55-97DF-621D818E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6A3-E8D3-46AF-9163-8A5DAB5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0707-3679-4BEF-B48C-62C82C2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461-7340-4901-951D-B1210BE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0AD6-5BA0-423F-849C-A92882D8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1897-771A-4CA5-B57E-D2C436F1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2872-D072-4688-BA9B-F5293812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3DFA-2E07-431F-9DAE-1F97F69A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12EA-B4BE-438D-88BE-FDF22074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1EF6-3F47-4AF9-B400-8599425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0FF8-F97C-4D78-9EF0-5C012BE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FD78-C920-4FA4-B352-C687F7A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742-3146-4D86-9E0A-2E8BBC0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4815-CEBA-4AA0-B284-50B3376D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32C7-799B-4A68-AAAC-24C4C42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6571-BD00-4549-8150-84A4A38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A10F-1CF5-4BDF-AE17-D38DCFE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F73E-C718-4260-8FF4-B9ED753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EEE4-CD88-45C8-8B9C-264E4A50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E9FB-BF9B-47CD-BB00-EE3CB13D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009F-349B-4479-9B4F-791F3BEE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D820-921D-4787-B6FD-2B412F11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8199-A1EF-4C89-998E-13776B6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9AE-0F31-4522-B16F-E93363A0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0DB0-2322-48CE-945E-020C85DD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6B8E-9CC6-4456-8976-4ACB026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E95E-FC6C-494D-A2E3-FF11F0C8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9785-54B3-4661-8764-D1C8EDF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5BEC-384E-4151-8289-4A9E635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2CE3-5B1C-4C15-A6C5-1B629162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F87E-CF1D-4400-AC25-30A5E974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CB9B-125D-48BF-BF9E-27906E11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1BB4-6F03-4AD2-8181-CB721DD3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FB59-17B3-44DA-9583-2B37E57F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DE8-84C9-42F5-BF95-6A847F2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9EF5-21DB-4A77-A553-BA4CF49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3CBE-136F-40AC-BB28-BE645E86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5F995-CEF6-4CA9-A18B-CED46B2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97D0-BE25-4502-8D9A-4BE3696E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A5B1-EF1C-46A0-B6A6-FD5FB942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3A1F-93C0-47CF-AA72-FBBC23F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0D080-45E3-452A-9B4A-7485460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0654C-F19C-4634-9D36-72AF778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63AF-6FA4-415B-A32F-4B0B44E7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B342-20A0-4065-AF1C-B91261C9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210-1EA1-4348-9461-1AE5F9E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AFA1-CAD9-4C7F-BF7C-3BBFEC1A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BF3A-F5F7-49A5-8046-9CD2F974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76F9-A9DB-48D7-82DD-B1C3EF0F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63D2D-0A15-4341-8470-5C189AF1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0F66-FB7B-42A0-8E4E-A01AF473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4EB6-5EEA-4877-A8B9-8E193895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5A3D-0F9C-4D3E-BDFA-F435660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C62E9-4FE6-49C9-B4B6-50DB31E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6E08B-C0C7-4AA8-B0DB-701A894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24A2-BF4F-4C18-8A4E-CEDA9766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770-27D1-4616-8417-6E7A03C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3CEC-7486-42F4-8D7E-A42DA6E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6A22-2D17-47E6-8975-9A69CCD2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6133-F1DE-400F-BEB8-7C668585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921E-02A6-413C-A50B-020970F9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3139-3D82-4805-857F-A78EEC0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B3D24-DFFC-4843-B0C4-7AEB618B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CA45A-9931-45E6-A829-1A4F1AAF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C4D9-797E-4AD6-A43A-1AC418B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F442-F260-441A-96A4-D28182C8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8093-757E-4E79-8468-73E0BB3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F6B-B7DD-46E4-8620-E37EC4A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A83F-53BA-454E-895B-1C4AC9E9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07509-F16C-4ABB-BE24-11C21CA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A95E-1EFE-4A11-8191-571409CD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50E8-039D-47A3-8BC2-62CDE879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9CF27-5535-4DB8-B7DB-3EE15342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6B3F-C274-4799-87CF-957FC6F6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3E7A2-ACFF-4F9F-B250-6B9F8EC9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2ADF-319D-4280-BD01-D73F0B73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E6AE-71EC-41CE-B64A-9467EAB5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E302-8A5C-409E-9A5B-A618EFF1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CCD-8053-4B56-A06A-7BF35DE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71EB-00DB-418A-9E8A-FDCCB49E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922D2-620F-4F29-B6A7-02834344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9261-7FDC-4690-A000-BC1A4DD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D400-C083-46D5-AD03-D90FCE2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44A40-882F-40F4-96B3-915C433F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C1BB-9750-4DFE-A7F4-96927BFB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0D13-90D8-48FB-80CB-28814EB8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C88A-6503-4E83-9B11-506CDCA0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F4D95-A4A5-4A1D-B1DA-2C7EA653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D25B2-484D-4530-979C-DBEC2B7B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655-2D00-4A1C-AB85-CBB9E7CD345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534B-BFF0-493D-8C53-84B45B7FC93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03E-74DB-479D-BA50-9E466C68D8D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96C6-1977-43D6-936F-8710031AC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A68A-8948-4ACD-9568-E941AACB79B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74A-54F3-4F6F-B275-1368CCC92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9DA-9F35-42D8-A532-78DBAC3985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35C-EA43-4CE1-A8DB-9A4B935A7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6A8F-EE02-410E-975D-19F0369445A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680C-238F-4355-91BA-4DAEEB383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0CD7-24EA-41E2-B47F-EAC398648A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B69-0CC0-4D6B-B24F-3D2D69329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1EAA-C9EE-4B95-9054-2A9D2ABD4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7F8-AFF6-4467-AB50-DAC2A8052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B046-8145-472B-975F-FB66253BBCD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293-A2E0-4EAA-8CEE-48E9F998E13B}" type="slidenum">
              <a:rPr b="0" lang="ar-SA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1B7B-6D27-4E5B-88EA-021C33A36A5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1F7-0810-4DE0-B5F3-1B7297EA0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AC12-7E41-4EB3-B5AA-A16F63DF93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8B04-45C4-49F6-B51D-A825B1DA1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5350-68D1-4A40-91DC-7F6E6D96B14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7832-DBC9-49AE-99F8-4600D69D6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B944-8440-4517-A4F4-1362C15632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381E-12FE-43BE-BF44-E00ED7452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560C-FBB6-466B-9F35-4558976D57D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A28-67DB-45A5-9C5C-0298A215C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0D4A-4430-462E-A1BD-6E1668C6C9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0E6-021C-4B5E-8090-CD7E41AA4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414936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Eras Bold ITC"/>
                <a:ea typeface="Times New Roman"/>
              </a:rPr>
              <a:t>Instructor;  Endalk B. (MSc..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Eras Bold ITC"/>
                <a:ea typeface="Times New Roman"/>
              </a:rPr>
              <a:t>Maintenance And installation of  machinery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1258920" y="380880"/>
            <a:ext cx="70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DEBRE MARKOS UNIVERSITY</a:t>
            </a:r>
            <a:br>
              <a:rPr sz="2400"/>
            </a:b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INSTITUTE OF TECHNOLOG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Times New Roman"/>
              </a:rPr>
              <a:t>MECH</a:t>
            </a:r>
            <a:r>
              <a:rPr b="0" lang="en-US" sz="2400" spc="-1" strike="noStrike">
                <a:solidFill>
                  <a:srgbClr val="767171"/>
                </a:solidFill>
                <a:latin typeface="Eras Bold ITC"/>
                <a:ea typeface="Arial"/>
              </a:rPr>
              <a:t>ANICAL ENGINEERING DEPART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728720" y="565308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Eras Bold ITC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E833-58F0-49CA-85EE-F91FDAEAE0C4}" type="slidenum">
              <a:rPr b="1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24000" y="549000"/>
            <a:ext cx="842472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Times New Roman"/>
              </a:rPr>
              <a:t>1-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Dependenc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Calligraphy"/>
                <a:ea typeface="Times New Roman"/>
              </a:rPr>
              <a:t>the modified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(A and B) = P(A) P(B\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4708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Calligraphy"/>
              </a:rPr>
              <a:t>Cont.</a:t>
            </a: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2843280" y="2852640"/>
            <a:ext cx="3816360" cy="2568600"/>
            <a:chOff x="2843280" y="2852640"/>
            <a:chExt cx="3816360" cy="2568600"/>
          </a:xfrm>
        </p:grpSpPr>
        <p:sp>
          <p:nvSpPr>
            <p:cNvPr id="619" name="Oval 2"/>
            <p:cNvSpPr/>
            <p:nvPr/>
          </p:nvSpPr>
          <p:spPr>
            <a:xfrm>
              <a:off x="2843280" y="2885760"/>
              <a:ext cx="1474920" cy="11192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0" name="Oval 3"/>
            <p:cNvSpPr/>
            <p:nvPr/>
          </p:nvSpPr>
          <p:spPr>
            <a:xfrm>
              <a:off x="2843280" y="4208400"/>
              <a:ext cx="1584360" cy="12128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1" name="Oval 4"/>
            <p:cNvSpPr/>
            <p:nvPr/>
          </p:nvSpPr>
          <p:spPr>
            <a:xfrm>
              <a:off x="5234040" y="2852640"/>
              <a:ext cx="1282680" cy="115236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\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2" name="Oval 7"/>
            <p:cNvSpPr/>
            <p:nvPr/>
          </p:nvSpPr>
          <p:spPr>
            <a:xfrm>
              <a:off x="5435640" y="4208400"/>
              <a:ext cx="1224000" cy="12128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(B\A)</a:t>
              </a:r>
              <a:endParaRPr b="1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23" name="Rectangle 2"/>
          <p:cNvSpPr/>
          <p:nvPr/>
        </p:nvSpPr>
        <p:spPr>
          <a:xfrm>
            <a:off x="1411200" y="5651640"/>
            <a:ext cx="712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and B are not independ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(B\A) ≠ P(B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2A2-462E-4DB0-9108-FB4775E3C8BD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2556000" y="333360"/>
            <a:ext cx="3456000" cy="57456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t">
            <a:normAutofit/>
          </a:bodyPr>
          <a:p>
            <a:pPr marL="182520" indent="-182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3c3cb6"/>
                </a:solidFill>
                <a:latin typeface="Lucida Calligraphy"/>
              </a:rPr>
              <a:t>2- Addition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514440" y="1052640"/>
            <a:ext cx="82803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)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A and B are mutually exclusive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occurrence of one event precludes the occurrence of the other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547640" y="2673360"/>
            <a:ext cx="5834160" cy="2987640"/>
            <a:chOff x="1547640" y="2673360"/>
            <a:chExt cx="5834160" cy="2987640"/>
          </a:xfrm>
        </p:grpSpPr>
        <p:sp>
          <p:nvSpPr>
            <p:cNvPr id="628" name="Oval 3"/>
            <p:cNvSpPr/>
            <p:nvPr/>
          </p:nvSpPr>
          <p:spPr>
            <a:xfrm>
              <a:off x="1547640" y="3571920"/>
              <a:ext cx="2376360" cy="208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Broadway"/>
                  <a:ea typeface="Arial"/>
                </a:rPr>
                <a:t>P(A)</a:t>
              </a:r>
              <a:endParaRPr b="1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9" name="Oval 7"/>
            <p:cNvSpPr/>
            <p:nvPr/>
          </p:nvSpPr>
          <p:spPr>
            <a:xfrm>
              <a:off x="5005440" y="3571920"/>
              <a:ext cx="2376360" cy="208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Broadway"/>
                  <a:ea typeface="Arial"/>
                </a:rPr>
                <a:t>P(B)</a:t>
              </a:r>
              <a:endParaRPr b="1" lang="en-US" sz="3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30" name="AutoShape 9"/>
            <p:cNvSpPr/>
            <p:nvPr/>
          </p:nvSpPr>
          <p:spPr>
            <a:xfrm>
              <a:off x="3349440" y="2673360"/>
              <a:ext cx="2232000" cy="194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33cc33"/>
                  </a:solidFill>
                  <a:latin typeface="Broadway"/>
                  <a:ea typeface="Arial"/>
                </a:rPr>
                <a:t>Addition 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33cc33"/>
                  </a:solidFill>
                  <a:latin typeface="Broadway"/>
                  <a:ea typeface="Arial"/>
                </a:rPr>
                <a:t>Rule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1" name="Text Box 8"/>
          <p:cNvSpPr/>
          <p:nvPr/>
        </p:nvSpPr>
        <p:spPr>
          <a:xfrm>
            <a:off x="936720" y="6005520"/>
            <a:ext cx="7488000" cy="520560"/>
          </a:xfrm>
          <a:prstGeom prst="rect">
            <a:avLst/>
          </a:prstGeom>
          <a:solidFill>
            <a:srgbClr val="a5e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A OR B) = P(A U B) = P(A) + P(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3368-7525-4BF2-8AB3-4B286D96CEB5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2"/>
          <p:cNvSpPr/>
          <p:nvPr/>
        </p:nvSpPr>
        <p:spPr>
          <a:xfrm>
            <a:off x="971640" y="1700280"/>
            <a:ext cx="3095640" cy="3025800"/>
          </a:xfrm>
          <a:prstGeom prst="ellipse">
            <a:avLst/>
          </a:prstGeom>
          <a:solidFill>
            <a:srgbClr val="d60093"/>
          </a:solidFill>
          <a:ln cap="sq"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P(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42920" y="0"/>
            <a:ext cx="8815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i) </a:t>
            </a:r>
            <a:r>
              <a:rPr b="1" lang="en-US" sz="2800" spc="-1" strike="noStrike" u="sng">
                <a:solidFill>
                  <a:srgbClr val="33cc33"/>
                </a:solidFill>
                <a:uFillTx/>
                <a:latin typeface="Times New Roman"/>
                <a:ea typeface="Times New Roman"/>
              </a:rPr>
              <a:t>A and B are non mutually exclusive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Can occur together) Example: Male and smoker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42920" y="5862600"/>
            <a:ext cx="8893080" cy="520560"/>
          </a:xfrm>
          <a:prstGeom prst="rect">
            <a:avLst/>
          </a:prstGeom>
          <a:solidFill>
            <a:srgbClr val="a5e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OR B) = P(A U B) = P(A) + P(B) - P(A ∩ 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AutoShape 6"/>
          <p:cNvSpPr/>
          <p:nvPr/>
        </p:nvSpPr>
        <p:spPr>
          <a:xfrm rot="2064000">
            <a:off x="6157800" y="1630080"/>
            <a:ext cx="2684520" cy="2558880"/>
          </a:xfrm>
          <a:prstGeom prst="pi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odified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ddition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ul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Oval 7"/>
          <p:cNvSpPr/>
          <p:nvPr/>
        </p:nvSpPr>
        <p:spPr>
          <a:xfrm>
            <a:off x="3492360" y="1700280"/>
            <a:ext cx="3095640" cy="302580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  <a:ea typeface="Arial"/>
              </a:rPr>
              <a:t>P(B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8" name="Line 8"/>
          <p:cNvSpPr/>
          <p:nvPr/>
        </p:nvSpPr>
        <p:spPr>
          <a:xfrm flipH="1">
            <a:off x="3654360" y="2422440"/>
            <a:ext cx="162000" cy="17964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Line 9"/>
          <p:cNvSpPr/>
          <p:nvPr/>
        </p:nvSpPr>
        <p:spPr>
          <a:xfrm flipH="1">
            <a:off x="3527280" y="2637000"/>
            <a:ext cx="32400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0" name="Line 10"/>
          <p:cNvSpPr/>
          <p:nvPr/>
        </p:nvSpPr>
        <p:spPr>
          <a:xfrm flipH="1">
            <a:off x="3526920" y="2889360"/>
            <a:ext cx="35892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3529080" y="3095640"/>
            <a:ext cx="35856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Line 12"/>
          <p:cNvSpPr/>
          <p:nvPr/>
        </p:nvSpPr>
        <p:spPr>
          <a:xfrm flipH="1">
            <a:off x="3564000" y="3355920"/>
            <a:ext cx="358560" cy="36036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3685680" y="3676680"/>
            <a:ext cx="250920" cy="21744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2770200" y="4925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∩ B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3635280" y="414972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6" name="Line 8"/>
          <p:cNvSpPr/>
          <p:nvPr/>
        </p:nvSpPr>
        <p:spPr>
          <a:xfrm flipH="1">
            <a:off x="3780000" y="3894120"/>
            <a:ext cx="156960" cy="162000"/>
          </a:xfrm>
          <a:prstGeom prst="line">
            <a:avLst/>
          </a:prstGeom>
          <a:ln cap="sq" w="38160">
            <a:solidFill>
              <a:srgbClr val="3c3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85D9-2BDC-466B-BB60-83F0A32365E2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Chapter 7</a:t>
            </a:r>
            <a:br>
              <a:rPr sz="3600"/>
            </a:b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Basic</a:t>
            </a: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0" lang="en-US" sz="3600" spc="-1" strike="noStrike">
                <a:solidFill>
                  <a:srgbClr val="ff0603"/>
                </a:solidFill>
                <a:latin typeface="Eras Bold ITC"/>
              </a:rPr>
              <a:t>Probability </a:t>
            </a:r>
            <a:r>
              <a:rPr b="0" lang="en-US" sz="3600" spc="-1" strike="noStrike">
                <a:solidFill>
                  <a:srgbClr val="00b050"/>
                </a:solidFill>
                <a:latin typeface="Eras Bold ITC"/>
              </a:rPr>
              <a:t>Concep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Lucida Calligraphy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use the term probability many times each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hysician says that a persevering has a 50-50 chance of surviving a certain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technicians may say that the machine is 95%  that a machine  has a particular fail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21D2-A0A9-4E34-9B74-CE96F63D780B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2737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Lucida Calligraphy"/>
                <a:ea typeface="Latha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06520" y="691920"/>
            <a:ext cx="78436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 any planned process of data collection. It consists of a number of trials (replications) under the same condi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pace: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llection of unique, non-overlapping possible outcomes of a random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event: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ne outcome in the sample space; a possible outcome of a random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: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 collection of one or more simple events in the sample space; often written as A, B, C, and so on.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33cc33"/>
                </a:solidFill>
                <a:latin typeface="Arial Black"/>
                <a:ea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, Fe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3924360" y="5877000"/>
            <a:ext cx="2663640" cy="57924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41D0-5AD4-401B-ACB5-52D103E1E528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68360" y="1052640"/>
            <a:ext cx="8207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= sometimes, we want to know the probability that an event will not happen; an event opposite to the event of interest is called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mentary event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 is an event, its complement is The probability of the complement is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Example: The complement of male event is the female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835280" y="5753160"/>
            <a:ext cx="496872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A) + </a:t>
            </a:r>
            <a:r>
              <a:rPr b="1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A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) = 1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324000" y="189000"/>
            <a:ext cx="8351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6A9F-181E-47AA-AF2E-6E7DF2DD0606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100080"/>
            <a:ext cx="78868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Probability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28560" y="1052640"/>
            <a:ext cx="78868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Probabil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hance of occurrence of an events  , but question of a chance is because of uncertain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oint probability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ginal probability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ditional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FDD7-C162-4829-A9EF-E5EC6DDD4408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6000" y="404280"/>
            <a:ext cx="2195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blem 1.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539640" y="3645000"/>
          <a:ext cx="7921800" cy="2341440"/>
        </p:xfrm>
        <a:graphic>
          <a:graphicData uri="http://schemas.openxmlformats.org/drawingml/2006/table">
            <a:tbl>
              <a:tblPr/>
              <a:tblGrid>
                <a:gridCol w="2808360"/>
                <a:gridCol w="2665440"/>
                <a:gridCol w="1511280"/>
                <a:gridCol w="936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function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ction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  <a:tr h="92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brica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d Not lubrica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18720">
                      <a:solidFill>
                        <a:srgbClr val="e7e6e6"/>
                      </a:solidFill>
                    </a:lnL>
                    <a:lnR w="18720">
                      <a:solidFill>
                        <a:srgbClr val="e7e6e6"/>
                      </a:solidFill>
                    </a:lnR>
                    <a:lnT w="18720">
                      <a:solidFill>
                        <a:srgbClr val="e7e6e6"/>
                      </a:solidFill>
                    </a:lnT>
                    <a:lnB w="18720">
                      <a:solidFill>
                        <a:srgbClr val="e7e6e6"/>
                      </a:solidFill>
                    </a:lnB>
                    <a:solidFill>
                      <a:srgbClr val="44546a"/>
                    </a:solidFill>
                  </a:tcPr>
                </a:tc>
              </a:tr>
            </a:tbl>
          </a:graphicData>
        </a:graphic>
      </p:graphicFrame>
      <p:sp>
        <p:nvSpPr>
          <p:cNvPr id="601" name="Text Box 109"/>
          <p:cNvSpPr/>
          <p:nvPr/>
        </p:nvSpPr>
        <p:spPr>
          <a:xfrm>
            <a:off x="216000" y="1125360"/>
            <a:ext cx="8675640" cy="1800360"/>
          </a:xfrm>
          <a:prstGeom prst="rect">
            <a:avLst/>
          </a:prstGeom>
          <a:solidFill>
            <a:srgbClr val="3c3c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An outbreak of not functional occurs in a group of machines who attended in maintenance shop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Find the probability of not functional and applied lubricant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940-AD4F-4224-8C7F-8AE436FB2ECF}" type="slidenum">
              <a:rPr b="1" lang="ar-SA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640" y="-3708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0920" y="907560"/>
            <a:ext cx="7886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Lucida Calligraphy"/>
                <a:ea typeface="Times New Roman"/>
              </a:rPr>
              <a:t>The joint probability of not functional and applied lubric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)  =  110/200   = 0.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\applied lubricant) =  90/120     = 0.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two events are 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 ∩ applied lubrica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P(applied lubricant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not functional \ P(applied lubrica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(120/200)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90/12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= 0.45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85C8-7750-4954-865C-670A19834399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16360" y="620640"/>
            <a:ext cx="2087280" cy="74160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erti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9640" y="1557000"/>
            <a:ext cx="806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probability ranges between 0 and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n outcome cannot occur, its probability is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f an outcome is sure, it has a probability of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50000"/>
              </a:lnSpc>
              <a:spcBef>
                <a:spcPts val="751"/>
              </a:spcBef>
              <a:buSzPct val="102805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The sum of probabilities of mutually exclusive outcomes is equal to 1               P(M) + P(F)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E56-CAA7-4392-9687-287BDF03EACF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319640" cy="54468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les of probability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640" y="981000"/>
            <a:ext cx="7802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33cc33"/>
                </a:solidFill>
                <a:uFillTx/>
                <a:latin typeface="Lucida Calligraphy"/>
                <a:ea typeface="Times New Roman"/>
              </a:rPr>
              <a:t>1-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Lucida Calligraphy"/>
                <a:ea typeface="Times New Roman"/>
              </a:rPr>
              <a:t>Independence and multiplication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A and B) = P(A) P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5"/>
          <p:cNvSpPr/>
          <p:nvPr/>
        </p:nvSpPr>
        <p:spPr>
          <a:xfrm>
            <a:off x="1476360" y="2536920"/>
            <a:ext cx="2160720" cy="17287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586400" y="2565360"/>
            <a:ext cx="2160360" cy="1728720"/>
          </a:xfrm>
          <a:prstGeom prst="ellipse">
            <a:avLst/>
          </a:prstGeom>
          <a:solidFill>
            <a:srgbClr val="a5a5a5"/>
          </a:solidFill>
          <a:ln w="12600">
            <a:solidFill>
              <a:srgbClr val="787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B\A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3030480" y="3932280"/>
            <a:ext cx="2160720" cy="1728720"/>
          </a:xfrm>
          <a:prstGeom prst="ellipse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B)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1238400" y="5661000"/>
            <a:ext cx="66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 and B are independ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P(B\A) = P(B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066-7D78-48B1-BDA7-A7135987E108}" type="slidenum">
              <a:rPr b="1" lang="en-US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6:43:41Z</dcterms:created>
  <dc:creator>Mona Hassan Ahmed Hassan</dc:creator>
  <dc:description/>
  <dc:language>en-US</dc:language>
  <cp:lastModifiedBy>Ethiopia</cp:lastModifiedBy>
  <dcterms:modified xsi:type="dcterms:W3CDTF">2019-04-09T11:36:22Z</dcterms:modified>
  <cp:revision>148</cp:revision>
  <dc:subject/>
  <dc:title>Basic ProbabilityConcepts</dc:title>
</cp:coreProperties>
</file>