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747-DAB1-410C-A0B9-420ED635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DE3-0522-4FB6-B831-857B9F0A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E1B-4E2C-4A09-9DDF-C7B8EECD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F4E-40D8-4886-A80E-88F29A5C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0F6B-74BB-481D-B505-DE164EB7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FBCD-43A4-4725-880C-6723A0C5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B10B-D58A-4405-8649-A8C94FF4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C61B-AE7A-4D45-856A-8419A054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2B3D-7D32-48BF-8F23-A8AA81CC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638C-4D98-4D30-965E-CBA0AF33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6BF5-EB4E-437E-B606-685F9FC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535-9F93-455B-ABE4-63CB5002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EA5C-5784-4535-8289-9A74CB2B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9735-08B3-4B0B-9EB6-273E1827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012F-39B8-4AE5-96C8-DC0F59B0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79CA-7A0F-4D1B-926C-649627CF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CF7C-12AD-4B48-97DA-9C17686C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CAE81-DDD0-4373-9C4C-592CF8C0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8382-1CC5-4125-9FA2-7BE7A621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CF71-5A17-4E9D-AF87-95858655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A87E-59A9-4909-BCCD-16A040D5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8CFEA-CA85-41B2-BEFF-5088E520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45E-8271-447E-A833-174DA8CE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768F-ADD9-4F0A-89C2-3A523517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DDC4-75F4-4410-8421-EB34CC48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B2BCD-0086-4611-8356-99BCC02A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4FD1-22DD-4144-BC08-0EA8B554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D82F-66BB-4998-84C5-B2449CFC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D6C85-CFDE-487F-8ABC-2BBE3C60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479D-8324-4BD3-80A8-DC47A94D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9C6D3-F228-49EE-8E87-B133E1A5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7491C-7505-4D0A-ABF1-DCEFCD0E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9BD5E-912B-4FEA-80D0-A78A7C86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976-F255-4097-9FF0-9827E842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5D45-93D8-49C1-8362-318DE981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B226-29D8-44E3-BFEE-9D26E238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18207-C643-45CA-AACF-99393A5E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6BC5-46EB-42FB-8A0A-130C12A3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6A045-D4F2-4446-9452-40C348BB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92BD-6A57-4A71-87F0-96D93CAE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4B1BA-7DFF-4D51-854F-598E3E29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0F4AD-5D44-4CBF-8D5A-522186F2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33D0-F80D-4C4D-8687-DDE4688A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AD6-06AA-4E9A-AE9B-6CC1287A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E4CE-65E9-4DD8-9139-F30519CB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E97D-9FA2-4C91-A27E-07C0A846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40A-9A04-4B83-AA31-1E33D03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EEA-3D74-47E7-ADB5-12E1911C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3640" cy="108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3640" cy="18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803240"/>
            <a:ext cx="7314840" cy="182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6000" spc="-1" strike="noStrike" cap="all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932080" y="4323960"/>
            <a:ext cx="2297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914400" y="4323960"/>
            <a:ext cx="4880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footer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058080" y="1431000"/>
            <a:ext cx="217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2BB22C-6C8F-47C6-8D38-FFC395C78B2E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3640" cy="1080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4000" spc="-1" strike="noStrike" cap="all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dit Master text styl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12320" y="6356520"/>
            <a:ext cx="2136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94360" y="6355800"/>
            <a:ext cx="568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footer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72160" y="380880"/>
            <a:ext cx="197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2FA89E-FBBB-4CA9-BC0E-80691495DF5D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3640" cy="1080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50920" y="214200"/>
            <a:ext cx="7803720" cy="59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footer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B71074-2CC8-433A-9B4E-B8050FBAE1CF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3640" cy="1080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4000" spc="-1" strike="noStrike" cap="all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footer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B65DDB-7050-43DD-A9CE-5C74DA1751CE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ubtitle 2"/>
          <p:cNvSpPr/>
          <p:nvPr/>
        </p:nvSpPr>
        <p:spPr>
          <a:xfrm>
            <a:off x="2252520" y="3394440"/>
            <a:ext cx="50360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1" i="1" lang="en-US" sz="2100" spc="-1" strike="noStrike">
                <a:solidFill>
                  <a:srgbClr val="00b050"/>
                </a:solidFill>
                <a:latin typeface="Cambria"/>
              </a:rPr>
              <a:t>Software Engineerin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3"/>
          </p:nvPr>
        </p:nvSpPr>
        <p:spPr>
          <a:xfrm>
            <a:off x="3346560" y="6396840"/>
            <a:ext cx="4326120" cy="460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3000" spc="-1" strike="noStrike">
                <a:solidFill>
                  <a:srgbClr val="ff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A92159-2AB1-4AE1-9531-8CCBFB9D63D4}" type="datetime2">
              <a:rPr b="1" lang="en-US" sz="3000" spc="-1" strike="noStrike">
                <a:solidFill>
                  <a:srgbClr val="ff0000"/>
                </a:solidFill>
                <a:latin typeface="Cambria"/>
              </a:rPr>
              <a:t>Wednesday, July 29, 2026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2642400" y="1806120"/>
            <a:ext cx="3355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300" spc="-1" strike="noStrike">
                <a:solidFill>
                  <a:srgbClr val="00b0f0"/>
                </a:solidFill>
                <a:latin typeface="Cambria"/>
              </a:rPr>
              <a:t>Software Proc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7EF-8DBA-4171-A568-9B9F05E34A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Fig2-4"/>
          <p:cNvPicPr/>
          <p:nvPr/>
        </p:nvPicPr>
        <p:blipFill>
          <a:blip r:embed="rId1"/>
          <a:stretch/>
        </p:blipFill>
        <p:spPr>
          <a:xfrm>
            <a:off x="397440" y="1512360"/>
            <a:ext cx="8151840" cy="48153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"/>
          <p:cNvSpPr/>
          <p:nvPr/>
        </p:nvSpPr>
        <p:spPr>
          <a:xfrm>
            <a:off x="2770560" y="1661400"/>
            <a:ext cx="53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Early Defect Remova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EAB0-4994-45B3-AFDE-3688FFE7292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ABAE24D-4243-4F44-B840-24577901B56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94360" y="1868400"/>
            <a:ext cx="7954920" cy="43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Predictability and repeatability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ocess should repeat its performance when used on different projects  i.e. outcome of using a process should be predictabl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Without predictabilit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we cannot estimate, or say anything about quality or productivit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With predictabilit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past performance can be used to predict future performanc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5B6B-A4BB-4824-90FC-E86583B4AF8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FA3C4B8-3AEF-4834-9121-4815EE931EC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11920" y="1987200"/>
            <a:ext cx="8161560" cy="392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dictable process is said to be under 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statistical contro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peatedly using the process produces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similar resul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sults – properties of interest like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quality, productivit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consistently develop software with high quality &amp; productivity, process must be </a:t>
            </a: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in contro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489600" y="118512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edictabilit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2302920" y="60012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48AB-51FF-40E6-B1CE-567C462877D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64DE654-128A-4682-BC5D-9A47A5E3D04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Fig2-3"/>
          <p:cNvPicPr/>
          <p:nvPr/>
        </p:nvPicPr>
        <p:blipFill>
          <a:blip r:embed="rId1"/>
          <a:stretch/>
        </p:blipFill>
        <p:spPr>
          <a:xfrm>
            <a:off x="791640" y="1924200"/>
            <a:ext cx="6782400" cy="4332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489600" y="118512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edictabilit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2302920" y="60012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0034-AB09-46A0-B93B-665AF6705A59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D1D8A8-DE39-4AC9-A64F-D56238DD316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94360" y="1855440"/>
            <a:ext cx="795492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Changes in software exist for various reas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Requirements change is a key reas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changes cannot be wished away or treated as “bad”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They must be accommodated in the process for software developm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Rectangle 1"/>
          <p:cNvSpPr/>
          <p:nvPr/>
        </p:nvSpPr>
        <p:spPr>
          <a:xfrm>
            <a:off x="733320" y="115704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Support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2302920" y="60012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C7B9-7CD6-4AD6-97F0-BD4526CA0F9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F7DDE5F-D33E-4C3D-AE4E-3FF516A31D4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94360" y="1661400"/>
            <a:ext cx="7954920" cy="452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For a project, the process to be followed is specified during planning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ch phase has its own sequence of step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quence of steps for a phase are the methodologies for that phas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y do we have phas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To employ divide and conqu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It helps for easy validation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velopment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BA33-C8E9-4AFD-917E-ADA6AE5E997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7C479EF-F98F-4C21-87CD-C19D0DDB91A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28560" y="1801440"/>
            <a:ext cx="7886520" cy="45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36880" indent="-2368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monly, the development process has these activities: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11360" indent="-23688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requirements analysis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11360" indent="-23688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architecture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11360" indent="-23688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design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11360" indent="-23688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coding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11360" indent="-23688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testing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11360" indent="-23688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deliver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36880" indent="-2368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fferent models perform them in different mann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1947960" y="82872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velopment Proces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7BBA-ABA2-45A2-AE11-F47ECF3FAB0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600EC05-13B6-4D71-91FA-9E3D78F9F2E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68640" y="1895040"/>
            <a:ext cx="834372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equirement analysis is used to understand the problem precisel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It forms the basis of agreement between user and developer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It specifies “ what “ , not “ how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“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equirement specifications of even medium systems can be many hundreds of pag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mbria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is the Software Requirement </a:t>
            </a:r>
            <a:r>
              <a:rPr b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Specification (SRS) docu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5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B004-79C4-4D43-8263-C9C33080790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7D2100F-19A6-4803-A79E-3C2F0A9AF52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50440" y="1441800"/>
            <a:ext cx="7998840" cy="49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sign is the major step from problem domain to solution domain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t has three main task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Architecture design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 components and connectors that should be there in the system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High level design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 modules and data structures needed to implement the architectur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Detailed design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 logic of module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ost methodologies focus on architecture or high level design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rchitectural design &amp; or logic design document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2571840" y="618840"/>
            <a:ext cx="545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g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BAF5-3E81-46A2-8FD7-7C60D1913EF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AF31B3A-B280-4274-B777-3CF16931A92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94360" y="1842480"/>
            <a:ext cx="792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nverts design into code in a specific languag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Goal: to implement the design with simple and easy way to understand the cod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Code should be simple and readabl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coding phase affects both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testing and maintenanc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Well written code can reduce the testing and maintenance effort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utput: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o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DA60-FD34-4DB4-B55C-862977FA8D0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2B7937D-5F8E-4F16-A10C-85B8B70A781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94360" y="1789200"/>
            <a:ext cx="7954920" cy="44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31840" indent="-2318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Process is </a:t>
            </a: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a particular method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generally involving a number of step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31840" indent="-2318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oftware process has a set of steps, along with ordering constraints on execution, to produce software with desired outcom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31840" indent="-2318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any types of activities are performed by different people in a software projec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31840" indent="-2318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etter to view software process as comprising of many component process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3171960" y="777960"/>
            <a:ext cx="493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oftwa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4FC3-E4DE-4FE1-AA0D-A81B536D7C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452F7A8-CAB9-41D3-9813-C66E278D402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95240" y="1765080"/>
            <a:ext cx="7754040" cy="43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efects are introduced in each phase of software proces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esting plays important role regarding the defect remova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Goal: to identify most of defect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Testing has to be properly planned and execut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Outputs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are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est plans/results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and f</a:t>
            </a:r>
            <a:r>
              <a:rPr b="0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inal tested (hopefully reliable) co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B9C4-324D-4F0C-97C5-4865B0C5711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AC2CAEE-0CBB-484E-A21E-39E1EB16CDC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94360" y="1886040"/>
            <a:ext cx="8224200" cy="42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Distribution of effort 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      -   10-2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sign   -   10-2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ing   -   20-3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sting   -   30-50%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can observe that coding is not the most expensive phas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Effort Dis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BC69-C903-43B4-8152-2E22650CAD6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9592191-5665-4C8F-BB09-F10B9E18AD13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50440" y="1780560"/>
            <a:ext cx="7998840" cy="431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stribution of error occurrences by phase is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Requirement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---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2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Design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---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3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Coding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---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5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st of latency: cost of defect removal increases exponentially with latency time.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f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1622-B6C7-48CD-895B-71E1990863C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52A4BCF-93E6-4F5D-AFAA-024BA1B2AD8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91040" y="1994040"/>
            <a:ext cx="816156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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Cost to fix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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Error ( log scale)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heapest way is to detect and remove defect close to where it is injec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Hence it is a must to check for defects after every phas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4286160" y="1714320"/>
            <a:ext cx="360" cy="1428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35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4286160" y="3143160"/>
            <a:ext cx="171432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35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Line 6"/>
          <p:cNvSpPr/>
          <p:nvPr/>
        </p:nvSpPr>
        <p:spPr>
          <a:xfrm flipV="1">
            <a:off x="4343400" y="2000880"/>
            <a:ext cx="1657080" cy="1085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35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fect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A9B3-DD7E-4D0F-8B29-22C803C5626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A45BF82-8055-49ED-B4D6-2A5888F7935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94360" y="1746000"/>
            <a:ext cx="79207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e have seen the major stages or phases of software develop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ifferent process models execute these stages in different manner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 process model specifies a general proces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.e. a model provides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generic structure of the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2744-A7DC-468D-A1C8-134D995CA3D1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4F09BD5-0F1D-4134-A9F8-F917D8E3F87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94360" y="1958400"/>
            <a:ext cx="795492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If a project chooses a model, it will generally tailor it to suit the project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s produces the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specification for the projects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process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is what is actually executed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process specification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is a plan about what should be executed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process model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is a generic process specification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ny models have been proposed for the development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Rectangle 1"/>
          <p:cNvSpPr/>
          <p:nvPr/>
        </p:nvSpPr>
        <p:spPr>
          <a:xfrm>
            <a:off x="594360" y="1260000"/>
            <a:ext cx="5680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oject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2729520" y="728640"/>
            <a:ext cx="5301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5EFA-3A9B-4C96-9026-400C23F75862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9B43FEE-7016-49C4-A041-949FB1DE7DB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94360" y="2023920"/>
            <a:ext cx="792072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Waterfal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– the oldest and widely us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Prototyping</a:t>
            </a:r>
            <a:r>
              <a:rPr b="0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Iterativ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– currently used widel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Time boxin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594360" y="123336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Common Proces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238A-0592-491D-939F-37AAFB9680D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BE49BF3-80D4-4949-8DC4-6743AC233C0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94360" y="2194200"/>
            <a:ext cx="7920720" cy="41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Linear sequence of stages/pha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Requirements –&gt; HLD –&gt; DD –&gt; Code –&gt; Test –&gt; Deplo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mbria"/>
              </a:rPr>
              <a:t>A phase starts only when the previous has complet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mbria"/>
              </a:rPr>
              <a:t>no feedback(FORWARD DRIVEN APPROACH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phases partition the project, each addressing a separate concer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594360" y="123912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Waterfall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6160-698E-4722-BC96-FB082C9E8B08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B4754AB-77BB-474E-982C-99B006D4CC9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dt" idx="14"/>
          </p:nvPr>
        </p:nvSpPr>
        <p:spPr>
          <a:xfrm>
            <a:off x="6230160" y="6184800"/>
            <a:ext cx="1904760" cy="33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DF8B9F-2D17-4363-BD76-0488403DC146}" type="datetime2">
              <a:rPr b="0" lang="en-US" sz="1050" spc="-1" strike="noStrike">
                <a:solidFill>
                  <a:srgbClr val="8b8b8b"/>
                </a:solidFill>
                <a:latin typeface="Cambria"/>
              </a:rPr>
              <a:t>Wednesday, July 29, 2026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Num" idx="15"/>
          </p:nvPr>
        </p:nvSpPr>
        <p:spPr>
          <a:xfrm>
            <a:off x="6803640" y="3859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AF35DD-F6E9-49EF-8108-D0981D2F7588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429480" y="1244520"/>
            <a:ext cx="2081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Waterf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Model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3470760" y="3654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1"/>
          <a:stretch/>
        </p:blipFill>
        <p:spPr>
          <a:xfrm>
            <a:off x="2314440" y="1008000"/>
            <a:ext cx="5820120" cy="54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94360" y="1790280"/>
            <a:ext cx="7828560" cy="454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inear ordering implies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each phase should have some outpu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The output must be validated/certifi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mmon outputs of a waterfall model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1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SRS (Software Requirement Specification)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1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project plan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1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design documents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1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test plan and reports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1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final code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1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supporting docum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594360" y="118368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Waterfall Model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B64F-2831-4FD4-B575-3C965C4C3E9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3E47353-92E2-4116-92B4-D0B7C2830BC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6280" y="1538280"/>
            <a:ext cx="8128800" cy="481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wo major processes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mbria"/>
              </a:rPr>
              <a:t>Development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 focuses 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evelopment and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quality steps needed to engineer the softwar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mbria"/>
              </a:rPr>
              <a:t>Project management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 focuses on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lanning and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rolling the development proces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Development process is the heart of software process; other processes revolve around i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se are executed by different peopl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velopers execute engineering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oject manager executes the management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2425320" y="728640"/>
            <a:ext cx="589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omponent Softwa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3BFF-D6F7-4BF9-9F94-1F92A8C8E57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8F990FF-BA63-4C3D-895F-46D8726439D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98600" y="2041920"/>
            <a:ext cx="8016120" cy="37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Conceptually simple,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Cleanly divides the problem into distinct phases that can be performed independentl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Natural approach for problem solving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Easy to administer and contro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Rectangle 1"/>
          <p:cNvSpPr/>
          <p:nvPr/>
        </p:nvSpPr>
        <p:spPr>
          <a:xfrm>
            <a:off x="594360" y="136800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Waterfall Model Advan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2AC1-5597-43D0-849E-E0FBB7141B0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8D04F01-B153-4C23-A5A4-969C782F1F9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94360" y="1908360"/>
            <a:ext cx="7920720" cy="41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Assumes that requirements can be specified and frozen early. To change requirement all stages done has to be reverted and consider chang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May fix hardware and other technologies too earl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Very document oriented, requiring documents at the end of each phas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594360" y="118620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Waterfall Model Disadvan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2FDC-74C2-4BA8-A749-21783579BC0F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DE615FB-71A0-4F14-87BE-22A5C567445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94360" y="2110680"/>
            <a:ext cx="7954920" cy="38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ed on the advantage and disadvantage, Waterfall is used fo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projects where requirements can be understood easily and technology decisions are eas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i.e. for familiar type of projects it still may be the most optimum model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594360" y="134388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Waterfall Model U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E8F4-EA67-444C-A786-0199FCF72715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27C4F63-410D-4FCA-AB8B-B9842C0910D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94360" y="1872720"/>
            <a:ext cx="7920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rototyping addresses the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requirement specification limitation of waterfal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Instead of freezing requirements only by discussions, a prototype is built to understand the requirement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elps to avoid the requirements change risk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A small waterfall model replaces the requirements stag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594360" y="1151280"/>
            <a:ext cx="539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ototy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08F9-83F8-45BC-9979-EE0CD1D70D4C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44006AB-4DA5-41D3-A37B-84065B146F03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Fig2-6"/>
          <p:cNvPicPr/>
          <p:nvPr/>
        </p:nvPicPr>
        <p:blipFill>
          <a:blip r:embed="rId1"/>
          <a:stretch/>
        </p:blipFill>
        <p:spPr>
          <a:xfrm>
            <a:off x="356400" y="2480040"/>
            <a:ext cx="8158680" cy="3360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"/>
          <p:cNvSpPr/>
          <p:nvPr/>
        </p:nvSpPr>
        <p:spPr>
          <a:xfrm>
            <a:off x="594360" y="121860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ototyping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1D23-3608-4F25-AA4D-454BAA2BCE95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E18BA27-BE7B-45B1-88CF-A385F2F8B9F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94360" y="1630080"/>
            <a:ext cx="7954920" cy="47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evelopment of prototyp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Starts with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initial requirem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Only key features which need better understanding are included in prototyp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No point in including those features that are well understood because the cost will increas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Feedback from users taken to improve the understanding of the requirement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470520" y="102348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ototyping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AAD6-F30E-4613-94E9-2F0B422CD479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9A02120-44A5-4A08-96AA-1FF989F065E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94360" y="1783440"/>
            <a:ext cx="7954920" cy="455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st can be kept lo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uild only features needing clarific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quick and dirty” – quality not importa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ngs like exception handling, recovery, standards etc. are omit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pports early defect remova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594360" y="10598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ototyping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5B5C-C460-403A-9CD1-8C8B93997B64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D1D0BEF-4DC4-45E2-941F-208352FA29D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94360" y="1845720"/>
            <a:ext cx="7920720" cy="438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Advantages: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requirement will be more stable, requirement  frozen later, experience helps in the main develop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Disadvantages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: Potential hit on cost and schedule but less than cost of early require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Applicability: When requirement are hard to elicit and confidence in requirements is low; i.e. where requirements are not well understoo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594360" y="100368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ototyping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8A69-DF49-4BBD-AD78-3280F4B0828C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D5D9FB5-A53F-47F0-BB42-9ABC8631223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594360" y="2060640"/>
            <a:ext cx="7920720" cy="398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ombines benefit of prototyping and waterfal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Develop and deliver software in increment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Each increment is complete in itself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an be viewed as a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sequence of waterfall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Feedback from one iteration is used in the future iteration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456840" y="10508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Iterativ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47BD-79EA-46F1-9127-DD1041DD8AA8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F7F8D64-B697-416C-9363-C06556DE8E6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Fig2-7"/>
          <p:cNvPicPr/>
          <p:nvPr/>
        </p:nvPicPr>
        <p:blipFill>
          <a:blip r:embed="rId1"/>
          <a:stretch/>
        </p:blipFill>
        <p:spPr>
          <a:xfrm>
            <a:off x="695880" y="2545200"/>
            <a:ext cx="7642440" cy="303372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695880" y="130680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Iterative Development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55D4-C103-4EF2-B7C3-08D5033825F3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8123A04-33AC-452E-9EB8-80CAB1A10C9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28560" y="2014200"/>
            <a:ext cx="78865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ther proces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Change management proces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deals with how changes can be incorpora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Process management proces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management of processes themselv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Inspection proces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how inspections are conducted on artifac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omponent Software Proces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04D6-2749-4552-9242-2B0B303B41F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1679BF5-155D-4234-B5D3-4F25B07A048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594360" y="2033640"/>
            <a:ext cx="7920720" cy="432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Products almost always follow i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is also used commonly in customized develop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Businesses want quick response for softwar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Cannot afford the risk of all-or-nothing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Newer approaches like XP, Agile,… all rely on iterative develop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94360" y="120672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Iterative Developmen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F788-7407-4116-A767-271291DDC156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BD7908A-1A0F-41F7-BE98-23A87DC5E472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34240" y="1952640"/>
            <a:ext cx="7980480" cy="42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</a:rPr>
              <a:t>Benefits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: Get-as-you-pay, uses feedback for improvement,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</a:rPr>
              <a:t>Drawbacks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: Architecture/design may not be optimal, reworking may increase, total cost may be mor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6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</a:rPr>
              <a:t>Applicability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here response time is important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isk of long projects cannot be take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ll requirement not known but can be understood incrementall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594360" y="105192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Iterative Developmen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249C-B97F-4442-8BB0-E0EE006D5EB7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C64CD22-03EE-4E09-B2AD-F58EFBCC3B3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94360" y="1961640"/>
            <a:ext cx="7920720" cy="35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erative is linear sequence of itera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ch iteration is a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mini waterfa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ime boxing – fix an iteration dur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vide iteration in a few equal stag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Use pipelining concepts to execute iterations in paralle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box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D944-54F4-41E6-9795-1AF990BBB84A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79F0FE2-3A34-493C-BD75-C671D5A99B1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70800" y="2509200"/>
            <a:ext cx="805176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eneral iterative development – </a:t>
            </a: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fix the </a:t>
            </a:r>
            <a:r>
              <a:rPr b="1" lang="en-US" sz="2200" spc="-1" strike="noStrike">
                <a:solidFill>
                  <a:srgbClr val="0070c0"/>
                </a:solidFill>
                <a:latin typeface="Cambria"/>
              </a:rPr>
              <a:t>functionality</a:t>
            </a: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 for each iteration, then plan and execute i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In time boxed iterations – </a:t>
            </a:r>
            <a:r>
              <a:rPr b="0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fix the </a:t>
            </a:r>
            <a:r>
              <a:rPr b="1" i="1" lang="en-US" sz="2200" spc="-1" strike="noStrike">
                <a:solidFill>
                  <a:srgbClr val="0070c0"/>
                </a:solidFill>
                <a:latin typeface="Cambria"/>
              </a:rPr>
              <a:t>duration</a:t>
            </a:r>
            <a:r>
              <a:rPr b="0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of iteration and adjust the functionality to fit i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Completion time is fixed, the functionality to be delivered is flexibl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370800" y="173196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ime Boxed Ite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FC81-ED74-4FF7-AFF1-727BB17A9A05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EBD83B-2DAB-4F5D-A520-38B6F3D4BC0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94360" y="2292840"/>
            <a:ext cx="792072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s itself is very useful in many situation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has predictable delivery tim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verall product release and marketing can be better plann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makes </a:t>
            </a: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time a non-negotiable parameter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d helps focus attention on schedul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overall development time is still unchang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594360" y="158148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ime Boxed Iteration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D31B-19B5-4DB5-9627-7B0F8719E0BA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DADBED6-7D69-4263-860F-9ED5662A898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94360" y="2511360"/>
            <a:ext cx="788652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if we have multiple iterations executing in paralle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can reduce the average completion time by exploiting parallelis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r parallel execution, it can borrow pipelining concepts from hardwar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s leads to Timeboxing Process Mode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444240" y="1715040"/>
            <a:ext cx="6548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aking Time Boxed Iterations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91CB-F6CA-4C16-88B4-BD064D9BB51C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FCFC865-1C14-45DC-9470-5D6342A980BC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27160" indent="-22716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Development is done iteratively in fixed duration time box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7160" indent="-22716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Each time box is divided in fixed stag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7160" indent="-22716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Each stage performs a clearly defined task that can be done independentl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7160" indent="-22716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Each stage is approximately equal in duratio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7160" indent="-22716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here is a dedicated team for each stag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7160" indent="-22716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When one stage team finishes, it hands over the project to the next tea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Rectangle 1"/>
          <p:cNvSpPr/>
          <p:nvPr/>
        </p:nvSpPr>
        <p:spPr>
          <a:xfrm>
            <a:off x="594360" y="161532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Bas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D2DC-4E2D-4214-B877-D0DC1D462F17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EACC9AC-3FA0-4780-B99B-35010AC2AD1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28560" y="2639880"/>
            <a:ext cx="7886520" cy="35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 iteration with three stages – Analysis, Build, Deploy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se stages are approximately equal in many situation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e can adjust durations by determining the boundaries suitabl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e can adjust duration by adjusting the team size for each stag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ave separate teams for A, B, and 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628560" y="185076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D245-4BF6-4F55-BC83-76E90DD33A96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6E18D47-2150-4727-BF7A-BC65BF554F0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et AT = Analysis Team, BT = Build Team, DT = Deploy Team and ‘it’ = i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 starts executing it-1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 finishes, hands over it-1 to BT, starts executing it-2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 finishes it-2, hands over to BT; BT finishes it-1, hands over to DT; AT starts it-3, BT starts it-2 (and DT, it-1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630720" y="1615320"/>
            <a:ext cx="2515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Pipelined Exec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5487-E126-4DFF-9B96-2768912FFF8B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B331F27-4100-4FF6-9A8F-74BBAE63813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"/>
          <p:cNvSpPr/>
          <p:nvPr/>
        </p:nvSpPr>
        <p:spPr>
          <a:xfrm>
            <a:off x="594360" y="165348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1" descr=""/>
          <p:cNvPicPr/>
          <p:nvPr/>
        </p:nvPicPr>
        <p:blipFill>
          <a:blip r:embed="rId1"/>
          <a:stretch/>
        </p:blipFill>
        <p:spPr>
          <a:xfrm>
            <a:off x="409320" y="2420640"/>
            <a:ext cx="8139960" cy="378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FB7B-0672-485D-BE39-EC21117AFE4E}" type="slidenum">
              <a:t>4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9B4A6B5-3B1D-4D9C-8ECA-E6BC4232F85C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3960" y="1855440"/>
            <a:ext cx="809532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Process is generally a set of phas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ch phase performs a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well defined task and generally produces an outpu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 top level, typically there are few phases in a proces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o perform a particular phase – </a:t>
            </a:r>
            <a:r>
              <a:rPr b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methodologies have been propos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Spec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8470-6014-4BB0-9E07-AD4E38F60D9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BB4E6C4-E2E2-45D0-BCC3-8B991903DD8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rst iteration finishes at time 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finishes at T+T/3; third at T+2 T/3, and so o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 steady state, there will be a delivery every T/3 tim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f T is 3 weeks, first delivery after 3 weeks,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mbri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after 4 weeks,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mbria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after 5 weeks,…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 linear execution, delivery times will be 3 weeks, 6 weeks, 9 weeks,…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5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594360" y="164016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Executi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9B4D-2FF9-4888-961F-5C49442D872F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548C0E6-8E59-43B2-BDA6-A2D91D80B3D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28560" y="1669680"/>
            <a:ext cx="7886520" cy="44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dvantages: Shortened delivery times, other advantage of iterative, distr. execution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Disadvantages: Larger teams, project management is harder, high synchronization needed, control is harder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pplicability: When short delivery times are very important; architecture is stable;  flexibility in feature grouping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Num" idx="16"/>
          </p:nvPr>
        </p:nvSpPr>
        <p:spPr>
          <a:xfrm>
            <a:off x="6572160" y="380880"/>
            <a:ext cx="197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43862E-B9F8-45CD-B289-6D0EF333A670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49935B-DB63-4671-BE8D-E43EE4233F0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Group 3"/>
          <p:cNvGraphicFramePr/>
          <p:nvPr/>
        </p:nvGraphicFramePr>
        <p:xfrm>
          <a:off x="543240" y="1657080"/>
          <a:ext cx="7778880" cy="4462920"/>
        </p:xfrm>
        <a:graphic>
          <a:graphicData uri="http://schemas.openxmlformats.org/drawingml/2006/table">
            <a:tbl>
              <a:tblPr/>
              <a:tblGrid>
                <a:gridCol w="2254320"/>
                <a:gridCol w="3084120"/>
                <a:gridCol w="2440080"/>
              </a:tblGrid>
              <a:tr h="440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r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ea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pes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5320"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asy to exec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ntuitive and log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asy contractu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ll or nothing too ris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q frozen e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y chose outdated hardware/te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sallows chan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o feedback from us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ell understood problems, short duration projects, automation of existing manu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PlaceHolder 1"/>
          <p:cNvSpPr>
            <a:spLocks noGrp="1"/>
          </p:cNvSpPr>
          <p:nvPr>
            <p:ph type="dt" idx="17"/>
          </p:nvPr>
        </p:nvSpPr>
        <p:spPr>
          <a:xfrm>
            <a:off x="672984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44B69D-67BA-4FD6-89F7-BC82A55B72F2}" type="datetime2">
              <a:rPr b="0" lang="en-US" sz="1050" spc="-1" strike="noStrike">
                <a:solidFill>
                  <a:srgbClr val="8b8b8b"/>
                </a:solidFill>
                <a:latin typeface="Cambria"/>
              </a:rPr>
              <a:t>Wednesday, July 29, 2026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Num" idx="18"/>
          </p:nvPr>
        </p:nvSpPr>
        <p:spPr>
          <a:xfrm>
            <a:off x="6830280" y="3859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CD149C-69DE-4A8F-A745-BEBC92F03FEF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2981880" y="523440"/>
            <a:ext cx="5441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ummary - Wate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Group 3"/>
          <p:cNvGraphicFramePr/>
          <p:nvPr/>
        </p:nvGraphicFramePr>
        <p:xfrm>
          <a:off x="707760" y="1551600"/>
          <a:ext cx="7728120" cy="4345560"/>
        </p:xfrm>
        <a:graphic>
          <a:graphicData uri="http://schemas.openxmlformats.org/drawingml/2006/table">
            <a:tbl>
              <a:tblPr/>
              <a:tblGrid>
                <a:gridCol w="1926000"/>
                <a:gridCol w="2729520"/>
                <a:gridCol w="3072600"/>
              </a:tblGrid>
              <a:tr h="7171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r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ea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pes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440"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elps req elic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duces ri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tter and more stable final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Front hea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ossibly higher cost and sche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sallows later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ystems with novice users; or areas with requirement uncertain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eavy reporting based systems can benefit from UI proto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dt" idx="19"/>
          </p:nvPr>
        </p:nvSpPr>
        <p:spPr>
          <a:xfrm>
            <a:off x="6843240" y="610596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5021E6-8196-4C32-AD04-5B6BE2B344D6}" type="datetime2">
              <a:rPr b="0" lang="en-US" sz="1050" spc="-1" strike="noStrike">
                <a:solidFill>
                  <a:srgbClr val="8b8b8b"/>
                </a:solidFill>
                <a:latin typeface="Cambria"/>
              </a:rPr>
              <a:t>Wednesday, July 29, 2026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Num" idx="20"/>
          </p:nvPr>
        </p:nvSpPr>
        <p:spPr>
          <a:xfrm>
            <a:off x="6843240" y="3672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210C05-33C8-4463-B167-843121684CF5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2981880" y="523440"/>
            <a:ext cx="5441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ummary – Prototy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Group 3"/>
          <p:cNvGraphicFramePr/>
          <p:nvPr/>
        </p:nvGraphicFramePr>
        <p:xfrm>
          <a:off x="569880" y="1398240"/>
          <a:ext cx="8089200" cy="4707000"/>
        </p:xfrm>
        <a:graphic>
          <a:graphicData uri="http://schemas.openxmlformats.org/drawingml/2006/table">
            <a:tbl>
              <a:tblPr/>
              <a:tblGrid>
                <a:gridCol w="3259800"/>
                <a:gridCol w="2279160"/>
                <a:gridCol w="2549880"/>
              </a:tblGrid>
              <a:tr h="503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r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ea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pes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3360"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gular delive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an accommodate changes natur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llows user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voids requirement bl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aturally prioritizes requi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llows reasonable exit po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duces ri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verhead of planning each it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otal cost may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ystem arch and design may su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work may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For businesses where time is imp; risk of long projects cannot be taken; requirement not known and evolve with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PlaceHolder 1"/>
          <p:cNvSpPr>
            <a:spLocks noGrp="1"/>
          </p:cNvSpPr>
          <p:nvPr>
            <p:ph type="dt" idx="21"/>
          </p:nvPr>
        </p:nvSpPr>
        <p:spPr>
          <a:xfrm>
            <a:off x="6754320" y="62341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396A13-161B-4EA7-81FB-0BBD675BB816}" type="datetime2">
              <a:rPr b="0" lang="en-US" sz="1050" spc="-1" strike="noStrike">
                <a:solidFill>
                  <a:srgbClr val="8b8b8b"/>
                </a:solidFill>
                <a:latin typeface="Cambria"/>
              </a:rPr>
              <a:t>Wednesday, July 29, 2026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Num" idx="22"/>
          </p:nvPr>
        </p:nvSpPr>
        <p:spPr>
          <a:xfrm>
            <a:off x="6906960" y="53676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0331F2-B34D-47D7-86A1-9C0D44039031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2981880" y="523440"/>
            <a:ext cx="5441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ummary – Iter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Group 3"/>
          <p:cNvGraphicFramePr/>
          <p:nvPr/>
        </p:nvGraphicFramePr>
        <p:xfrm>
          <a:off x="668160" y="1956240"/>
          <a:ext cx="7351200" cy="4137120"/>
        </p:xfrm>
        <a:graphic>
          <a:graphicData uri="http://schemas.openxmlformats.org/drawingml/2006/table">
            <a:tbl>
              <a:tblPr/>
              <a:tblGrid>
                <a:gridCol w="2450520"/>
                <a:gridCol w="2450520"/>
                <a:gridCol w="2450520"/>
              </a:tblGrid>
              <a:tr h="4561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r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ea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pes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0"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ll benefits of it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lanning for iterations somewhat eas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ery short delivery ti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M becomes more compl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eam size is lar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licated – lapses can lead to lo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here very short delivery times are very 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here flexibility in grouping fea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rchitecture is s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PlaceHolder 1"/>
          <p:cNvSpPr>
            <a:spLocks noGrp="1"/>
          </p:cNvSpPr>
          <p:nvPr>
            <p:ph type="dt" idx="23"/>
          </p:nvPr>
        </p:nvSpPr>
        <p:spPr>
          <a:xfrm>
            <a:off x="6816960" y="616464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03614E-3B14-4928-BB78-AC592373488C}" type="datetime2">
              <a:rPr b="0" lang="en-US" sz="1050" spc="-1" strike="noStrike">
                <a:solidFill>
                  <a:srgbClr val="8b8b8b"/>
                </a:solidFill>
                <a:latin typeface="Cambria"/>
              </a:rPr>
              <a:t>Wednesday, July 29, 2026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Num" idx="24"/>
          </p:nvPr>
        </p:nvSpPr>
        <p:spPr>
          <a:xfrm>
            <a:off x="6816960" y="3340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E197C4-A67B-4873-BBF9-2D7C5FAC064B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"/>
          <p:cNvSpPr/>
          <p:nvPr/>
        </p:nvSpPr>
        <p:spPr>
          <a:xfrm>
            <a:off x="2981880" y="523440"/>
            <a:ext cx="5441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ummary – Time Box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28560" y="1842480"/>
            <a:ext cx="78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6520" indent="-236520" algn="just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TVX approach to specify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a phase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rol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09920" indent="-236520" algn="just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Entry criteria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: what conditions must be satisfied for initiating this phas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09920" indent="-236520" algn="just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Task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: defines a path that transforms the input to the required output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09920" indent="-236520" algn="just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Verification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: a procedure that enables the identification of defects before these defects are built into the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09920" indent="-236520" algn="just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eXit criteria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:  identifies the conditions that should be fulfilled to end the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6520" indent="-236520" algn="just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 phase also should produce information for manage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628560" y="1144080"/>
            <a:ext cx="6082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TVX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2571840" y="559440"/>
            <a:ext cx="545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Specification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14E0-0230-4687-8941-9706D15B3B8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4784D40-3838-4017-9277-58EBFB7FAEA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628560" y="1144080"/>
            <a:ext cx="6082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TVX Specific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2571840" y="559440"/>
            <a:ext cx="545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Specification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1"/>
          <a:stretch/>
        </p:blipFill>
        <p:spPr>
          <a:xfrm>
            <a:off x="709200" y="2376720"/>
            <a:ext cx="7725600" cy="305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1FBD-4D5B-45CA-B106-A64533513A21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3E451C2-C051-4B40-8916-4FD698815DE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28560" y="2125440"/>
            <a:ext cx="788652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Provide high quality &amp; productivity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Support </a:t>
            </a:r>
            <a:r>
              <a:rPr b="1" lang="en-US" sz="20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testability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as testing is the most expensive task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upport </a:t>
            </a:r>
            <a:r>
              <a:rPr b="1" lang="en-US" sz="20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maintainabilit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s maintenance can be more expensive than development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7F83-57D4-4C8C-B9F5-051A320BA31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442EC60-F347-42D4-BF56-40F572BCE8B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90320" y="1987920"/>
            <a:ext cx="8058960" cy="42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Cost of a defect increases with latency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.e. fixing a requirement defect in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operation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can cost a 100 times the cost of fixing it in from beginning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ence, for high quality &amp; productivity, the process must support early defect remova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at is why there is a V(verification) in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ETVX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and quality control tasks in the software proces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360360" y="1325880"/>
            <a:ext cx="673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High Q &amp; P: Early Defect Remo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2221200" y="58680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EE47-D981-4945-99E9-353D17FE2DC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E3CEEFD-BB9C-4B99-A75D-E7B6EF6098E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Vapor Trail">
  <a:themeElements>
    <a:clrScheme name="Vapor Trail">
      <a:dk1>
        <a:srgbClr val="000000"/>
      </a:dk1>
      <a:lt1>
        <a:srgbClr val="ffffff"/>
      </a:lt1>
      <a:dk2>
        <a:srgbClr val="454545"/>
      </a:dk2>
      <a:lt2>
        <a:srgbClr val="dadada"/>
      </a:lt2>
      <a:accent1>
        <a:srgbClr val="e5224e"/>
      </a:accent1>
      <a:accent2>
        <a:srgbClr val="9d074e"/>
      </a:accent2>
      <a:accent3>
        <a:srgbClr val="7f2294"/>
      </a:accent3>
      <a:accent4>
        <a:srgbClr val="8d65ea"/>
      </a:accent4>
      <a:accent5>
        <a:srgbClr val="588fe2"/>
      </a:accent5>
      <a:accent6>
        <a:srgbClr val="127ca4"/>
      </a:accent6>
      <a:hlink>
        <a:srgbClr val="fb4ab6"/>
      </a:hlink>
      <a:folHlink>
        <a:srgbClr val="f98fe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Vapor Trail">
  <a:themeElements>
    <a:clrScheme name="Vapor Trail">
      <a:dk1>
        <a:srgbClr val="000000"/>
      </a:dk1>
      <a:lt1>
        <a:srgbClr val="ffffff"/>
      </a:lt1>
      <a:dk2>
        <a:srgbClr val="454545"/>
      </a:dk2>
      <a:lt2>
        <a:srgbClr val="dadada"/>
      </a:lt2>
      <a:accent1>
        <a:srgbClr val="e5224e"/>
      </a:accent1>
      <a:accent2>
        <a:srgbClr val="9d074e"/>
      </a:accent2>
      <a:accent3>
        <a:srgbClr val="7f2294"/>
      </a:accent3>
      <a:accent4>
        <a:srgbClr val="8d65ea"/>
      </a:accent4>
      <a:accent5>
        <a:srgbClr val="588fe2"/>
      </a:accent5>
      <a:accent6>
        <a:srgbClr val="127ca4"/>
      </a:accent6>
      <a:hlink>
        <a:srgbClr val="fb4ab6"/>
      </a:hlink>
      <a:folHlink>
        <a:srgbClr val="f98fe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Vapor Trail">
  <a:themeElements>
    <a:clrScheme name="Vapor Trail">
      <a:dk1>
        <a:srgbClr val="000000"/>
      </a:dk1>
      <a:lt1>
        <a:srgbClr val="ffffff"/>
      </a:lt1>
      <a:dk2>
        <a:srgbClr val="454545"/>
      </a:dk2>
      <a:lt2>
        <a:srgbClr val="dadada"/>
      </a:lt2>
      <a:accent1>
        <a:srgbClr val="e5224e"/>
      </a:accent1>
      <a:accent2>
        <a:srgbClr val="9d074e"/>
      </a:accent2>
      <a:accent3>
        <a:srgbClr val="7f2294"/>
      </a:accent3>
      <a:accent4>
        <a:srgbClr val="8d65ea"/>
      </a:accent4>
      <a:accent5>
        <a:srgbClr val="588fe2"/>
      </a:accent5>
      <a:accent6>
        <a:srgbClr val="127ca4"/>
      </a:accent6>
      <a:hlink>
        <a:srgbClr val="fb4ab6"/>
      </a:hlink>
      <a:folHlink>
        <a:srgbClr val="f98fe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Vapor Trail">
  <a:themeElements>
    <a:clrScheme name="Vapor Trail">
      <a:dk1>
        <a:srgbClr val="000000"/>
      </a:dk1>
      <a:lt1>
        <a:srgbClr val="ffffff"/>
      </a:lt1>
      <a:dk2>
        <a:srgbClr val="454545"/>
      </a:dk2>
      <a:lt2>
        <a:srgbClr val="dadada"/>
      </a:lt2>
      <a:accent1>
        <a:srgbClr val="e5224e"/>
      </a:accent1>
      <a:accent2>
        <a:srgbClr val="9d074e"/>
      </a:accent2>
      <a:accent3>
        <a:srgbClr val="7f2294"/>
      </a:accent3>
      <a:accent4>
        <a:srgbClr val="8d65ea"/>
      </a:accent4>
      <a:accent5>
        <a:srgbClr val="588fe2"/>
      </a:accent5>
      <a:accent6>
        <a:srgbClr val="127ca4"/>
      </a:accent6>
      <a:hlink>
        <a:srgbClr val="fb4ab6"/>
      </a:hlink>
      <a:folHlink>
        <a:srgbClr val="f98fe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Vapor Trail</Template>
  <TotalTime>1507</TotalTime>
  <Application>LibreOffice/7.4.7.2$Linux_X86_64 LibreOffice_project/40$Build-2</Application>
  <AppVersion>15.0000</AppVersion>
  <Words>2811</Words>
  <Paragraphs>4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05:36:41Z</dcterms:created>
  <dc:creator>user</dc:creator>
  <dc:description/>
  <dc:language>en-US</dc:language>
  <cp:lastModifiedBy>user</cp:lastModifiedBy>
  <dcterms:modified xsi:type="dcterms:W3CDTF">2020-04-27T06:27:42Z</dcterms:modified>
  <cp:revision>219</cp:revision>
  <dc:subject/>
  <dc:title>Software Pro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5</vt:r8>
  </property>
</Properties>
</file>