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47D-DA7C-4AD0-8A86-B883E3D2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36C-0431-4FA1-A2B3-AAB86953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FB3-EE77-4E13-B058-67B62D11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BCD-AC32-42FE-8C2D-900A7356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1F0B-689F-4F71-A78B-DE9AAD5A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5E6B-1CB5-49E9-BAEC-B03296CC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F9A7-837F-41EE-96C9-B28EBC47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775A-F139-4116-ABF8-1818796F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D7E1-3439-4D86-B49A-D13F176A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39A9-D194-460A-AA91-522D9977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9442-582C-4281-9411-69D74A02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25C-BB25-442B-90DA-782A7DF1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FF02-EE2B-4CBF-BB59-144F4E9B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F6A7-F35D-4EC3-AAFF-E5013F6F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DC1B-F6DE-4E6C-9B03-C15B67F2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ADEE-2273-49AC-82B8-823860D8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ECB6-9CAB-480A-A1F8-2BE7267D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703E3-95E8-4EF2-98C7-3A63EC1E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2456-5C3E-408E-9829-90FA4CE1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E67A-AD3F-42E5-97D9-F71E89F3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6E48-886D-4BE7-B4FC-33AEA5C6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4A1F-8844-450C-BC5A-ACB21736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7BC-82E7-4B3C-B713-641FEA4C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FD5E-7AAC-4AC4-826A-8110A06C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666DE-8E8C-4FD9-A39F-FACE9FBD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4757-881D-430E-98A1-E3E52305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E98E-80C9-49F4-B549-F6008C33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FC9E7-745A-48B2-8FE0-6584C1F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326E-3690-4356-ACDA-29F262AA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5BB1-5603-4837-B7CF-2B5B437D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79C5-1592-49F9-BCC8-FC808EAC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01521-304E-4D3A-9CBF-07E19BBE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E7073-FA1C-430E-A041-BE177111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003-2936-4918-8D2F-0A97A173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9AC84-E799-4D79-A843-7B3C2AF2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47DA1-D4BE-41FE-9E97-077E5C63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541D2-2EEB-4AD1-9FFE-C1D52A29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8F0A0-624E-4C48-AA1F-594F692F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77618-A3E0-48C7-AFC0-7A62CADD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BCE3-274D-4F9E-AFAE-11B3E4D8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63984-844B-4C20-AF7A-19135DA3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C3CC6-761A-4D49-8804-F07F9C29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CA5FF-CB31-464D-A8D4-6146A635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F7323-ECD1-4EE8-AA09-0A2F9FD9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B91-E694-4BF8-8501-662EF7DE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88D0B-39F6-4A85-83A8-991006F6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370D9-CDFB-42E5-B1DF-3135DE7C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B160F-8317-49B6-83D3-E0806CB5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73AA6-6D92-4D68-AB95-50CE3E5B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AC2C-CA69-4DD2-91E0-A7798023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948D7-0831-4DF0-AB35-38B0C46E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95AAD-9289-4569-86B6-C8BC5C9A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74C1E-E5AD-4B75-9142-25B1259B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DB0B2-0204-4FF2-B497-9B2D2441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4FC96-26F0-496C-9ADA-FF3A4360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683-3E10-4174-8DBD-859EF439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A23FB-8188-4333-BA70-8782ED83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9B499-47B8-47D9-B8D8-B4F7AD4C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DBE31-962D-42FF-B273-F16FB7C3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C3136-A89D-4097-90CA-33632254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2658C-E95D-4CA3-B77E-35C1F6C7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83060-EA0D-4CCD-8027-E3A6BE14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8E46B-2184-480F-B681-928B4357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6D3AA-D317-42CE-B921-6386E555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1B8D9-E1CC-4672-B3CC-5591D93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12607-D1C0-4342-BAF7-AF17E949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E27-3199-4D23-A8CC-BF58496E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D9C0F-F316-483E-B033-D8A7AA43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BE7D0-8698-41D5-8963-7CC540EF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DADB1-E9EB-4C0B-8C85-15DD4508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03453-1094-4C84-B599-3E4DD453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DB664-F8E1-408E-ABCD-E3893F9F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AA957-CB99-4A2A-86AC-ABCBD9A2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F3C00-6D19-4288-B043-0CDCC305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D5BB9-DC8C-41CE-8FDA-6F3C2C76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8BDB7-1D9B-4C46-9B55-4E239C70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61B59-C5FD-4AEC-91F8-E152F4EC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F42-5F11-49A9-8B06-56C26EC5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4BE79-2813-43DA-ACA6-20642281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5CF39-60C6-4EED-96EC-6F871FC1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DB58C-B9EE-458E-B227-F9DEAB92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FD484-F147-4142-8211-31BC5EE7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766F6-9233-4710-B202-B08FB25E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7AD-E476-487A-BBB0-B0B8EACF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C1B4E-B312-4A62-BD09-8127BFA6605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B05D8-A4F4-4109-A3DC-2521F1ED248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DAA43-7954-438D-939A-B3969C2FA5F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040F7-28E0-402E-8ADB-4A200A04794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A1C4E-4D67-4978-B6F2-E6171E71598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6380F-A5E6-4EDD-B76F-13F5E9B762D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4C5B8-947C-412F-9573-5F6D842E46F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B881B-0216-4413-9909-6556852CCD2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C927F-B045-4618-A8EB-DBEEA663EC0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2949D-5CCE-43C5-9487-E889D0625D7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6F9C0-8047-4427-B3A8-7851EF3BEA8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8CFF5-536E-46B4-9A07-6D3446F442D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C7C25-7C73-4F81-90A5-41DC11C21AC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1F246-B19F-4109-AF20-091D140B381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ubtitle 2"/>
          <p:cNvSpPr/>
          <p:nvPr/>
        </p:nvSpPr>
        <p:spPr>
          <a:xfrm>
            <a:off x="1981080" y="3935520"/>
            <a:ext cx="5037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100" spc="-1" strike="noStrike">
                <a:solidFill>
                  <a:srgbClr val="00b050"/>
                </a:solidFill>
                <a:latin typeface="Cambria"/>
                <a:ea typeface="MS PGothic"/>
              </a:rPr>
              <a:t>Software Engineering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Date Placeholder 5"/>
          <p:cNvSpPr/>
          <p:nvPr/>
        </p:nvSpPr>
        <p:spPr>
          <a:xfrm>
            <a:off x="4343400" y="6454800"/>
            <a:ext cx="37242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D50D6-8738-4FC7-AB36-2E35DEFFC6F2}" type="datetime2">
              <a:rPr b="1" lang="en-US" sz="2400" spc="-1" strike="noStrike">
                <a:solidFill>
                  <a:srgbClr val="ff0000"/>
                </a:solidFill>
                <a:latin typeface="Cambria"/>
                <a:ea typeface="MS PGothic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2037600" y="1550880"/>
            <a:ext cx="43412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Cambria"/>
                <a:ea typeface="MS PGothic"/>
              </a:rPr>
              <a:t>Software Architectu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BB3BF-9915-4992-9096-330F36DFD83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04920" y="1600200"/>
            <a:ext cx="85341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ny types of views have been proposed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ost belong to one of these three types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mponent and Connector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llocation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different views are not unrelated – they all represent the same system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re are relationships between elements of different views; this relation may be complex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89055-A9AF-4B98-8BD1-13DB9F95676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213372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al View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4A2FE-CC3A-49BD-B04C-22FD084932F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04920" y="1752120"/>
            <a:ext cx="853416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ystem is a collection of code units i.e. they do not represent runtime entiti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elements are modules, e.g. class, package, function, procedure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lationship between them is code based, e.g. part of, depends on, calls, generalization-specialization, ..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5B11D-87D9-437D-8342-90255B5E30C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"/>
          <p:cNvSpPr/>
          <p:nvPr/>
        </p:nvSpPr>
        <p:spPr>
          <a:xfrm>
            <a:off x="213372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al View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FF0B0-CD66-42C1-A2AC-480B057A86D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304920" y="126036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Module Vie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04920" y="2133720"/>
            <a:ext cx="853416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lements are run time entities called compon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a component is a unit that has identity in executing system, e.g. objects, processes, .ex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nectors provide means of interaction between components, e.g. pipes, shared memory, socke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13AD6-BE3B-4954-966D-4AF1BA32076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1"/>
          <p:cNvSpPr/>
          <p:nvPr/>
        </p:nvSpPr>
        <p:spPr>
          <a:xfrm>
            <a:off x="213372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al View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AC35F-B846-49F8-B801-E534B2122D1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04920" y="13906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Component and Connector (C &amp; C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2133720"/>
            <a:ext cx="853416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cuses on how software units are allocated to resources like hardware, file system, peop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specifies relationship between software elements and execution units in the environm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xpose structural properties like which process runs on which processor, which file resides where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39A39-3259-4387-9DD7-FF3034D3540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213372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al View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5034D-4300-4843-8FF3-20F86691E57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304920" y="126036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Allocation 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04920" y="1600200"/>
            <a:ext cx="85341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n architectural description consists of views of different types, each showing a different structur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ifferent systems need different types of views depending on the need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 for performance analysis, allocation view is necessary; for planning, module view help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C&amp;C view is almost always done, and has become the primary view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e focus primarily on the C&amp;C view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odule view is covered in high level design, whose focus is on identifying module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A888F-33D4-4B96-B366-9C535EC8A06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1"/>
          <p:cNvSpPr/>
          <p:nvPr/>
        </p:nvSpPr>
        <p:spPr>
          <a:xfrm>
            <a:off x="213372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al View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7A035-20F1-4166-8E39-5BAB911A0B2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920" y="1600200"/>
            <a:ext cx="85341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main elements – components and connecto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onents: Computational elements or data stor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nectors: Means of interaction between componen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 &amp; C view defines the components, and which components are connected through which connect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C &amp; C view describes a runtime structure of the system – what components exist at runtime and how they interact during execu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is a graph; often shown as a box-and-line drawing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ost commonly used structur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ED98F-B797-4D36-886A-EA747B77DDA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1981080" y="7621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412BB-B3B4-4C75-8CD9-33C198A253F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228600" y="2209320"/>
            <a:ext cx="876312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nits of computations or data stor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s a name, which represents its role and provides it ident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omponent may have a type; different types represented by different symbols in C &amp; C view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onents use ports (or interfaces) to communicate with oth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architecture can use any symbols to represent components; some common ones are show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081E2-C7C9-417C-81D6-013301C4E3B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9C480-F9F2-4810-A078-74BB2DD747D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7D343-03DE-4BC0-A0CA-9C2231CD533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94F89-E54B-4234-8613-7C64D7A676D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6" name="Picture 5" descr="Fig4-2"/>
          <p:cNvPicPr/>
          <p:nvPr/>
        </p:nvPicPr>
        <p:blipFill>
          <a:blip r:embed="rId1"/>
          <a:stretch/>
        </p:blipFill>
        <p:spPr>
          <a:xfrm>
            <a:off x="3724200" y="1816200"/>
            <a:ext cx="3522600" cy="45403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"/>
          <p:cNvSpPr/>
          <p:nvPr/>
        </p:nvSpPr>
        <p:spPr>
          <a:xfrm>
            <a:off x="301680" y="2286000"/>
            <a:ext cx="29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Sample Component 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mponent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600" y="208404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teraction between components happen through connecto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onnector may be provided by the runtime environment, e.g. procedure cal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ut there may be complex mechanisms for interaction, e.g. http, tcp/ip, ports, …; a lot of software needed to support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04B2A-F6E5-4F0D-B28B-62974D72D29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D2BD9-AB1E-4124-8241-2168B2AE36E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2209320"/>
            <a:ext cx="853416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nectors need not be binary, e.g. a broadcast bu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nector has a name (and a type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ten connectors represented as protocol – i.e. components need to follow some conventions when using the connect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st to use different notation for different types of connectors; all connectors should not be shown by simple lin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BE699-F5C6-40EC-B2FA-F478A34B926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BCC72-8154-4D0E-9684-3E5A4F5C0F3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09480" y="1752120"/>
            <a:ext cx="794088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y complex system is composed of sub-systems that interact each oth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ile designing systems, an approach is used to identify sub-systems and how they interact with each oth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ftware architecture tries to do this for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 recent area with a lot of interest in 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D1BD8-BB5E-457E-9B5D-7C5C9731059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2743200" y="762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Backgrou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4D272-8C14-40CB-B452-9E76BED59F9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78553-2D89-4A5C-84CE-469BA2C7D3E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D2051-CA8F-4B9C-B490-9FFD42AB883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101520" y="214488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 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5" descr="Fig4-3"/>
          <p:cNvPicPr/>
          <p:nvPr/>
        </p:nvPicPr>
        <p:blipFill>
          <a:blip r:embed="rId1"/>
          <a:stretch/>
        </p:blipFill>
        <p:spPr>
          <a:xfrm>
            <a:off x="3124080" y="2241720"/>
            <a:ext cx="4896000" cy="41148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920" y="2087280"/>
            <a:ext cx="8534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sign a system for taking online survey of students on campu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ultiple choice questions can be provided for students to be submitted onlin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en a student submits, current result of the survey is show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best to build using web; a 3-tier architecture is propo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as a client, server, and a database components (each of a different type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nnector between them are also of different typ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6C0F8-6B46-4860-A99E-54DF3B4A7FC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A5144-8BF2-4D18-9937-A209CD5F0E3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304920" y="15955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1"/>
          <p:cNvSpPr/>
          <p:nvPr/>
        </p:nvSpPr>
        <p:spPr>
          <a:xfrm>
            <a:off x="304920" y="1041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2438280" y="62064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E0F75-D94F-41F9-B989-897B5CE8372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1499B-0210-4552-83E2-45B0F09486B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1"/>
          <p:cNvSpPr/>
          <p:nvPr/>
        </p:nvSpPr>
        <p:spPr>
          <a:xfrm>
            <a:off x="272880" y="210024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0" name="Picture 5" descr="Fig4-4"/>
          <p:cNvPicPr/>
          <p:nvPr/>
        </p:nvPicPr>
        <p:blipFill>
          <a:blip r:embed="rId1"/>
          <a:stretch/>
        </p:blipFill>
        <p:spPr>
          <a:xfrm>
            <a:off x="822240" y="3133800"/>
            <a:ext cx="7543800" cy="14475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04920" y="2895480"/>
            <a:ext cx="8534160" cy="34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 architecture level, details are not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connectors are explicitly stated, which implies that the infrastructure should provide http, browser, et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choice of connectors imposes constraints on how the components are finally designed and buil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60F93-221F-4BFD-B4F3-81AFBF68AD3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A6F58-D363-4616-9F70-1E9D6802FF2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272880" y="210024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04920" y="2486160"/>
            <a:ext cx="8534160" cy="39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arch has no security – anyone can take the surve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want that only registered students can take the survey (at most once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identify students and check for one-only submission, we need an authentication serv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need to use cookies, and server has to be built accordingly (the connector between server and authentication server is http with cookie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1F505-968A-4592-B4B4-370441FEECF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DFD53-93A1-40A9-A2FC-B00F266DA2E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304920" y="19620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tension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1C4A6-36F3-4FD4-8F04-11D7B40B98A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17600-3207-4F33-AEB4-0928C2E218F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1"/>
          <p:cNvSpPr/>
          <p:nvPr/>
        </p:nvSpPr>
        <p:spPr>
          <a:xfrm>
            <a:off x="290520" y="199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tension 1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Picture 5" descr="Fig4-5"/>
          <p:cNvPicPr/>
          <p:nvPr/>
        </p:nvPicPr>
        <p:blipFill>
          <a:blip r:embed="rId1"/>
          <a:stretch/>
        </p:blipFill>
        <p:spPr>
          <a:xfrm>
            <a:off x="762120" y="2701800"/>
            <a:ext cx="7543800" cy="3654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2819160"/>
            <a:ext cx="853416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was found that DB is frequently dow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improving reliability, we want that if DB is down, student is given an older survey result and survey data stor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survey data given can be outdated by at most 5 survey data poi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this, will add a cache component, which will store data as well as resul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AEF51-5690-438D-A449-684E333E54C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A8F3D-6399-4B13-86F2-08641545B73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304920" y="2144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tension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40E07-FDB9-4338-916C-88EF11B13C3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7A608-6721-469A-8F71-BF08DBAD16A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Picture 5" descr="Fig4-6"/>
          <p:cNvPicPr/>
          <p:nvPr/>
        </p:nvPicPr>
        <p:blipFill>
          <a:blip r:embed="rId1"/>
          <a:stretch/>
        </p:blipFill>
        <p:spPr>
          <a:xfrm>
            <a:off x="1266840" y="2220840"/>
            <a:ext cx="6294600" cy="411480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1"/>
          <p:cNvSpPr/>
          <p:nvPr/>
        </p:nvSpPr>
        <p:spPr>
          <a:xfrm>
            <a:off x="304920" y="20797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tension 2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04920" y="3352680"/>
            <a:ext cx="8534160" cy="30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first change increased security while the second increased performance and reliabil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architecture level choices have a big impact on system properti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at is why, choosing a suitable architecture can help to build a good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631AD-CCB8-4FA6-ADD0-4A43182D32F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C4BE8-F1C2-4617-8770-636DE339038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1"/>
          <p:cNvSpPr/>
          <p:nvPr/>
        </p:nvSpPr>
        <p:spPr>
          <a:xfrm>
            <a:off x="304920" y="260676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ampl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304920" y="20797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tension 2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04920" y="2057400"/>
            <a:ext cx="8534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fferent systems have different C &amp; C structu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structures are general and are useful for a class of problems – architectural styl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architectural style defines a family of architectures that satisfy the constraint of that sty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yles can provide ideas for creating architecture for a system; they can also be combin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discuss a few common styles nex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BD431-8630-4B91-8EEF-B59A249304E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1"/>
          <p:cNvSpPr/>
          <p:nvPr/>
        </p:nvSpPr>
        <p:spPr>
          <a:xfrm>
            <a:off x="1981080" y="762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3BE37-421C-41EA-82D3-560BED429A6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09120" y="1371240"/>
            <a:ext cx="80773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is the system design at the highest leve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hoices about technologies, products to use, servers, etc. are made at architecture leve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must be created accommodating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the earliest place when properties like reliability/ performance can be evalua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301AA-5831-42DB-BB08-5B5A2B9AF72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3017880" y="5889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Background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DC786-3910-4C9D-A1A5-F4617263C8A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04920" y="2057400"/>
            <a:ext cx="8534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ll suited for systems that mainly do data transforma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ystem using this style uses a network of transforms to achieve the desired resul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s one component type – filt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s one connector type – pip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filter does some transformation and passes data to other filters through pip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79242-715E-454F-80DA-382732B6C80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F7B86-0C96-48FC-836E-FE7AAD58980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Pipe and Fil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04920" y="2514600"/>
            <a:ext cx="85341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ystem needed to count the frequency of different words in a fi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ne approach: first split the file into a sequence of words, sort them, then count the number of occurrenc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architecture of this system can naturally use the pipe and filter sty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BCD88-A2B0-4F2D-A47A-14A685CA934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59045-7C5C-4B58-A3A3-22046765793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Pipe and Filter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1"/>
          <p:cNvSpPr/>
          <p:nvPr/>
        </p:nvSpPr>
        <p:spPr>
          <a:xfrm>
            <a:off x="304920" y="206676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B522E-CA2C-4A08-A89A-66207E0B5B4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AE079-DBAB-403E-B456-E4A98FEAB88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330120" y="1420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Pipe and Filter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"/>
          <p:cNvSpPr/>
          <p:nvPr/>
        </p:nvSpPr>
        <p:spPr>
          <a:xfrm>
            <a:off x="330120" y="22320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ampl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0" name="Picture 5" descr="Fig4-7"/>
          <p:cNvPicPr/>
          <p:nvPr/>
        </p:nvPicPr>
        <p:blipFill>
          <a:blip r:embed="rId1"/>
          <a:stretch/>
        </p:blipFill>
        <p:spPr>
          <a:xfrm>
            <a:off x="685800" y="3567240"/>
            <a:ext cx="7772400" cy="1919160"/>
          </a:xfrm>
          <a:prstGeom prst="rect">
            <a:avLst/>
          </a:prstGeom>
          <a:ln w="0">
            <a:noFill/>
          </a:ln>
        </p:spPr>
      </p:pic>
      <p:sp>
        <p:nvSpPr>
          <p:cNvPr id="49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04920" y="2361960"/>
            <a:ext cx="85341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component types – data repository and data access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ata repository – provides reliable permanent storag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ata accessors – access data in repositories, perform computations, and may put the results back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munication between data accessors is only through the repositor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5F51E-8CD2-4973-A3DF-B6C46D43D76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0F487-0906-4827-A6FC-560B001D2EB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Shared Data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04920" y="2754360"/>
            <a:ext cx="853416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tudent registration system of a univers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pository contains all the data about students, courses, schedules,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ccessors like admin, approvals, registration, reports which perform operations on the data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7518C-468A-4173-BD9B-E740A15558E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B5868-0E19-4233-BAED-A6C2B07A76A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Shared Data Styl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331920" y="202104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EA9AA-285F-46CE-AF17-2F8DEF5484C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E272D-F47C-46F6-A08D-BAEF0665A7B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Shared Data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9" name="Picture 5" descr="Fig4-8"/>
          <p:cNvPicPr/>
          <p:nvPr/>
        </p:nvPicPr>
        <p:blipFill>
          <a:blip r:embed="rId1"/>
          <a:stretch/>
        </p:blipFill>
        <p:spPr>
          <a:xfrm>
            <a:off x="922320" y="2438280"/>
            <a:ext cx="7299360" cy="4023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"/>
          <p:cNvSpPr/>
          <p:nvPr/>
        </p:nvSpPr>
        <p:spPr>
          <a:xfrm>
            <a:off x="331920" y="202104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Exampl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04920" y="2754360"/>
            <a:ext cx="853416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onents do not directly communicate with each oth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sy to extend – if a scheduler is needed, it is added as a new access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No existing component needs to be chang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nly one connector style, a read/write, can be used for this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E5492-AB2A-4D93-84C9-58760936038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75BE6-6DDC-4861-BF51-DC258B33DAB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Shared Data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1"/>
          <p:cNvSpPr/>
          <p:nvPr/>
        </p:nvSpPr>
        <p:spPr>
          <a:xfrm>
            <a:off x="331920" y="202104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Exampl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04920" y="1942920"/>
            <a:ext cx="8534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component types – clients and serv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ents can only communicate with the server, but not with other cli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munication is initiated by a client which sends request and the server respond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ne connector type – request/reply, which is asymmetri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ten the client and the servers reside on different machine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E45B8-5056-4600-8AD0-DA1D86B8882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03B0C-7A47-448D-8A71-FEAB4E00707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lient Server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04920" y="2015640"/>
            <a:ext cx="853416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general form of this style is the n-tier structu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3-tier structure is commonly used by many application and web sys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ent-tier contains the client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iddle-tier contains the business rul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atabase tier has the informatio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4B677-1028-4D1A-83A9-F45D909ED66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52924-4D09-4732-AAF9-41DF3C906CA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lient Server Styl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impacts non-functional attributes like modifiability, performance, reliability, portability, et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tributes like usability etc. are not impacte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plays a much bigger impact on these than later decis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, we should evaluate a proposed arch for these properti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Q: How should this evaluation be done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AM analysis method is one from many different ways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6FC2A-A06A-4984-95F0-5FBD8EB7FFB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D9567-FF1A-4580-898C-66E65F51AB8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finition: software architecture is the structure which comprises of elements, their externally visible properties, and relationships among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tails on how the properties are supported is not important for architectu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definition does not say anything about whether an architecture is good or not – analysis needed for 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architectural description describes the different structures of th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C7A83-D880-406F-B968-B0059275B59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3462480" y="403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642AD-F4E5-41A7-81DA-0AD5CD25306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alyzes some properties and tradeoffs between them; main step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llect scenario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llect requirements or constrai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scribe architectural view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tribute-specific analysi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dentify sensitivity and tradeoff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B7F0D-658A-460C-BC75-789DF1574DB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1"/>
          <p:cNvSpPr/>
          <p:nvPr/>
        </p:nvSpPr>
        <p:spPr>
          <a:xfrm>
            <a:off x="304920" y="1295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5AAB9-8C1B-4B66-8643-DBBF57E8D0F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Rectangle 1"/>
          <p:cNvSpPr/>
          <p:nvPr/>
        </p:nvSpPr>
        <p:spPr>
          <a:xfrm>
            <a:off x="2209680" y="63648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15228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llect Scenario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cenarios describe interaction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r analysis we should pick key scenarios of interest for which analysis will be done; important exception scenarios should be includ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llect requirements or constrain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efine what is expected from the system in these scenario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should specify the desired levels for the attributes of interes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D1F60-FFCB-4F49-B1BD-3FC068E2F52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1"/>
          <p:cNvSpPr/>
          <p:nvPr/>
        </p:nvSpPr>
        <p:spPr>
          <a:xfrm>
            <a:off x="157320" y="1015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A4EE4-8D18-4AE9-9A65-00A30510102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52280" y="14479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escribe architectural view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views of the system that will be evaluated are collected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fferent views may be needed for different types of analyses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ttribute specific analysi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views under diff scenarios are analyzed for diff quality attributes separately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ovides levels that the architecture can provide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ecomes basis of selecting architecture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ny modeling or technique can be used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dentify sensitivities and tradeoff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radeoff analysi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F6C5C-4ED0-4A2A-96D6-C69A9EFAD37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157320" y="1015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2D83A-D307-4F9D-BCC7-56D87529969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152280" y="22860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student-survey system, the architecture with the cach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analysis, we add the cache between the database and serv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fferent from having a separate cach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E63B2-4EDB-4EDD-9FC3-C9749C5A1EA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Rectangle 1"/>
          <p:cNvSpPr/>
          <p:nvPr/>
        </p:nvSpPr>
        <p:spPr>
          <a:xfrm>
            <a:off x="380880" y="10731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D545F-E790-4106-B84E-02AB5D2F945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1"/>
          <p:cNvSpPr/>
          <p:nvPr/>
        </p:nvSpPr>
        <p:spPr>
          <a:xfrm>
            <a:off x="380880" y="16113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634BF-7BAA-4DD7-846B-294A1D3DD7C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Rectangle 1"/>
          <p:cNvSpPr/>
          <p:nvPr/>
        </p:nvSpPr>
        <p:spPr>
          <a:xfrm>
            <a:off x="380880" y="10731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E6C83-C893-41F3-9183-13FBC6844FA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Rectangle 1"/>
          <p:cNvSpPr/>
          <p:nvPr/>
        </p:nvSpPr>
        <p:spPr>
          <a:xfrm>
            <a:off x="380880" y="16113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7" name="Picture 5" descr="Fig4-12"/>
          <p:cNvPicPr/>
          <p:nvPr/>
        </p:nvPicPr>
        <p:blipFill>
          <a:blip r:embed="rId1"/>
          <a:stretch/>
        </p:blipFill>
        <p:spPr>
          <a:xfrm>
            <a:off x="685800" y="2668680"/>
            <a:ext cx="77724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0880" y="22860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1: A student submits the survey form and gets current results (normal scenario; all servers are up, load normal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2: A student tries to take the survey many tim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3: The database server is temporarily dow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4: The network/system is highly load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C30F6-133A-466C-AEAD-2DAC4EF2223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1"/>
          <p:cNvSpPr/>
          <p:nvPr/>
        </p:nvSpPr>
        <p:spPr>
          <a:xfrm>
            <a:off x="380880" y="10731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AA551-7375-4093-B37D-FC782C54FFB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380880" y="16113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 - scenarios of inte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228600" y="2098800"/>
            <a:ext cx="86868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urity: a student should be allowed to take the survey at most onc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sponse Time: a student should get a response time of less than 2 sec on an average, 80\% of the tim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vailability: the system should at least have availability of 0.85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ata Currency: the survey result given to a student should not be older than 5 submissions befo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311AE-E914-455A-9506-B532BFB4700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1"/>
          <p:cNvSpPr/>
          <p:nvPr/>
        </p:nvSpPr>
        <p:spPr>
          <a:xfrm>
            <a:off x="380880" y="10731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886B4-87F7-40A8-9D5C-848729F88EB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Rectangle 1"/>
          <p:cNvSpPr/>
          <p:nvPr/>
        </p:nvSpPr>
        <p:spPr>
          <a:xfrm>
            <a:off x="380880" y="1585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 - System requirements or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228600" y="2098800"/>
            <a:ext cx="86868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will consider each attribute and study each architecture under scenarios where it is releva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security and data currency – subjective evaluation based on understand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availability and response time – simple model based analysis don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0F65E-6A65-4296-809A-6300E2439A0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Rectangle 1"/>
          <p:cNvSpPr/>
          <p:nvPr/>
        </p:nvSpPr>
        <p:spPr>
          <a:xfrm>
            <a:off x="380880" y="10731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63F39-81E7-48FA-A40F-FC6F58FA77C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Rectangle 1"/>
          <p:cNvSpPr/>
          <p:nvPr/>
        </p:nvSpPr>
        <p:spPr>
          <a:xfrm>
            <a:off x="380880" y="1585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 -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80520" y="1447920"/>
            <a:ext cx="8169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of a software system is its structures comprising of elements, their external properties, and relationship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is a high level desig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ree main view types – module, component and connector, and alloc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onent and connector (C&amp;C) view is most commonly u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875E2-459F-414A-9F03-07670C27152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3553D-A983-43D3-A54E-19847B36096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Rectangle 1"/>
          <p:cNvSpPr/>
          <p:nvPr/>
        </p:nvSpPr>
        <p:spPr>
          <a:xfrm>
            <a:off x="2971800" y="6332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80520" y="1447920"/>
            <a:ext cx="8169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some C&amp;C styles that are commonly used, e.g. pipe-and-filter, shared data, client server,...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architectural description should document the different views and their relationship – views can be combin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ationale and other supporting information should also be captur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487C8-B6D3-4483-8554-49DA3035F1B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55206-C7E7-4938-B909-C8C04A3291D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Rectangle 1"/>
          <p:cNvSpPr/>
          <p:nvPr/>
        </p:nvSpPr>
        <p:spPr>
          <a:xfrm>
            <a:off x="2971800" y="6332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Summary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04920" y="1851120"/>
            <a:ext cx="85341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y showing a system at a high level and hiding complexity of parts, architectural description facilitates communic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lps to get a common understanding between the different stakeholders (users, clients, architect, designer, …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r negotiation and agree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al description can also aid in understanding of existing system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4EE29-24B6-4C1C-BCC0-9DB68E30FFF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1295280" y="758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Key Uses of Architectural Descri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A1E57-C059-49B1-BF31-04672AEF786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304920" y="126036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Understanding and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0520" y="1447920"/>
            <a:ext cx="8169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can be analyzed for various non-functional attributes like performance, reliability, security, et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AM is one approach for analyzing architectures, which evaluates attributes of interest under different scenario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30F92-DCA0-4955-A6C9-9D47CB78DB9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2DC38-16FE-4549-97EF-3D2929097F2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1"/>
          <p:cNvSpPr/>
          <p:nvPr/>
        </p:nvSpPr>
        <p:spPr>
          <a:xfrm>
            <a:off x="2971800" y="6332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Summary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920" y="1508040"/>
            <a:ext cx="85341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method of reuse is to compose systems from parts and reuse existing par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model is facilitated by reusing components at a high level providing complete servic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reuse existing components, arch must be chosen such that these components fit together with other compon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, decision about using existing components is made at architecture design tim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21CC6-F3FD-4D3C-8EE5-A8CBF542571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213372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Key Uses of Arch Description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1AB92-F2BC-4C8D-9F8C-00A5B323FF7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04920" y="9446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Reu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04560" y="1838160"/>
            <a:ext cx="84582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Some structures in architectural description will be used to guide system development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Partitioning at architectural level can also be used for work allocation to teams as parts are relatively independent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During software evolution, architecture helps to decide what needs to be changed to incorporate the new changes/ feature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Architectural description can help  to decide what is the impact of changes to existing components on other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49AD3-DF55-473C-A1E5-EC04F44A4DD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2286000" y="665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Key Uses of Arch Description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A2E17-D959-4C31-AF23-ACF8C187D3C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04920" y="126036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Construction and Evolu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1599840"/>
            <a:ext cx="861048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properties like performance, reliability can be determined from design, alternatives can be considered during design to reach the desired performance leve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ftware architecture opens such possibilities for software (other engineering disciplines usually can do this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.g. reliability and performance of a system can be predicted from its architecture, if estimates for parameters like load etc. is provid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7787E-36E9-4D05-87BF-3F1C6CF9D0B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2362320" y="6364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Key Uses of Arch Description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A3319-5A16-43B0-894E-7EAAA2619E6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566640" y="971640"/>
            <a:ext cx="25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Analy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04920" y="1279440"/>
            <a:ext cx="853416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is no unique architecture of a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different views of a softwar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view consists of elements and relationships between them, and describes a structu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elements of a view depends on what the view wants to highligh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fferent views expose different properti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view focusing on some aspects reduces its complex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C1130-77F7-452B-A722-3E7D81CCC03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2209680" y="69516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al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29479-DE18-4306-8B54-D08B4F4EFA8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04:53:24Z</dcterms:created>
  <dc:creator>Raju</dc:creator>
  <dc:description/>
  <dc:language>en-US</dc:language>
  <cp:lastModifiedBy>user</cp:lastModifiedBy>
  <dcterms:modified xsi:type="dcterms:W3CDTF">2020-04-27T05:59:26Z</dcterms:modified>
  <cp:revision>109</cp:revision>
  <dc:subject/>
  <dc:title>Introduction</dc:title>
</cp:coreProperties>
</file>