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96E3-7FCB-4F0D-BD8B-2E7C0EE9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B933-48D3-4D53-B8E6-352237E7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74B1-2E34-4105-9953-28BEE9A2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B4EB-BC7F-455B-8912-6C53CA2B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3375-726A-4DB8-ADE9-CD7224E33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649C-8FE0-404B-BB4C-5D19D660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88A7-6A17-453C-8A9B-410C223E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6C57-C0AA-44CC-AE0A-05559BA5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CAC0-654B-4C43-98CD-D793C746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DCBE-E30B-421A-8C3F-D6F085B1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E24D-886D-4344-B35E-783C2971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D212-4E35-49D1-A60E-7250313B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03EC-FBED-40E4-90C7-34D1C9F8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72B9-D0AA-4011-B10B-FB0FC4A5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4543-FC90-4DE6-ACFD-7B590D58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8E99-1861-4BD5-AFD6-AF73B2FF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44F9-5FB2-4A75-81E4-3673C9A44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89D70-DF72-4A59-AD77-22A1E5C5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D92FE-82F8-469B-BA57-ABB7385D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1C00F-FBAD-4C89-8634-D1A3BB75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A4F30-8B7D-4FAA-8187-3E11F675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A6FBF-D737-40DB-8074-EF4452CD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081B-237C-457A-8704-628D92D7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632B2-2B23-4ECB-94A1-549DC009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EA6A8-ECD0-457C-B017-929E1867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B740C-545F-40D6-9EC8-AAB75FD7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61459-9206-49FE-9338-DF47584A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B81F5-0335-4A25-BA89-79934E0F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8EDFE-FED2-4B24-B70A-347AA908A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F576D-B2A8-479E-BE24-550A7E527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19930-7C37-4BF6-A3E8-2714773A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9879B-BF2D-48FA-992D-6335C339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523E7-4A91-4224-BF65-B8368917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87B4-5092-4B73-BAD9-548F5DCB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79369-2EDA-4A48-A1D6-E6209B23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A881E-F8AA-4981-B4FC-7D085486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D1F13-180D-4263-B4C6-9ADE6615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3276D-B21C-4A42-B830-9341795C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E4F83-A17A-4746-A561-78E0AAA5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64EC9-F080-4EE4-87FF-4B7DBBCA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44FF7-2505-4668-A031-D7E8F0ED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4C4B2-02F8-4BF5-81EF-3881DE913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ED56F-0141-468F-BEAD-DD137037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5F218-82CB-4794-9EBB-DF9A7960D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A71B-6123-4362-9DD9-F0D8D0D7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8A84A-63DB-494E-A613-9D22F4FC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65C0F-50E3-47CE-8AA9-325F09BE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C1EF5-8F95-4312-97DB-7912E146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68632-8A24-4C2E-9E6A-D0CB33A3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B4FC4-E15D-4189-9B19-30AC2E4E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7B520-0AE8-48F4-A58C-EC33B4E2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EFA11-3912-4714-BCB2-48A17AF7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473F4-141F-4CE6-8BB9-787CAD30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389F2-F229-42BE-8F46-5C273A21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4927F-FE1D-4BD5-998B-CE7B9C592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54A6-B8D3-49DF-9382-12CAD1A9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EE94A-AD36-46F4-9FB8-C005F8EDD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6DE82-61AD-48D5-98AB-9351E7BE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EFF34-9E2F-43D9-A023-EC8A1676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6A538-5064-43FB-BFD5-BACF05A1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EDEBA-9FE5-4655-9C2D-90C540D4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5AFCD-8167-4329-B3BE-051BA5DB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9CD26-7068-44B3-9739-92DD7352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D1CE6-DF4A-47F7-9A80-C9C5D326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53A45-A307-4F6E-B198-1820DC4B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5A19F-BBB8-472A-83DB-EC866138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BCB8-B5CC-482D-A09F-10A79E76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14EE1-D8AF-4D74-858B-A7411B46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C1710-AC1D-42CD-9213-C7BB1B565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53BCB-12A0-4357-BD6F-F3AC9169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75F10-8E90-430B-83D2-9FC36E47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32027-649B-487F-86A5-1EAE11A5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B1806-1487-409F-9A67-099FFA19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3CC89-374A-411D-BE85-C32C3EBF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0E2E4-777E-4496-90D9-BEBC4402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F4E94-EA3F-488D-997A-72F8670E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4A723-4570-42C6-822F-6738A593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DDB0-0D9F-406A-9769-57487025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48449-7185-461F-91EB-428E190A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DE777-EF33-423A-AF1D-3BE3EBDE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100DF-1658-4EE1-B792-4DB79999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020A1-15FF-4166-A417-D7E87FE96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417E5-6843-4EA6-988D-5E5A7D75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8AD9-CD40-40F2-8643-31F961C1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2368C-80AC-43BD-8D40-CA31AF0D219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29E3CF-E839-475A-B0C0-C141B9E26D6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C2-HD-BTM.png"/>
          <p:cNvPicPr/>
          <p:nvPr/>
        </p:nvPicPr>
        <p:blipFill>
          <a:blip r:embed="rId3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932080" y="4324320"/>
            <a:ext cx="229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E6E93E-75C2-452D-B108-AF0AC080EFAB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040" y="4324320"/>
            <a:ext cx="487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058080" y="143028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0294C3-9133-4B91-95A5-E929EF9C7A00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A9B2F7-2EDA-4800-810A-8D9CB650E568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FF6688-5476-48F7-903D-8C9851F2A3E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A831AE-5CAF-422C-9076-CD4B62EF9B99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77A1FC-8119-4372-AFB6-73A95853C972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231840" y="80820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mbria"/>
                <a:ea typeface="MS PGothic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8147160" y="3021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mbria"/>
                <a:ea typeface="MS PGothic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976C2B-24CC-41E5-9BF5-6266DF7D26BD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7112EC-14D2-4F68-A3DD-282D9A7FE78F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556236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458162-A535-4211-BFBD-CB88C7DC440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93A00C-AA39-4874-A727-826C7B69BB29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5BF044-28FB-428C-A567-60FD04C4F6D3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7227F8-2E2E-4EC0-9A74-3A97CA899191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ubtitle 2"/>
          <p:cNvSpPr/>
          <p:nvPr/>
        </p:nvSpPr>
        <p:spPr>
          <a:xfrm>
            <a:off x="1981080" y="3935520"/>
            <a:ext cx="50371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100" spc="-1" strike="noStrike">
                <a:solidFill>
                  <a:srgbClr val="00b050"/>
                </a:solidFill>
                <a:latin typeface="Cambria"/>
                <a:ea typeface="MS PGothic"/>
              </a:rPr>
              <a:t>Software Engineering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Date Placeholder 5"/>
          <p:cNvSpPr/>
          <p:nvPr/>
        </p:nvSpPr>
        <p:spPr>
          <a:xfrm>
            <a:off x="4191120" y="6400800"/>
            <a:ext cx="38764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1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9E63C-0057-4BF6-8D92-A623B90FB639}" type="datetime2">
              <a:rPr b="1" lang="en-US" sz="2400" spc="-1" strike="noStrike">
                <a:solidFill>
                  <a:srgbClr val="ff0000"/>
                </a:solidFill>
                <a:latin typeface="Cambria"/>
              </a:rPr>
              <a:t>Wednesday, July 29, 2026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Rectangle 1"/>
          <p:cNvSpPr/>
          <p:nvPr/>
        </p:nvSpPr>
        <p:spPr>
          <a:xfrm>
            <a:off x="1034280" y="1550880"/>
            <a:ext cx="63482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Cambria"/>
                <a:ea typeface="MS PGothic"/>
              </a:rPr>
              <a:t>Object Oriented Software Design 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Slide Number Placeholder 2"/>
          <p:cNvSpPr/>
          <p:nvPr/>
        </p:nvSpPr>
        <p:spPr>
          <a:xfrm>
            <a:off x="6058080" y="1430280"/>
            <a:ext cx="2171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E9097D-4BFA-4ACD-A559-D82A2F7392E5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04920" y="1752120"/>
            <a:ext cx="8245440" cy="46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subclass B generally has a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derived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part (inherited from A) and an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incremental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part (new part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ence, B needs to define only the incremental par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reates an “is-a” relationship – objects of type B are also objects of type A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322DD2-F5F3-4D20-B6F5-0C689EB20B43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Rectangle 1"/>
          <p:cNvSpPr/>
          <p:nvPr/>
        </p:nvSpPr>
        <p:spPr>
          <a:xfrm>
            <a:off x="2286000" y="8031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Inheritance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FCA900-42ED-44D7-BD20-5BC719443B47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2FE0D7-3F8B-42E4-92B2-0BE7170E62B7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Rectangle 1"/>
          <p:cNvSpPr/>
          <p:nvPr/>
        </p:nvSpPr>
        <p:spPr>
          <a:xfrm>
            <a:off x="2286000" y="8031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Inheritance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186BD2-A0EC-490A-BF6E-A4F8A6237578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1" name="Picture 5" descr="Fig7-3"/>
          <p:cNvPicPr/>
          <p:nvPr/>
        </p:nvPicPr>
        <p:blipFill>
          <a:blip r:embed="rId1"/>
          <a:stretch/>
        </p:blipFill>
        <p:spPr>
          <a:xfrm>
            <a:off x="2590920" y="1523880"/>
            <a:ext cx="3657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04920" y="1523880"/>
            <a:ext cx="8245440" cy="48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inheritance relationship between classes forms a class hierarchy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n models, hierarchy should represent the natural relationships present in the problem domain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n a hierarchy, all the common features can be accumulated in a superclas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n existing class can be a specialization of an existing general class – is also called generalization-specialization relationship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036C48-95C8-468B-979C-D48FACB1157A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Rectangle 1"/>
          <p:cNvSpPr/>
          <p:nvPr/>
        </p:nvSpPr>
        <p:spPr>
          <a:xfrm>
            <a:off x="3048120" y="56340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Inheritance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FF1DE5-CDEC-470A-BDF7-81399AA472CF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8714CF-0B3F-4778-90E5-FC8F25ED1C7A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Rectangle 1"/>
          <p:cNvSpPr/>
          <p:nvPr/>
        </p:nvSpPr>
        <p:spPr>
          <a:xfrm>
            <a:off x="3657600" y="21744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Inheritance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1F8175-9DD9-497C-B3F4-370934FF88B9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1" name="Picture 5" descr="Fig7-4"/>
          <p:cNvPicPr/>
          <p:nvPr/>
        </p:nvPicPr>
        <p:blipFill>
          <a:blip r:embed="rId1"/>
          <a:stretch/>
        </p:blipFill>
        <p:spPr>
          <a:xfrm>
            <a:off x="914400" y="855720"/>
            <a:ext cx="780408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04560" y="1523880"/>
            <a:ext cx="8458200" cy="48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Strict inheritance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– a subclass takes all features of parent class.  It only adds features to specialize i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Non-strict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: when some of the features have been redefin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trict inheritance supports “is-a” relationship cleanly and has fewer side effec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5A6C9E-CE1D-4CAD-BED3-96CC8BC38758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Rectangle 1"/>
          <p:cNvSpPr/>
          <p:nvPr/>
        </p:nvSpPr>
        <p:spPr>
          <a:xfrm>
            <a:off x="3048120" y="56340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Inheritance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F18FD3-415B-40EE-B03A-8AAA94532E15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304920" y="1523880"/>
            <a:ext cx="8245440" cy="48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Single inheritance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– a subclass inherits from only one superclas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ass hierarchy is a tre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Multiple inheritance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– a class inherits from more than one class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an cause runtime conflict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peated inheritance - a class inherits from a class but from two separate path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8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02C8DD-AB97-4136-AA42-F08644D42628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Rectangle 1"/>
          <p:cNvSpPr/>
          <p:nvPr/>
        </p:nvSpPr>
        <p:spPr>
          <a:xfrm>
            <a:off x="3048120" y="56340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Inheritance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1AF9A5-44E9-4F4A-8199-5743CB819C83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04920" y="1523880"/>
            <a:ext cx="8245440" cy="48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heritance brings polymorphism, i.e. an object can be of different typ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n object of type B is also an object of type A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ence an object has a static type and a dynamic typ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s has implications on type checking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also brings dynamic binding of operations which allows writing of general code where operations do different things depending on the typ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1ECA47-720E-464D-9D45-8ADC6A62CCB8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1752480" y="7462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Inheritance and Polymorphism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50C8B2-2472-43E9-89FC-419E26002AB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04920" y="1523880"/>
            <a:ext cx="8245440" cy="48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basic modules are class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19240" indent="-21924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uring design, the key activity is to specify the classes in the system being buil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19240" indent="-21924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rrectness of design is fundamental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19240" indent="-21924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ut design should also be “good” – efficient, modifiable, stable, …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19240" indent="-21924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an evaluate a design using coupling, cohesion, and open-closed principle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8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24A9CD-6722-4DC3-A55E-64ABF42DF53E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Rectangle 1"/>
          <p:cNvSpPr/>
          <p:nvPr/>
        </p:nvSpPr>
        <p:spPr>
          <a:xfrm>
            <a:off x="1752480" y="7462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Module Level Concep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979512-8B06-4618-B200-A9C2D0EEC4E9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04920" y="1523880"/>
            <a:ext cx="8245440" cy="48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upling is an inter-module concept, captures the strength of interconnection between modul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more tightly coupled the modules, the more they depend on each other, the more difficult to modify on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Low coupling is desirable for making systems understandable and modifiabl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 OO, three types of coupling exist – interaction, component, and inheritanc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B2EF7A-682C-4085-A633-4E8D88D45324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Rectangle 1"/>
          <p:cNvSpPr/>
          <p:nvPr/>
        </p:nvSpPr>
        <p:spPr>
          <a:xfrm>
            <a:off x="1752480" y="7462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upl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61FA56-2B27-4996-85F2-E28CA1462488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04920" y="1447920"/>
            <a:ext cx="8245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Interaction coupling occurs due to methods of a class invoking methods of other classes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Like calling of functions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Worst form will be if methods directly access internal parts of other methods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Still it is bad if methods directly manipulate variables of other classes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Passing information through temporary variables is also bad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8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5B8E14-726A-41B0-9ED5-5E76D4B11D12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Rectangle 1"/>
          <p:cNvSpPr/>
          <p:nvPr/>
        </p:nvSpPr>
        <p:spPr>
          <a:xfrm>
            <a:off x="2133720" y="66348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upling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A600D-9A4B-47ED-AB1C-D28D00E18E84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609480" y="1752120"/>
            <a:ext cx="7940880" cy="46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raditional procedural systems separate data and procedures, and model these separatel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bject orientation: views data and functions together; data abstraction is its basi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purpose of OO design is to define the classes in the system to be built and their relationship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0A13BD-EEE5-4610-A5BF-9A0B684BBFAB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Rectangle 1"/>
          <p:cNvSpPr/>
          <p:nvPr/>
        </p:nvSpPr>
        <p:spPr>
          <a:xfrm>
            <a:off x="2743200" y="7621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Object Ori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F302E6-B0A3-4A3A-83F7-7C171EE09931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04920" y="1447920"/>
            <a:ext cx="8245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Least interaction coupling if methods communicate directly with parameter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ith least number of parameter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ith least amount of info being pass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ith only data being pass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.e. methods should pass the least amount of data, with least number of parameters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621822-4BC4-4FC2-BCB8-3D49DE3B6189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1"/>
          <p:cNvSpPr/>
          <p:nvPr/>
        </p:nvSpPr>
        <p:spPr>
          <a:xfrm>
            <a:off x="2133720" y="66348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upling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AEBE83-12DC-4BC5-99EF-2CDFBE8CAD6D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04920" y="1136160"/>
            <a:ext cx="8245440" cy="53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mponent coupling: when a class A has variables of another class C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 has instance variables of C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 has some parameters of type C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 has a method with a local variable of type C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en A is coupled with C, it is coupled with all subclasses of C as well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mponent coupling will generally imply the presence of interaction coupling also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8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1A8B81-0F6B-44BA-BE34-3B1F0A531E1D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Rectangle 1"/>
          <p:cNvSpPr/>
          <p:nvPr/>
        </p:nvSpPr>
        <p:spPr>
          <a:xfrm>
            <a:off x="2895480" y="46656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upling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B1A3EF-1B57-4950-8886-69E212186552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04920" y="1355760"/>
            <a:ext cx="824544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heritance coupling: two classes are coupled if one is a subclass of the othe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orst form – when subclass modifies a signature of a method or deletes a metho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upling is bad even when there is the same signature but a changed implementat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Least, when subclass only adds instance variables and methods but does not modify any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9826CB-E2F0-4EC2-93B7-443E5E9F004B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1"/>
          <p:cNvSpPr/>
          <p:nvPr/>
        </p:nvSpPr>
        <p:spPr>
          <a:xfrm>
            <a:off x="2590920" y="57636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upling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130756-0CE8-4020-ADE5-68EA48EDEFE8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304920" y="1355760"/>
            <a:ext cx="824544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hesion is an intra-module concep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focuses on why elements are togethe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nly elements tightly related should exist together in a modul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s gives a module clear abstraction and makes it easier to understan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igher cohesion leads to lower coupling:  many interacting elements are in the modul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oal is to have higher cohesion in modul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ree types of cohesion in OO – method, class, and inheritanc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8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E99EAD-8D4C-4584-92E7-DD00E403D2CB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Rectangle 1"/>
          <p:cNvSpPr/>
          <p:nvPr/>
        </p:nvSpPr>
        <p:spPr>
          <a:xfrm>
            <a:off x="2590920" y="57636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he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2B27BB-73D0-4CA2-9580-83B509962C02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04920" y="1355760"/>
            <a:ext cx="824544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ethod cohesion – why different code elements are together in a method (like cohesion in functional modules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ighest form is if each method implements a clearly defined function with all elements contributing to implementing this funct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hould be able to state what the module does by a simple statemen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7BCFB8-86DC-4DD4-BB84-5DAB1A5885A7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1"/>
          <p:cNvSpPr/>
          <p:nvPr/>
        </p:nvSpPr>
        <p:spPr>
          <a:xfrm>
            <a:off x="2590920" y="57636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hesion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676B48-548C-43C2-A34B-44695206983D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04920" y="1355760"/>
            <a:ext cx="824544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ass cohesion – why different attributes and methods are together in a clas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 class should represent a single concept with all elements contributing towards it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Whenever multiple concepts encapsulated, cohesion is not as high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 symptom of multiple concepts – different groups of methods accessing different subsets of attribute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8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7B6255-EF38-4F19-9A53-8B35DB9A0392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Rectangle 1"/>
          <p:cNvSpPr/>
          <p:nvPr/>
        </p:nvSpPr>
        <p:spPr>
          <a:xfrm>
            <a:off x="2590920" y="57636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hesion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233EBF-7E51-4A1B-96F2-39B86DFD8BF9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04920" y="1355760"/>
            <a:ext cx="824544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heritance cohesion – focuses on why classes are together in a hierarch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wo reasons for subclassing –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generalization-specialization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reuse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ohesion is higher if the hierarchy is for providing generalization-specialization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212BD9-0DE0-45E5-890E-CF2B45AF2CF8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Rectangle 1"/>
          <p:cNvSpPr/>
          <p:nvPr/>
        </p:nvSpPr>
        <p:spPr>
          <a:xfrm>
            <a:off x="2590920" y="57636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hesion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6EA68F-C168-4ACE-85C1-DD506CCD43DB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228600" y="1349280"/>
            <a:ext cx="868680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inciple: classes should be open for extension but closed for modificat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Behavior can be extended to accommodate new requirements, but existing code is not modified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.e. allows addition of code, but not modification of existing cod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Minimizes risk of having existing functionality stop working due to changes – a very important consideration while changing cod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Good for programmers as they like writing new cod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8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FAAEDD-7070-41E4-A83F-3061BBBA6CC5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Rectangle 1"/>
          <p:cNvSpPr/>
          <p:nvPr/>
        </p:nvSpPr>
        <p:spPr>
          <a:xfrm>
            <a:off x="2590920" y="5763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Open-closed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48FD19-8105-4F02-9AC8-6FA7ADE3C4A5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228600" y="1349280"/>
            <a:ext cx="861048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 OO this principle is satisfied by using inheritance and polymorphis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heritance allows creating a new class to extend behavior without changing the original clas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s can be used to support the open-closed principl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nsider example of a client object which interacts with a  printer object for printing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320C9C-7309-4FE0-9DD2-B4BE2308AEB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Rectangle 1"/>
          <p:cNvSpPr/>
          <p:nvPr/>
        </p:nvSpPr>
        <p:spPr>
          <a:xfrm>
            <a:off x="2590920" y="5763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Open-closed Principle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ADA70D-C546-4D50-AE2B-CD92368D3176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B15958-7F9E-496B-81E1-5C0643090FB0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Rectangle 1"/>
          <p:cNvSpPr/>
          <p:nvPr/>
        </p:nvSpPr>
        <p:spPr>
          <a:xfrm>
            <a:off x="2590920" y="5763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Open-closed Principle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B0740B-E7DD-413A-827E-F2055B8E074F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1" name="Picture 6" descr="Fig7-7"/>
          <p:cNvPicPr/>
          <p:nvPr/>
        </p:nvPicPr>
        <p:blipFill>
          <a:blip r:embed="rId1"/>
          <a:stretch/>
        </p:blipFill>
        <p:spPr>
          <a:xfrm>
            <a:off x="628560" y="3083040"/>
            <a:ext cx="7886880" cy="183672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8"/>
          <p:cNvSpPr/>
          <p:nvPr/>
        </p:nvSpPr>
        <p:spPr>
          <a:xfrm>
            <a:off x="457200" y="146196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93640" y="1476360"/>
            <a:ext cx="7956720" cy="48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O techniques can be used in requirement analysis as well as in desig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1400" indent="-2214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methods and notations are similar in both cases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1400" indent="-2214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 OO analysis (OOA) we model the problem, while in OO design (OOD) we model the solut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1400" indent="-2214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ften OOA structures are included in the solution domain structur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1400" indent="-2214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line between OOA and OOD is not fix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AF3183-2D54-44DC-939A-EE8738E12803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1"/>
          <p:cNvSpPr/>
          <p:nvPr/>
        </p:nvSpPr>
        <p:spPr>
          <a:xfrm>
            <a:off x="2811600" y="63648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OOA and 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AF6986-25EE-4495-9403-2C51B4F5A040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228600" y="1828800"/>
            <a:ext cx="86104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ent directly calls methods on Printer1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f another printer is to be allowed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new class Printer2 will be creat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ut the client will have to be changed if it wants to use Printer 2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lternative approach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ave Printer1 a subclass of a general Print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r modification, add another subclass Printer 2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ient does not need to be chang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CDF220-61DE-4813-A92F-37CBF2D5A309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Rectangle 1"/>
          <p:cNvSpPr/>
          <p:nvPr/>
        </p:nvSpPr>
        <p:spPr>
          <a:xfrm>
            <a:off x="2590920" y="5763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Open-closed Principle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DFF513-20FF-4EE6-AAB2-70EE9525E8B8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593640" y="11764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Example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0F5752-323D-4F3D-BAF1-1BB92B96C61C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Rectangle 1"/>
          <p:cNvSpPr/>
          <p:nvPr/>
        </p:nvSpPr>
        <p:spPr>
          <a:xfrm>
            <a:off x="2590920" y="5763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Open-closed Principle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8C64FA-A747-40A0-B21C-047B4EBA2794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593640" y="11764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Example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4" name="Picture 7" descr="Fig7-8"/>
          <p:cNvPicPr/>
          <p:nvPr/>
        </p:nvPicPr>
        <p:blipFill>
          <a:blip r:embed="rId1"/>
          <a:stretch/>
        </p:blipFill>
        <p:spPr>
          <a:xfrm>
            <a:off x="779400" y="1825560"/>
            <a:ext cx="75852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228600" y="1828800"/>
            <a:ext cx="86104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Principle: Program using object o1 of base class C should remain unchanged if o1 is replaced by an object of a subclass of C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f hierarchies follow this principle, the open-closed principle gets supported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64CB5F-4A95-4961-AC86-23780ED463A0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Rectangle 1"/>
          <p:cNvSpPr/>
          <p:nvPr/>
        </p:nvSpPr>
        <p:spPr>
          <a:xfrm>
            <a:off x="1905120" y="9144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Liskov’s Substitutio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9CF6F6-C95D-4462-A36C-AD08B6E6F381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228600" y="2286000"/>
            <a:ext cx="861048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ML is a graphical notation useful for OO analysis and desig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llows representing various aspects of the syst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arious notations are used to build different models for the syst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OAD methodologies use UML to represent the models they creat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1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998EC7-831D-4413-952F-61D36D1CE074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Rectangle 1"/>
          <p:cNvSpPr/>
          <p:nvPr/>
        </p:nvSpPr>
        <p:spPr>
          <a:xfrm>
            <a:off x="1828800" y="95724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Unified Modeling Language (UML) and Model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128EF0-E5CF-497A-92E5-A2F8FBD54BCB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228600" y="1541520"/>
            <a:ext cx="8610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odeling is used in many disciplines – architecture, aircraft building, …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model is a simplification of realit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ll models are wrong, some are useful”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good model includes those elements that have broad effect and omits minor elemen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model of a system is not the system!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510F5B-A55E-423F-BF2C-4415C9FE008B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Rectangle 1"/>
          <p:cNvSpPr/>
          <p:nvPr/>
        </p:nvSpPr>
        <p:spPr>
          <a:xfrm>
            <a:off x="1905120" y="7542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Model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F65B74-193D-4F93-BF3A-E2037CB6C98E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228600" y="1541520"/>
            <a:ext cx="8610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odels help us visualize a system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elp specify the system structur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ives us a template that can guide the construction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ocument the decisions taken and their rational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1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E7FC5B-333F-42CF-BC7B-70967045C7E2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1"/>
          <p:cNvSpPr/>
          <p:nvPr/>
        </p:nvSpPr>
        <p:spPr>
          <a:xfrm>
            <a:off x="1905120" y="7542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Why build models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E22E5E-B55E-4F84-9ACD-B1CEF34E5D80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228600" y="1541520"/>
            <a:ext cx="8610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very complex system requires multiple models, representing different aspec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se models are related but can be studied in isolat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.g. Architectural view, electrical view, plumbing view of a building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odel can be structural, or behavioral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EE5658-489B-4955-9A5C-F78891F0C362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Rectangle 1"/>
          <p:cNvSpPr/>
          <p:nvPr/>
        </p:nvSpPr>
        <p:spPr>
          <a:xfrm>
            <a:off x="1905120" y="7542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Model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12885D-A677-4628-BF90-082BFD27CE99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228600" y="1541520"/>
            <a:ext cx="8610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use case view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design view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process view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mplementation view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eployment view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e will focus primarily on models for design – class diagram, interaction diagram, etc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4C6EFC-17BB-4307-843B-8884C0A3E322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Rectangle 1"/>
          <p:cNvSpPr/>
          <p:nvPr/>
        </p:nvSpPr>
        <p:spPr>
          <a:xfrm>
            <a:off x="1905120" y="7542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Views in an UML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E9F12B-7328-46F1-A8CF-3F0B1DE5941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228600" y="1541520"/>
            <a:ext cx="8610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asses are the basic building blocks of an OO system as classes are the implementation units also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ass diagram is the central piece in an OO design. It specifie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asses in the system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ssociation between classe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ubtype, super type relationship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7951AA-E433-41F9-8C33-210E9E984509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Rectangle 1"/>
          <p:cNvSpPr/>
          <p:nvPr/>
        </p:nvSpPr>
        <p:spPr>
          <a:xfrm>
            <a:off x="1905120" y="7542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A1B506-BC89-4781-9A48-90C5E4AF0180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593640" y="1541520"/>
            <a:ext cx="8245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ass itself is represented as a box with name, attributes, and method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re are conventions for naming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f a class is an interface, this can be specified by &lt;&lt;interface&gt;&gt; stereotyp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operties of attributes/methods can be specified by tags between { }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BB67BB-18AE-4EE0-9BAB-7A5F1ACF45E6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Rectangle 1"/>
          <p:cNvSpPr/>
          <p:nvPr/>
        </p:nvSpPr>
        <p:spPr>
          <a:xfrm>
            <a:off x="1905120" y="7542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lass Diagram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F41AE5-DEC1-4C79-B0FF-4B13AF50EDCB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81913E-3FF6-4A46-BCCE-0BC9452BC83D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Rectangle 1"/>
          <p:cNvSpPr/>
          <p:nvPr/>
        </p:nvSpPr>
        <p:spPr>
          <a:xfrm>
            <a:off x="2811600" y="63648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OOA and OOD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EB2FB3-A9CC-4EA6-961B-0B4C5DD28D01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5" name="Picture 5" descr="Fig7-1"/>
          <p:cNvPicPr/>
          <p:nvPr/>
        </p:nvPicPr>
        <p:blipFill>
          <a:blip r:embed="rId1"/>
          <a:stretch/>
        </p:blipFill>
        <p:spPr>
          <a:xfrm>
            <a:off x="1295280" y="1825560"/>
            <a:ext cx="655344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328E05-980D-4917-851C-3A2252E14FF8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Rectangle 1"/>
          <p:cNvSpPr/>
          <p:nvPr/>
        </p:nvSpPr>
        <p:spPr>
          <a:xfrm>
            <a:off x="1905120" y="7542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lass Diagram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3DFF83-235D-4B40-9F3A-5ED29F017A04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560880" y="1397160"/>
            <a:ext cx="26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Class –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0" name="Picture 5" descr="Fig7-9"/>
          <p:cNvPicPr/>
          <p:nvPr/>
        </p:nvPicPr>
        <p:blipFill>
          <a:blip r:embed="rId1"/>
          <a:stretch/>
        </p:blipFill>
        <p:spPr>
          <a:xfrm>
            <a:off x="628560" y="2495520"/>
            <a:ext cx="788688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593640" y="1541520"/>
            <a:ext cx="8245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s relationship leads to class hierarch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an be captured in a class diagram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rrows coming from the subclass to the superclass with head touching supe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llows multiple subclass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f specialization is done on the basis of some discriminator, arrow can be label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34CD29-B1B8-44A9-A814-AB85C17A65C0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Rectangle 1"/>
          <p:cNvSpPr/>
          <p:nvPr/>
        </p:nvSpPr>
        <p:spPr>
          <a:xfrm>
            <a:off x="1905120" y="7542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Generalization-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156933-AE53-40EC-B56B-07D219E8F094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41E6C6-9D8B-48EA-952E-BE1B0F037BA5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Rectangle 1"/>
          <p:cNvSpPr/>
          <p:nvPr/>
        </p:nvSpPr>
        <p:spPr>
          <a:xfrm>
            <a:off x="1905120" y="7542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lass Diagram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C3B9C1-35CC-4D91-A0B7-82D36D0723FA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610560" y="1397160"/>
            <a:ext cx="43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Class Hierarchy–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1" name="Picture 5" descr="Fig7-10"/>
          <p:cNvPicPr/>
          <p:nvPr/>
        </p:nvPicPr>
        <p:blipFill>
          <a:blip r:embed="rId1"/>
          <a:stretch/>
        </p:blipFill>
        <p:spPr>
          <a:xfrm>
            <a:off x="593640" y="1919160"/>
            <a:ext cx="78012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593640" y="1541520"/>
            <a:ext cx="8245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asses have other relationship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ssociation: when objects of a class need services from other object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hown by a line joining classe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ultiplicity can be represent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ggregation: when an object is composed of other object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aptures part-whole relationship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hown with a diamond connecting classe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715578-DE51-44AB-93F1-E71E7E142557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Rectangle 1"/>
          <p:cNvSpPr/>
          <p:nvPr/>
        </p:nvSpPr>
        <p:spPr>
          <a:xfrm>
            <a:off x="1905120" y="7542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Association/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B0FB86-68BC-4DD8-A724-4E430D4FBC84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669B25-5869-4C92-8BF9-984691940A7D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1"/>
          <p:cNvSpPr/>
          <p:nvPr/>
        </p:nvSpPr>
        <p:spPr>
          <a:xfrm>
            <a:off x="1295280" y="7542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Association/Aggregation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17CB67-91CD-4AC5-9E21-6E2194E16122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Rectangle 4"/>
          <p:cNvSpPr/>
          <p:nvPr/>
        </p:nvSpPr>
        <p:spPr>
          <a:xfrm>
            <a:off x="546480" y="139716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2" name="Picture 5" descr="Fig7-11"/>
          <p:cNvPicPr/>
          <p:nvPr/>
        </p:nvPicPr>
        <p:blipFill>
          <a:blip r:embed="rId1"/>
          <a:stretch/>
        </p:blipFill>
        <p:spPr>
          <a:xfrm>
            <a:off x="628560" y="2703600"/>
            <a:ext cx="788688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6840" y="1386000"/>
            <a:ext cx="838188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ass diagram represent static structure of the system (classes and their relationships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o not model the behavior of syst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ehavioral view – shows how objects interact for performing actions (typically a use case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teraction is between objects, not class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teraction diagram in two styles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quence diagram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llaboration diagram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wo are equivalent in powe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49F01A-C957-47FC-928E-CA4E1AFB9B9A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Rectangle 1"/>
          <p:cNvSpPr/>
          <p:nvPr/>
        </p:nvSpPr>
        <p:spPr>
          <a:xfrm>
            <a:off x="2438280" y="5904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Interaction Diagram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E4384B-EF53-420F-87FF-14218DADC5EB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456840" y="1828800"/>
            <a:ext cx="8381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bjects participating in an interaction are shown at the top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r each object a vertical bar represents its lifelin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essage from an object to another, represented as a labeled arrow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f message sent under some condition, it can be specified in bracke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ime increases downwards, ordering of events is captur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5239AF-0618-4F3F-A0B8-FD0D5453AFC5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Rectangle 1"/>
          <p:cNvSpPr/>
          <p:nvPr/>
        </p:nvSpPr>
        <p:spPr>
          <a:xfrm>
            <a:off x="380880" y="109044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Sequence Diagra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5A58FA-A86D-4E91-8913-E36F9768DBF6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1"/>
          <p:cNvSpPr/>
          <p:nvPr/>
        </p:nvSpPr>
        <p:spPr>
          <a:xfrm>
            <a:off x="2590920" y="50472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Interaction Diagrams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59E5F6-CC21-431E-972F-E0B67AC48E0D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F89BBB-CA91-4C40-A57D-84739D5A1C4E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7" name="Picture 5" descr="Fig7-12"/>
          <p:cNvPicPr/>
          <p:nvPr/>
        </p:nvPicPr>
        <p:blipFill>
          <a:blip r:embed="rId1"/>
          <a:stretch/>
        </p:blipFill>
        <p:spPr>
          <a:xfrm>
            <a:off x="1585800" y="1811160"/>
            <a:ext cx="6778800" cy="457200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8"/>
          <p:cNvSpPr/>
          <p:nvPr/>
        </p:nvSpPr>
        <p:spPr>
          <a:xfrm>
            <a:off x="380880" y="16146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Rectangle 1"/>
          <p:cNvSpPr/>
          <p:nvPr/>
        </p:nvSpPr>
        <p:spPr>
          <a:xfrm>
            <a:off x="380880" y="109044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Sequence Diagram …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Rectangle 1"/>
          <p:cNvSpPr/>
          <p:nvPr/>
        </p:nvSpPr>
        <p:spPr>
          <a:xfrm>
            <a:off x="2590920" y="50472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Interaction Diagrams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593640" y="1980720"/>
            <a:ext cx="824544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lso shows how objects interac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stead of timeline, this diagram looks more like a state diagra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rdering of messages captured by numbering th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s equivalent to sequence diagram in modeling powe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9AD2F6-6E56-4C13-9994-3B0B383F5DFE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08A677-6D71-4639-ABED-27673D13C595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Rectangle 1"/>
          <p:cNvSpPr/>
          <p:nvPr/>
        </p:nvSpPr>
        <p:spPr>
          <a:xfrm>
            <a:off x="593640" y="12952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Collaboration Diagra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Rectangle 1"/>
          <p:cNvSpPr/>
          <p:nvPr/>
        </p:nvSpPr>
        <p:spPr>
          <a:xfrm>
            <a:off x="2590920" y="50472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Interaction Diagrams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20547A-5E2B-4D2A-9A65-309652283CA9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957E97-7D35-4320-819F-77F08DBAE5E5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0" name="Picture 5" descr="Fig7-13"/>
          <p:cNvPicPr/>
          <p:nvPr/>
        </p:nvPicPr>
        <p:blipFill>
          <a:blip r:embed="rId1"/>
          <a:stretch/>
        </p:blipFill>
        <p:spPr>
          <a:xfrm>
            <a:off x="814320" y="1708200"/>
            <a:ext cx="7131240" cy="480060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8"/>
          <p:cNvSpPr/>
          <p:nvPr/>
        </p:nvSpPr>
        <p:spPr>
          <a:xfrm>
            <a:off x="374760" y="180324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Rectangle 1"/>
          <p:cNvSpPr/>
          <p:nvPr/>
        </p:nvSpPr>
        <p:spPr>
          <a:xfrm>
            <a:off x="380880" y="118584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Collaboration Diagram …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Rectangle 1"/>
          <p:cNvSpPr/>
          <p:nvPr/>
        </p:nvSpPr>
        <p:spPr>
          <a:xfrm>
            <a:off x="2590920" y="50472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Interaction Diagrams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0880" y="1476360"/>
            <a:ext cx="8321760" cy="48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ncapsulation – grouping of related ideas into one unit in which we can refer to by a single nam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.g. procedures, functions, package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 OO, object is the unit; encapsulates state and provides interface to access and modify the stat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formation hiding – use encapsulation to restrict external visibilit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O encapsulates the data, provides limited access, visibilit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77A9F3-D195-475E-93FC-B9ADE6EF38A5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Rectangle 1"/>
          <p:cNvSpPr/>
          <p:nvPr/>
        </p:nvSpPr>
        <p:spPr>
          <a:xfrm>
            <a:off x="2811600" y="63648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OO Concep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C8CA55-1DC1-4EED-8C49-89BDB1C0DD94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456840" y="1676160"/>
            <a:ext cx="838188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ass diagram and interaction diagrams most commonly used during desig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re are other diagrams used to build different types of model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5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8874DF-35BB-4305-9BC1-085BBFCB7C5B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Rectangle 1"/>
          <p:cNvSpPr/>
          <p:nvPr/>
        </p:nvSpPr>
        <p:spPr>
          <a:xfrm>
            <a:off x="2438280" y="5904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Other Diagram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D1E1E9-F472-44F3-98F4-DABFDFA957F0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456840" y="167652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tate diagram is a dynamic model to represent behavior of an individual object or a syst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hows the states of an object and transitions between th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elps understand the object – focus only on the important logical stat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tate diagrams can be very useful for automated and systematic testing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0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2E0F22-EBA7-48FE-9067-D83DC76BC3A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Rectangle 1"/>
          <p:cNvSpPr/>
          <p:nvPr/>
        </p:nvSpPr>
        <p:spPr>
          <a:xfrm>
            <a:off x="2438280" y="5904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State Diagram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CE8A22-B06D-4C4E-ADB3-359DFA4E0FB5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8DA367-447B-46E3-ACBA-52DFAEA67F4A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Rectangle 1"/>
          <p:cNvSpPr/>
          <p:nvPr/>
        </p:nvSpPr>
        <p:spPr>
          <a:xfrm>
            <a:off x="2438280" y="5904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State Diagram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A0FCE6-C6AC-4080-950B-90D57EC9F3EE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8" name="Picture 5" descr="Fig8-6"/>
          <p:cNvPicPr/>
          <p:nvPr/>
        </p:nvPicPr>
        <p:blipFill>
          <a:blip r:embed="rId1"/>
          <a:stretch/>
        </p:blipFill>
        <p:spPr>
          <a:xfrm>
            <a:off x="628560" y="2631960"/>
            <a:ext cx="7886880" cy="273852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5"/>
          <p:cNvSpPr/>
          <p:nvPr/>
        </p:nvSpPr>
        <p:spPr>
          <a:xfrm>
            <a:off x="517680" y="1484280"/>
            <a:ext cx="396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State diagram of a st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456840" y="1676160"/>
            <a:ext cx="838188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is another method for modeling the dynamic behavio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escribes the sequence of activities, and parallel behavior in a syst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ctivity represented by ovals, dependence shown by inputs/output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ariant of a state diagram – captures the state of the system and transition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1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FFBFFE-FB49-4D63-BBF5-336BC04FEB10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Rectangle 1"/>
          <p:cNvSpPr/>
          <p:nvPr/>
        </p:nvSpPr>
        <p:spPr>
          <a:xfrm>
            <a:off x="2438280" y="5904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D286FB-EA39-484B-923F-56B90B6F83BF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456840" y="1386000"/>
            <a:ext cx="838188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stead of objects/classes, can represent components, packages, subsystem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se are useful for developing architecture structur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ML is extensible – can model a new but similar concept by using stereotypes (by adding &lt;&lt;name&gt;&gt;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agged values can be used to specify additional properties, e.g. private, read onl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otes can be add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3F6CC9-F3FE-4691-9C6B-A4D0DE99A784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Rectangle 1"/>
          <p:cNvSpPr/>
          <p:nvPr/>
        </p:nvSpPr>
        <p:spPr>
          <a:xfrm>
            <a:off x="2438280" y="5904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Other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3F4478-6B9A-42F9-B3F0-6332A8C371C0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1DB72B-3DA0-4428-823D-B80257D211DD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Rectangle 1"/>
          <p:cNvSpPr/>
          <p:nvPr/>
        </p:nvSpPr>
        <p:spPr>
          <a:xfrm>
            <a:off x="2438280" y="5904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Other Symbo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13559F-15EC-4F61-A00A-2ED4FA2238DE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4" name="Picture 5" descr="Fig7-14"/>
          <p:cNvPicPr/>
          <p:nvPr/>
        </p:nvPicPr>
        <p:blipFill>
          <a:blip r:embed="rId1"/>
          <a:stretch/>
        </p:blipFill>
        <p:spPr>
          <a:xfrm>
            <a:off x="628560" y="1874880"/>
            <a:ext cx="788688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456840" y="1386000"/>
            <a:ext cx="838188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any OOAD methodologies have been propos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y provide some guidelines on the steps to be perform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asic goal is to identify classes, understand their behavior, and relationship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ifferent UML models are used for thi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ften UML is used, methodologies are not followed strictl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195724-3451-4EF9-AA6A-C95F60D23F1F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Rectangle 1"/>
          <p:cNvSpPr/>
          <p:nvPr/>
        </p:nvSpPr>
        <p:spPr>
          <a:xfrm>
            <a:off x="2438280" y="5904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Design using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3A4AF8-909C-4D93-A670-613E8284CA13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228600" y="1038240"/>
            <a:ext cx="861048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asic step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dentify classes, attributes, and operations from use cas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efine relationships between class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ake dynamic models for key use cases and use them to refine class diagram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ake a functional model and use it to refine the class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ptimize and packag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ass diagrams play the central role; class definition gets refined as we proce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1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89D126-AD57-4D61-B8D0-20159B4A6FE4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Rectangle 1"/>
          <p:cNvSpPr/>
          <p:nvPr/>
        </p:nvSpPr>
        <p:spPr>
          <a:xfrm>
            <a:off x="2757600" y="45396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Design using UML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33D9BD-7AD5-4B2A-9965-0198F111B09D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7281BB-572D-4F80-A3F0-83414CA4B657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Rectangle 1"/>
          <p:cNvSpPr/>
          <p:nvPr/>
        </p:nvSpPr>
        <p:spPr>
          <a:xfrm>
            <a:off x="2757600" y="45396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Design using UML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8DAC42-CD0F-4279-A4A6-0070392E3044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9" name="Picture 5" descr="Fig3-10"/>
          <p:cNvPicPr/>
          <p:nvPr/>
        </p:nvPicPr>
        <p:blipFill>
          <a:blip r:embed="rId1"/>
          <a:stretch/>
        </p:blipFill>
        <p:spPr>
          <a:xfrm>
            <a:off x="1828800" y="1816200"/>
            <a:ext cx="6245280" cy="457200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5"/>
          <p:cNvSpPr/>
          <p:nvPr/>
        </p:nvSpPr>
        <p:spPr>
          <a:xfrm>
            <a:off x="572760" y="1155600"/>
            <a:ext cx="52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mbria"/>
              </a:rPr>
              <a:t>Restaurant example: Initial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8904F1-E1D6-46AA-AF36-ED7CD7FBE6E0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Rectangle 1"/>
          <p:cNvSpPr/>
          <p:nvPr/>
        </p:nvSpPr>
        <p:spPr>
          <a:xfrm>
            <a:off x="2757600" y="45396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Design using UML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3605BB-6B12-4586-A3E2-3274A27D1778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572760" y="1155600"/>
            <a:ext cx="52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mbria"/>
              </a:rPr>
              <a:t>Restaurant example: Initial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6" name="Picture 5" descr="Fig3-11"/>
          <p:cNvPicPr/>
          <p:nvPr/>
        </p:nvPicPr>
        <p:blipFill>
          <a:blip r:embed="rId1"/>
          <a:stretch/>
        </p:blipFill>
        <p:spPr>
          <a:xfrm>
            <a:off x="1600200" y="1795320"/>
            <a:ext cx="647712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56840" y="1476360"/>
            <a:ext cx="8093160" cy="48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tate retention – functions, procedures do not retain state; an object is aware of its past and maintains stat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dentity – each object can be identified and treated as a distinct entit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ehavior – state and services together define the behavior of an object, or how an object responds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essages – through which a sender object conveys a request to a target objec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r requesting, O1 must have – a handle for O2, name of the operation, information on operations that O2 requir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eneral format O2.method(args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3B5C23-AA0B-49D0-84DF-1ADB1207D94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Rectangle 1"/>
          <p:cNvSpPr/>
          <p:nvPr/>
        </p:nvSpPr>
        <p:spPr>
          <a:xfrm>
            <a:off x="2811600" y="63648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OO Concept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1C4CEB-494B-47A1-966B-98A89565E667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05CDFA-D4F8-4927-BBA7-0E6CC987443F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1"/>
          <p:cNvSpPr/>
          <p:nvPr/>
        </p:nvSpPr>
        <p:spPr>
          <a:xfrm>
            <a:off x="2757600" y="45396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Design using UML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4407D0-1567-4267-8917-C16466880E16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457200" y="11556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mbria"/>
              </a:rPr>
              <a:t>Restaurant example: a sequence diagra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Picture 6" descr="Fig7-15"/>
          <p:cNvPicPr/>
          <p:nvPr/>
        </p:nvPicPr>
        <p:blipFill>
          <a:blip r:embed="rId1"/>
          <a:stretch/>
        </p:blipFill>
        <p:spPr>
          <a:xfrm>
            <a:off x="1066680" y="1825560"/>
            <a:ext cx="701064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228600" y="1038240"/>
            <a:ext cx="861048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eighted methods per clas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mplexity of a class depends on number of classes and their complexit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uppose complexity of methods is c1, c2..; by some functional complexity metric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91440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MC = Σ ci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Large WMC might mean that the class is more fault-pron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A79A4D-38E1-4C5A-8C25-9595222363F9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Rectangle 1"/>
          <p:cNvSpPr/>
          <p:nvPr/>
        </p:nvSpPr>
        <p:spPr>
          <a:xfrm>
            <a:off x="2757600" y="45396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Metric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2D0DBC-57D9-4A45-8D40-25B7D7DEA245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228600" y="1523520"/>
            <a:ext cx="861048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epth of Inheritance Tree (DIT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IT of C is depth from the root clas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Length of the path from root to C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IT is significant in predicting fault pronenes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umber of Children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mmediate number of subclasses of C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ives a sense of reus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27D374-FDD5-47A7-BCFE-256ED2DC48CB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Rectangle 1"/>
          <p:cNvSpPr/>
          <p:nvPr/>
        </p:nvSpPr>
        <p:spPr>
          <a:xfrm>
            <a:off x="2757600" y="45396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Metric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B88424-636D-4E9C-8E11-62289B8335BD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228600" y="1523520"/>
            <a:ext cx="861048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upling between classe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Number of classes to which this class is coupled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wo classes are coupled if methods of one use methods or attributes of other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an be determined from code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(There are indirect forms of coupling that cannot be statically determined)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A1C6F5-C77E-4FA2-8521-17184930ED9E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Rectangle 1"/>
          <p:cNvSpPr/>
          <p:nvPr/>
        </p:nvSpPr>
        <p:spPr>
          <a:xfrm>
            <a:off x="2757600" y="45396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Metric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160B2A-DAA7-4F37-B79F-E7B5606AB473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152280" y="914400"/>
            <a:ext cx="8839440" cy="55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Response for a clas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otal number of methods that can be invoked from this clas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aptures the strength of connection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ack of cohesion in method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wo methods form a cohesive pair if they access some common variables (form a non-cohesive pair if no common variable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LCOM is the number of method pairs that are non-cohesive – the no of cohesive pai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5F4CF6-8FE9-4A4C-9158-E9873BF9BF60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Rectangle 1"/>
          <p:cNvSpPr/>
          <p:nvPr/>
        </p:nvSpPr>
        <p:spPr>
          <a:xfrm>
            <a:off x="3048120" y="45396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Metric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1F4DAC-AF75-4A02-BC04-26FA8C107ECE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228600" y="1523520"/>
            <a:ext cx="861048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OO is a newer paradigm, slowly replacing the functional approach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OO models both data and functions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UML is a notation that is used often to model systems in an OO manner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UML provides various diagrams for modeling the structure, dynamic behavior, etc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Through UML modeling, design for the system can be developed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A3904E-7560-4B90-9F51-B65962A24317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Rectangle 1"/>
          <p:cNvSpPr/>
          <p:nvPr/>
        </p:nvSpPr>
        <p:spPr>
          <a:xfrm>
            <a:off x="2757600" y="7732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Summar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65034C-27F8-4FDB-A49D-F097358C7F4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04920" y="1220760"/>
            <a:ext cx="824544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asses – a class is a stencil from which objects are created; defines the structure and services. A class ha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64920" indent="-2214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n interface which defines which parts of an object can be accessed from outsid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64920" indent="-2214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Body that implements the operation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64920" indent="-2214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nstance variables to hold object state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1400" indent="-2214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bjects and classes are different; class is a type, object is an instanc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1400" indent="-2214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tate and identity is of objec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FD34FC-7717-417F-B566-C96D58AD719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2913120" y="4539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OO Concept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376BF7-2999-401E-B1B4-2614FB04284B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04920" y="1981080"/>
            <a:ext cx="824544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perations in a class can b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ublic: accessible from outsid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ivate: accessible only from within the clas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otected: accessible from within the class and from within subclasse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re are some constructor and destructor operation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0D39C9-ABC6-4FDB-B429-DB443EC90E45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"/>
          <p:cNvSpPr/>
          <p:nvPr/>
        </p:nvSpPr>
        <p:spPr>
          <a:xfrm>
            <a:off x="2913120" y="4539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OO Concept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BA8F5A-5750-40D6-9650-EA31B933CA0D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457200" y="136836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304560" y="1752120"/>
            <a:ext cx="8458200" cy="46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heritance is unique to OO and not there in function-oriented languages/model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heritance by class B from class A is the facility by which B implicitly gets the attributes and operations of A as its par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ttributes and methods of A are reused by B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en B inherits from A, B is the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subclas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derived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class and A is the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class or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superclas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8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8D6717-25DA-4049-9600-C2C67B4596EC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"/>
          <p:cNvSpPr/>
          <p:nvPr/>
        </p:nvSpPr>
        <p:spPr>
          <a:xfrm>
            <a:off x="2286000" y="8031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Inheritan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232824-DF18-472F-8B87-DB9D69B24A42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12:21:25Z</dcterms:created>
  <dc:creator>Dr.P.Jalote</dc:creator>
  <dc:description/>
  <dc:language>en-US</dc:language>
  <cp:lastModifiedBy>user</cp:lastModifiedBy>
  <dcterms:modified xsi:type="dcterms:W3CDTF">2020-04-27T06:00:48Z</dcterms:modified>
  <cp:revision>47</cp:revision>
  <dc:subject/>
  <dc:title>OO Analysis and Design</dc:title>
</cp:coreProperties>
</file>