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443-EA75-4CC1-9521-76BF4842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E5F7-1BF4-4CD8-BF78-2E65C287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688-BD28-4AA1-A014-BB7B33CE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3D3-AE24-4933-A38E-7DCAE4C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D74-6BD1-48C4-8E41-3FAB638A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FB3-7990-40FF-9150-6922A115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9DEC-62D2-41A6-A8C9-C301838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DB1D-A87E-481E-A509-DE307354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7831-23CC-403D-9CE5-48D91A3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9C24-9F26-4E87-B62B-D115A46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A585-BEB3-489C-90C9-E0EA420D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2969-CC0D-4ED1-8B8B-D53A7BDF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9CE7-F4D1-434B-8902-A45944C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A86-A7DA-4A1A-8A8D-B0DC6B97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CF1-2350-47C7-BD8C-4F11F4C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199-CD61-4CC8-AA43-312CF49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0FD8-AC02-4918-BED6-FDEB4328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6C5-5C5A-49B0-802C-2D48EDDB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7CD-3FA5-4F43-8048-667316CC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2481-C63C-4CA2-A629-07B8DED4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8714-927B-4D6D-A2AE-74B9CCD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5A56-8E67-4488-A8AC-EA9CF41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73F7-72CC-415D-9996-BF8A96F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E38E-0B9B-48EF-812E-C2AA857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46C-14AD-49F3-A2AD-2B3F24EA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C458-5CF4-4B3A-8536-DC827C33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DE79-E96A-42FC-8A78-62C0D0E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056F-74BE-468A-B7AF-BC17538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4BC8-A9FD-413D-829D-7D204B2B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0845-C0A1-4EA6-A00B-D427517B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DF71-9CF8-4D2F-A535-F51E7E76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7DA1-E634-410B-9E1B-7A402212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0E33-9F33-4C6A-A56E-03613E58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DA4B-D809-4FF4-B8AB-09F9599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ABE6-6B37-4E2E-9512-55F4843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4A7-B3AB-4635-9317-E482E4B7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C3B1-CA34-4840-B638-0CC9EF8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5619-2360-432D-B531-06808682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4862-AC70-4C5E-B721-8561C12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4B0F-0E01-4821-8232-168F2B7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A605-36B8-43FB-902B-D7E81C6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9C49-674A-4237-A807-57EFB47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8435-C13B-49F0-886A-2BBD18D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E3A0-257C-49B2-B2EC-934C85AD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8CD3-6699-4A2E-A14D-07C30EF7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C705-780B-46E3-9F13-9435A105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BDE-7C5E-437C-93F9-7418F8C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53CE-F929-45B1-8A2B-132489D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39A6-D08B-49B0-BE34-45FD42A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D82B-8BCC-408A-B5F8-0B09CBC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C43F-AE4F-462B-9C5F-13C631C5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03A1-5810-4B05-B498-03B9F270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E6C45-490D-4999-805F-D83A125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68BE-20B2-4127-8564-40B0553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D8A1-E6CC-408D-A879-C3241EF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2B38-63CD-45EE-A9F8-B7B087D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32458-AE2C-42E9-8DD6-33BF0E68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C9C-35EB-47E3-A160-3632766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6E0D-FCDF-4719-BA86-B393CDA5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51397-9E3D-4D96-9B3F-7CFB69EA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C81D-F04C-48B2-B449-C8CC012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5764-695A-4191-A9D1-77CD6E4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C40A-3D44-448A-A1BC-F04CFC3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0B8EF-4244-43F0-A084-CBE769BA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D1E4-4F99-414C-9D15-0DDA8A5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FE5B-4988-4A7C-A7C7-DA2AE36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98B08-FE18-4A82-990A-DBCB0D8D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A48D-E440-49E8-AAF2-7113062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AC2-13AF-4378-8FCF-76CD3521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C9BB-999F-45FA-B7CC-A5F413A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5C66-DD22-4B3F-8C3B-23FEAB08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6B9CF-0049-450C-AC08-0E7A8307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6BF5-5F9E-4A91-92D5-4C3771C8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82751-D737-4E38-9D5C-0AA1679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0BE2-D881-4B00-8086-87326E3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D6E0-D25F-442E-A6E8-65B3BBE8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63DD-1BF0-4DEE-BDE0-5747666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FB11-A1F5-4373-B83A-376CD54F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B2CE-13B4-4BAD-B145-A1DDB68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BEF-5C8A-4A64-9AD5-632E26A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56EB-79F1-471C-BB67-A020206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E9C1-FFB5-416C-84AC-FC91DBF4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4A207-295D-4E87-91E3-58F9E8AE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3D93-9A35-4DBB-B8A0-B38B63FC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E7CF-0AC4-4CFC-A6AE-BC1BC453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2D5-E4E5-4ED6-8288-7E94086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4730F-1654-4CD4-BC4D-0117DE4C65F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CBEFF-8173-4681-99D5-50FA16DEAF7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04C54-ABB5-4C29-BBDA-A3E3F0EA26B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5A03C-2A4F-437A-BACA-A2DF4653B2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BF4F7-F200-4968-92B4-41B2C5FB6D7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A7F3C-0BFB-43AC-93BA-55AAC9369E8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1FA90-400C-4197-BCBE-91F09C4BBF3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EEA98-A1D9-4AE0-9F23-C8F7C819712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229C2-6E6D-4BF6-9475-C5F4628FCF5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0E3AC-01FE-49B8-8614-A5F184C09BB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35654-5489-4E91-93A8-0EE4C448A7D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A0AFC-BCAB-4733-9183-06F228B6902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F58D3-A01C-4F09-83AD-0247C8B3DE8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5E0BB-309D-493B-851F-84B4C0F707B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btitle 2"/>
          <p:cNvSpPr/>
          <p:nvPr/>
        </p:nvSpPr>
        <p:spPr>
          <a:xfrm>
            <a:off x="1981080" y="3962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mbria"/>
                <a:ea typeface="MS PGothic"/>
              </a:rPr>
              <a:t>Software E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4191120" y="6477120"/>
            <a:ext cx="3876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7DFFA-E1AB-45AD-8D4A-2BDB2B38F8E9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3366720" y="1550880"/>
            <a:ext cx="16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  <a:ea typeface="MS PGothic"/>
              </a:rPr>
              <a:t>Cod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34EFF-E9B1-47D1-8BD2-2C2D81C8F0B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04560" y="1752120"/>
            <a:ext cx="84582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structured construct should also have a clear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n, we can compose behavior of statements to understand behavior of pro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arbitrary single-entry-single-exit constructs will not hel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shown that a few constructs like while, if, and sequencing suffice for writing any type of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0921B-836B-4866-AE8B-8FB03E243A4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524A7-684C-479D-9C8C-16D5DB2B441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uctured programming (SP) was presented to help formal verification of pro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out linear flow, composition is hard and verification diffic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, SP also helps to simplify the control flow of programs, making them easier to understand and argue abou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 is an accepted and standard practice today – modern languages support it we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6C70D-F468-4EE8-9DB4-4EAAF21BAED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C8E7B-2F6B-4607-AF06-CDE75B23B92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534680"/>
            <a:ext cx="838224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solutions always contain data structures that hold inform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s work on these data structures to perform the functions they w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general, only some operations are performed on the information, i.e. the data is manipulated in a few ways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on a bank’s ledger, only debit, credit, check current balance etc. are d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D69FC-CE1D-45B0-8F5D-40CB5B69FB0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BAA5D-8037-4671-9978-534EDF2D838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– the information should be hidden; only operations on it should be ex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data structures are hidden behind the access functions, which can be used by program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reduces coupl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ractice is a key foundation of OO and components, and is also widely used toda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7CEBB-9E1D-4326-9C5A-DA22B7BC524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formation Hid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4D9C4-773B-4D48-893A-55FCF5CB2E7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use only a few structured constructs (rather than using a large number of construct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to: use them sparingly, and only when the alternatives are wor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: use information hi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-defined types: use these to make the programs easier to rea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3DA0B-CE69-40A6-866D-DE650139751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D8AEE-6BE8-4385-BFAE-CA2F9088227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sting: avoid heavy nesting of if-then-else; if disjoint nesting can be avoi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ule size: should not be too large – generally means low cohes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ule interface: make it sim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obustness: handle exceptional situ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effects: avoid them, docu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F1C8B-8CB5-42FD-B49F-5D6750A4B4D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1295280" y="811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1BD72-149E-4222-A6FC-AD939B083B7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pty catch block: always have some default action rather than emp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pty if, while: bad practi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 return: should be checked for robust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turn from finally: should not return from fin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lated parameters: should check for compat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3A991-0736-48EB-BC15-E7FD3DEB3E1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1295280" y="811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CDA38-39F2-4C7C-A108-AB544AA08E1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mers spend more time reading code than writing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read their own code as well as other programmers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ability is enhanced if some coding conventions are followed by 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standards provide these guidelines for programm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 are regarding naming, file organization, statements/declarations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Java conventions discussed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263B8-64CE-4FF1-A8F2-4A34354E530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481120" y="5716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FE723-E1B5-47B2-A9D5-89D602ADDB3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1346040"/>
            <a:ext cx="824544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ming conven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ckage name should be in lower case (mypackage, edu.iitk.math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ype names should be nouns and start with uppercase (Day, DateOfBirth, …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riable names should be nouns in lowercase; variables with large scope should have long names; loop iterators should be i, j, k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nstant names should be all uppercase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thod names should be verbs starting with lower case (eg getValue()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efix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hould be used for boolean metho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3525D-9F42-4ACD-A854-5428086D79E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1F895-469F-43F0-830A-55C2348E962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46040"/>
            <a:ext cx="824544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files should have .java extens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file should contain one outer class and the name should be same as fi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ne length should be less than 80; if longer continue on another line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38F9E-EB0E-48B3-9777-0DF88313C7C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6F1ED-B778-4AE5-BE50-12FA798E9D3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09480" y="1523880"/>
            <a:ext cx="794088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goal of coding is to implement the design in the best possible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affects testing and mainten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 testing and maintenance costs are high, aim of coding activity should be to write code that reduces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goal should not be to reduce coding cost, but testing and maintenance cost, i.e. make the job of tester and maintainer easi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242C8-9403-46CC-95B4-D97A1D15820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AF835-8D6E-4590-BD70-2E03154FBB0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04560" y="1346040"/>
            <a:ext cx="845820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ables should be initialized where declared in the smallest possible sco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clare related variables together; unrelated variables should be declared separate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variables should never be declared publ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op variables should be initialized just before the loo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using break and continue in loo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executable statements in conditiona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using the do… while constru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9AF66-4264-4FE9-8E8F-A5E026175B7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6B5CE-130A-4AC3-B900-E8C8495935A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1147680"/>
            <a:ext cx="824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enting and layo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ngle line comments for a block should be aligned with the code blo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should be comments for all major variables explaining what they repres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mment block should start with a line with just /* and end with a line with */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iling comments after statements should be short and on the same li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3EC7C-718C-4461-8C17-E00CDFFF255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2452680" y="563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D916C-B9B7-4963-8AA1-D80829C9F1D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28600" y="1752120"/>
            <a:ext cx="86868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starts when specs for modules from design is avail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modules are assigned to programmers for co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op-down development, top level modules are developed first; in bottom-up lower levels modules are developed fir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coding, developers use different processes; we discuss some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7F83D-2CC6-4D13-8AD0-3F8EBFFA0D6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74991-9F50-497E-9D2B-2E1B4ECEC6E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04920" y="2209320"/>
            <a:ext cx="82454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process: write code for the module, unit test it, fix the bu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better to do this incrementally: write code for part of functionality, then test it and fix it, then proce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code is built for a module incrementall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8BE99-D250-4C71-88CE-7FD7CAC1EC6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4FA2F-9DB8-44D7-81AD-39156A1EECC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63600" y="1612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 Incremental Cod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67B58-057A-4BD8-92F4-C23B33F1BC2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32233-7062-495C-A5E4-A158598C3D8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6" descr="Fig9-1"/>
          <p:cNvPicPr/>
          <p:nvPr/>
        </p:nvPicPr>
        <p:blipFill>
          <a:blip r:embed="rId1"/>
          <a:stretch/>
        </p:blipFill>
        <p:spPr>
          <a:xfrm>
            <a:off x="2590920" y="1249200"/>
            <a:ext cx="5638680" cy="52135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3979800" y="11916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371600" y="78732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 Incremental Coding Proces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04920" y="2285640"/>
            <a:ext cx="824544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coding process changes the order of activities in coding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 TDD, programmer first writes the test scripts and then writes the code to pass the test cases in the scrip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is done incrementally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is a relatively new approach, and is a part of the extreme programming (XP)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24CEB-B063-4E14-A0AA-4734D40936F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2428920" y="6667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71C9F-242C-434F-9742-8CAE2FC6526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04920" y="145908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(T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2209320"/>
            <a:ext cx="82454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DD, you write just enough code to pass the te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code is always in synchronization with the tests and gets tested by the test cas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 true in code first approach, as test cases may only test part of functionality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ponsibility to ensure that all functionality is there 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n test case design, not coding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 to ensure that all code is testabl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96770-5835-456D-A718-E79E3EF5BB1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9B7FA-A223-4676-A898-4F513079BF5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298440" y="146052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2057400"/>
            <a:ext cx="82454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shifts to how code will be used as test cases are written fir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to validate user interfaces specified in the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es on usage of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unctionality prioritization happens natur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possibility that special cases for which test cases are not possible get left ou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mprovement through refactoring will be needed to avoid getting a messy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2D3FF-26F9-4887-82BE-69D7EE56081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2778120" y="650880"/>
            <a:ext cx="53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5CC07-78BD-4495-BAF2-81CCC1ADE14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04920" y="132084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560" y="2057400"/>
            <a:ext cx="84582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lso a coding process that has been proposed as key practice in X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s written by pair of programmers rather than individua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pair together design algorithms, data structures, strategies, et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person types the code, the other actively reviews what is being typ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rrors are pointed out and together solutions are formula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oles are reversed periodical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43E6-803F-42C0-AC02-1E750E1519D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2854440" y="550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854FE-C1A7-49B8-A04F-A16EA66F862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04920" y="130500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air Programm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04920" y="2057400"/>
            <a:ext cx="82454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air programming has continuous code review, and reviews are known to be effectiv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tter designs of algorithms/ data structures/ logic/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al conditions are likely to be dealt with better and not forgotte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may, however, result in loss of productiv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wnership and accountability issues are also t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ffectiveness is not yet fully kn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EC3CC-7E6C-4488-ADEF-F61E70A51C0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2854440" y="550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BE206-34CA-4105-87C8-67274947E1D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04920" y="130500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air Programming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09480" y="1219320"/>
            <a:ext cx="7940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s read a lot mo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ders themselves read the code many times for debugging, extending et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tainers spend a lot of effort reading and understand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ther developers read code when they add to exist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code should be written so that it is easy to understand and read, not easy to write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63F82-A535-403D-B262-21DBC3BEF6F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3017880" y="56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E5A55-A563-4C68-93FB-DA1CEC5D644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1599840"/>
            <a:ext cx="824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code control is an essential step programmers have to d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, tools like Concurrent Version System (CVS), Visual Source Safe (VSS) ar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tool consists of repository, which is a controlled directory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pository is the official source for all the code fi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build is done from the files in the repository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ol typically provide many commands to programm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5EE60-96DB-4418-98A4-AEF64045155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2133720" y="6588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urce Code Control and Bui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B5623-3D42-48E3-838B-91D8A191978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523520"/>
            <a:ext cx="8245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out a file: by this, a programmer gets a local copy that can be mod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 in a file: changed files are uploaded in the repository and change is then available to 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ols maintain complete change history and all older versions can be recove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code control is an essential tool for developing large projects and for coordin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5DF21-C461-4390-8458-FC03DCC9F5F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urce Code Contro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BDE7F-4DAF-410D-AAB9-8BBDC34691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04920" y="1523520"/>
            <a:ext cx="8245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has to be verified before it can be used by oth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re we discuss only verification of code written by a programm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many different techniques; key ones – unit testing, inspection, and program check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 checking can also be used at the system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F9D6B-5723-4601-9596-CE2ADEF82B8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Verifi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06FDB-E7B7-40F0-9C3F-5DD2F48500E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04920" y="1355760"/>
            <a:ext cx="85341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inspection process can be applied to code with a great effective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pections held when code has compiled and a few tests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static tools are also applied before inspec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pection team focuses on finding defects and bugs in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lists are generally used to focus the attention on def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980D9-A71A-456E-8AC1-F16BB85C1B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2562120" y="57636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70EC3-01F8-4F71-B596-B5810A2AFCA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items in a checkli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o all pointers point to someth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all variables and pointers initializ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all array indexes within bound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ill all loops always terminat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y security fla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s input data being check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bvious inefficienci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B2E03-7A97-4688-BABC-CE921164E71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D8542-B008-4121-8AE3-8FCD88B5C60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nspections are very effective and are widely used in indust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lso expensive; for non critical code one person inspection may b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reading is self inspe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structured approach is where code is read inside-o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lso very effectiv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80E05-2778-4EB9-9DEA-020366CB29E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225DF-5E7F-4EA7-9BBA-030F11A1B8B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esting, except its focus is on the module a programmer has writte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often UT is done by the programmer himself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T will require test cases for the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T also requires drivers to be written to actually execute the module with test c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sides the driver and test cases, tester needs to know the correct outcome as well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DE286-F0C3-4595-A653-6AD22A9ADA1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D45C2-DF75-43A7-A0E5-F4552076683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incremental coding is being done, then complete UT needs to be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therwise, repeatedly doing UT will not be possi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tools available to hel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vide the driver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est cases are programmed, with outcomes being checked in them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UT is a script that returns pass/fai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46B2C-209C-43B9-9B74-F2EC00E9BF9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F1BF9-427D-4A7A-AAFE-95F516B511F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frameworks like Junit that can be used for testing Java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test case is a method which ends with some asser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assertions hold, the test case pass, otherwise it fai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 execution and evaluation of the test cases is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nhancing the test script, additional test cases can be added easi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49042-05A7-4DCC-B77A-906C80BF030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97906-AC32-4D15-9ABA-17D93D35C8A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152280" y="1245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pproaches aim to prove the correctness of the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the program implements its specific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 formal specifications for the program, as well as rules to interpret the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was an active area of research; scalability issues became the bottlene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mostly in very critical situations, as an additional approac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1195E-AD71-4F63-B78C-CEC74421871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3433680" y="380880"/>
            <a:ext cx="44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Formal Verifi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0F2E7-1E21-4953-927B-19360E7870B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09480" y="1219320"/>
            <a:ext cx="7940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ing a clear goal for coding will help to achieve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inberg experiment showed that coders achieve the goal they s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ifferent coders were given the same probl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ut different objectives were given to different programmers – minimize effort, minimize size, minimize memory, maximize clarity, maximize output clarit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nal programs for different programmers generally satisfied the criteria given to th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5D25F-F87D-4B54-807F-2E529B24828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3017880" y="56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3B081-A555-4906-8A8F-E0958E3FD5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C or KLO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n-commented, non blank lines is a standard defini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 only new or modified lines are coun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heavily, though has shortcomin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B5182-CD1C-40D1-9633-76CC7D14C91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3433680" y="380880"/>
            <a:ext cx="44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C38FF-F05D-40B5-B6D9-1223434946E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14302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lstead’s Volum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1: no of distinct opera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2: no of distinct operan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1: total occurrences of opera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2: Total occurrences of operan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ocabulary, n = n1 + n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ngth, N = N1 + N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olume, V = N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17781-3367-433E-A7D1-8DECB485A4B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3046320" y="67464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Siz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E9ABB-E35B-4764-A09A-4FF83D8A1E4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51920" y="1402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yclomatic complexity is perhaps the most widely used measure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represents the program by its control flow graph with e edges, n nodes, and p par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yclomatic complexity is defined as V(G) = e-n+p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is same as the number of linearly independent cycles in the graph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And it is the same as the number of decisions (conditionals) in the program plus one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05ADA-C87C-471C-816C-0216955485D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854A0-4365-4F8D-88B0-7323A811AA2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6840" y="1828440"/>
            <a:ext cx="80931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=1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 (i&lt;=n) 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J=1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(j &lt;= i) 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(A[i]&lt;A[j]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wap(A[i], A[j]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J=j+1;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= i+1;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FC299-C44D-4F6E-A775-A62F3E56619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1981080" y="67464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yclomatic complexity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9F5E5-E90D-4E31-9506-ABCD2446C3B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1D94D-AE55-4B4A-B647-E251EA2ABF0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1981080" y="67464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yclomatic complexity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CBBCB-CD4E-4861-AE5A-3D0833EE1C3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Picture 5" descr="Fig8-9"/>
          <p:cNvPicPr/>
          <p:nvPr/>
        </p:nvPicPr>
        <p:blipFill>
          <a:blip r:embed="rId1"/>
          <a:stretch/>
        </p:blipFill>
        <p:spPr>
          <a:xfrm>
            <a:off x="1143000" y="1523880"/>
            <a:ext cx="673740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30" name="Straight Arrow Connector 5"/>
          <p:cNvCxnSpPr/>
          <p:nvPr/>
        </p:nvCxnSpPr>
        <p:spPr>
          <a:xfrm flipV="1">
            <a:off x="4647960" y="384768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0520" y="1550520"/>
            <a:ext cx="8169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(G) = 10-7+1 =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ependent circui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 c e 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 c d e 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b f 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 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of decisions is 3 (while, while, if); complexity is 3+1 =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F8BDE-790C-4BA5-9190-BDD410F5F7A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Exam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5DAF2-7B54-4486-AACA-C7A34049684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0520" y="1550520"/>
            <a:ext cx="8169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of coding is to convert a design into easy to read code with few bu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od programming practices like structured programming, information hiding, etc. can hel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many methods to verify the code of a module – unit testing and inspections are most commonly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ze and complexity measures are defined and often used; common ones are LOC and cyclomatic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E486-6328-411B-B898-DD2648949E3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37ED7-B209-4859-A5EA-B195849EA0D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228600" y="1544760"/>
            <a:ext cx="86104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Goal of programmer is to write quality code with few bugs in i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Much of effort in developing software goes in identifying and removing bug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ommon bugs which occur during coding directly or indirectly manifest themselves to a larger damage to the running progra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st of common coding errors can help a programmer to avoid the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488FE-593B-4C0B-B044-EDF275B77D7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mon Cod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8F984-3C8A-4C67-A109-8385FEAF5C5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228600" y="15447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memory leak is a situation, where the memory is allocated to the program which is not freed subsequent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ccurs frequently  in the languages which do not have automatic garbage collec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an cause increasing usage of memory which at some point of time can lead to exceptional halt of the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 char* foo(int 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*output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f(s&gt;0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utput=(char*) malloc (size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f(s==1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eturn NULL /* if s==1 then mem leaked */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eturn (output)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04BF5-DE52-44FE-9BE9-B4317F7FB6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mory Lea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371EC-60DA-4502-B09E-85F76DFA90C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228600" y="15447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grammer tries to free the already freed resourc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y be serious, if some malloc between the two free stmts as  the freed location may get allocated to a new variable, and subsequent free will deallocate the new vari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ar *str;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tr=(char *)malloc(10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f(global==0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ree(str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ree(str); /* str is already freed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311CF-7502-4FA7-A0A5-5953BEABF90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982800" y="85248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Freeing an Already Freed Re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0BC3E-0A17-435C-8195-ECA28D2E3F4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39996-C5C6-4665-ADE8-0C26D603230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676520" y="969840"/>
            <a:ext cx="50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Weinberg Experiment.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E2C58-353C-4DED-AAA2-D09F4B714F0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93640" y="2208240"/>
          <a:ext cx="7772400" cy="3087720"/>
        </p:xfrm>
        <a:graphic>
          <a:graphicData uri="http://schemas.openxmlformats.org/drawingml/2006/table">
            <a:tbl>
              <a:tblPr/>
              <a:tblGrid>
                <a:gridCol w="3465720"/>
                <a:gridCol w="43066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sulting Rank (1=b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1        o2        o3         o4        o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Effort (o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program size (o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memory (o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ximize code clarity (o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ximize output clarity (o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          4          4           5       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-3       1          2           3       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          2          1           4         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          3          3           2       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-3       5          5           1    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11476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ccurs when we access a location that points to NULL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mproper initialization and missing the initialization in different paths leads to the NULL reference erro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an also be caused by aliases- for e.g two variables refer to same object, and one is freed and an attempt is made to dereference the secon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char *ch=NULL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f (x&gt;0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=‘c’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intf(“\%c”. *ch);  /* ch may be NULL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*ch=malloc(size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=‘c’; /* ch will be NULL if malloc returns NULL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7B94A-5E39-4302-8548-92A7DA7340D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2895480" y="56340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NULL Dereferen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C5F5D-859D-46F4-BA0E-016162DDD1D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LL dereference is the error of accessing initialized memo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occurs if data is initialized in most cases, but most cases do not get cove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switch(i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ase 0: s=OBJECT_1; break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ase 1: s=OBJECT_2; break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turn (s); /* s not initialized for values other than 0 or 1 */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50475-A2E3-4000-B8E2-13AA76110E2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2057400" y="563400"/>
            <a:ext cx="61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NULL Dereferenc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C4FEE-0540-446D-8E57-F935D029095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62080" y="133020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Accessing Uninitialize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28600" y="1823760"/>
            <a:ext cx="8686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iasing creates many problems; among them is violation of unique addresses when we expect different addre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xample, in the string concatenation function, we expect source and destination addresses to be differ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cat (src , destn )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/* In above function , if src is aliased to destn,  then we may get a runtime error */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25786-C930-4C76-BF0E-F0D3C75AE9C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2057400" y="746280"/>
            <a:ext cx="61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Lack of Unique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EFEF6-6E83-4861-A0A1-3C5E4AB117F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28600" y="1473120"/>
            <a:ext cx="8686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ssible when there are multiple threads which are accessing some common resources, in a parallel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ree categories of synchronization errors: deadlocks, race condition, live lock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adlock exampl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1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A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B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2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B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C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3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C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A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7C35D-89EA-44B0-A2E3-F202D5A8134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362320" y="700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ynchronizat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A7EA2-BAB6-4F82-8BDC-BCD0E70A30B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228600" y="1411200"/>
            <a:ext cx="86868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security vulnerability, can be exploited by executing arbitrary code by a malicious us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s1 [1024]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void mygets ( char *str ){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 ch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while (ch= getchar () != ‘\n’ &amp;&amp; ch != ‘\0 ’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*( str ++)= ch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*str = ‘\0 ’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in (){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s2 [4]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ygets (s2 )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we have malicious code in s1 and if return address of mygets() is replaced by this address by overflowing the buffer s2, then we can have the code in s1 execut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ED5AA-1BF8-4E1B-957B-E065DD5D17E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2666880" y="603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uffer Over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6FEA1-70F3-4678-B043-FC484B2590D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rray index out of bounds, care needs to be taken to see that the array index values are not negative and do not exceed their boun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numerated data types can lead to overflow and underflow errors, care should be taken while assuming the values of such typ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ypedef enum {A, B,C, D} grade 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void foo( grade x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t l, m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l = GLOBAL_ARRAY [x -1]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Underflow when A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= GLOBAL_ARRAY [x +1]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Overflow when D and size of array is 4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71B0-4AB8-4BF0-BCAA-E42F0DC95AA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1905120" y="71136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Common Types of Err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8C82E-513D-43AF-AB37-02CC0B93A5F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ithmetic exceptions, include errors like divide by zero and floating point excep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f by one errors like starting variable at 1 instead of starting at 0 or vice versa, writing &lt;= N instead of &lt; N or vice versa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ing handling errors like failure of string handling functions e.g. strcpy, sprintf, gets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llegal use of &amp; instead of &amp;&amp;, arises if non short circuit logic (like &amp; or |) is used instead of short circuit logic (&amp;&amp; or ||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(object != null &amp; object.getTitle() != null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Here second operation can cause a null dereference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57905-967E-4856-B6B1-8E2D12BCB41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1905120" y="711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Common Types of Error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7E29F-D1FC-435B-96E4-C8121525F2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920" y="1397160"/>
            <a:ext cx="86104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ltimate goal of verification techniques is to make programs correct by removing error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ving a program as correct while developing it may result in more reliable program that can be proved more easi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y proof technique must begin with a formal specification of the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ting the goal of the program is not sufficien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put conditions in which the program is to be invoked (pre conditions) and expected valid results (post conditions) should also be mention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70c0"/>
                </a:solidFill>
                <a:latin typeface="Cambria"/>
              </a:rPr>
              <a:t>Try to check the methods used to prove correctnes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A74B5-554E-4E23-81C5-E39F6487058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2743200" y="6429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Proving Correctn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5B01E-6E77-41F2-B54A-5AEFE5EEF33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609480" y="1676520"/>
            <a:ext cx="7940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ain goal of the programmer is to write simple and easy to read programs with few bugs in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course, the programmer has to develop it quickly to keep productivity hig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various programming principles that can help write code that is easier to understand (and test…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489FD-D2A9-4B64-B007-5D8A62CF99D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Programm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B888F-CEC8-4DC1-9E49-FF7C5272174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520" y="1371240"/>
            <a:ext cx="816948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 program has a static structure which is the ordering of statements in the code – and this is a linear order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program also has dynamic structure – the order in which statements are execu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oth dynamic and static structures are ordering of stat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how a program as correct, we must show that its dynamic behavior is as exp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955DC-D07E-416F-B71B-C9948FC7DAB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057400" y="68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5BC02-AA20-4332-AA9F-8489E0AA3D2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520" y="1828440"/>
            <a:ext cx="8169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of structured programming is to write programs whose dynamic structure is the same as stat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statements are executed in the same order in which they are present in the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 statements are organized linearly, the objective is to develop programs whose control flow is linea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B33F5-6D4D-4608-BC2E-D79BFEB8444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3E463-DB15-47E3-9469-B494ED5D956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0520" y="1447560"/>
            <a:ext cx="8169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ingful programs cannot be written as sequence of simple stat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achieve the objectives, structured constructs are to b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re single-entry-single-exit constru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these, execution of the statements can be in the order they appear in the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ynamic and static order becomes sa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AEF1E-38F2-4167-8AF8-E8DB903272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846440" y="746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46723-08E2-40B2-9600-0AC91EC7DFD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4:53:24Z</dcterms:created>
  <dc:creator>Raju</dc:creator>
  <dc:description/>
  <dc:language>en-US</dc:language>
  <cp:lastModifiedBy>user</cp:lastModifiedBy>
  <dcterms:modified xsi:type="dcterms:W3CDTF">2020-04-27T06:03:49Z</dcterms:modified>
  <cp:revision>110</cp:revision>
  <dc:subject/>
  <dc:title>Introduction</dc:title>
</cp:coreProperties>
</file>