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332-F4C4-4A47-A9EE-69BAB2CA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E25-3EE0-4F79-8308-72371933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597-B6B8-44DE-B820-5AEDCE0D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422-A0D8-41E1-BBD8-84BD65DE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9A9C-0113-4F51-8504-6CDBEEEE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5310-86EB-4F90-B3AF-0160B5AF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26EA-D4D8-4BEE-95A0-BBDA77F1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32A1-B563-4570-8309-5DA2B457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3D70-5ACB-44BF-9AD8-D5B4FC8D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2384-FAAE-4145-A6C7-5F40B80F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179C-50C8-450C-8012-A4AE463F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77A4-D51B-4BD1-B1C8-91628DF0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739A-D3D0-4EA7-BD7D-E5AC3F5F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9B19-22F3-4FC9-BD5B-DC766945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820A-EDCE-459D-B3C9-93F24BD4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FFEA-796B-4297-83F6-5C996450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5B48-2D7D-43E8-AB2C-51F1F984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B7FDC-B771-4F26-96AF-9A1FAA2D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72A4D-7BB7-44F3-83C5-F12879DA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A50CA-F0A1-4F34-91D9-B4994290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21D3F-CEF9-4197-8F18-1E85ED39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11AD9-7C6C-4629-A61F-5525A343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067-57D9-45E1-BB74-09629671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E42B4-CBF9-45A8-8653-AEC0938D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2C22C-5BEA-4961-8FAF-61890A8B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5DB4E-9AA8-4F60-BE19-AA9BF79D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11A45-749B-4A5E-8C99-091125A0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4AE33-B0A9-45C8-8842-33D7F09F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DBEEC-3CA8-44C0-92DB-1D50DA69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8319C-77E2-4D2A-AA32-486CBB5C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C1197-D988-47DF-BEF6-76920291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9B6B5-8F6A-43D1-B713-055989B1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93B67-2AB8-4C1B-8CEF-63FB3C0B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D0B-2D22-4687-ABA5-6523DB6E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B7B16-1421-410B-BE28-B833C055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21908-7D85-4B07-A4FA-7A44C603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A75AA-6B28-441D-BE7F-02965ACC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E17AD-AC38-41EC-97F6-24FE4DCE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AA130-2492-471E-8A01-96CEC059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08081-9A62-4CE7-ABD6-DD47B8C7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3A0FE-7D96-4395-8E2A-B004D9B7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42BFB-8D57-458E-B48C-9F4F27E7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E5CED-3A6E-4C68-89A3-F6F5817E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FD4B7-81F8-422B-9765-6EEB2311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531-EC14-49A6-9320-17B80BA7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9CE1B-55E9-406C-8AF4-DF599F0F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6ACC5-8B1C-419A-89B3-B2FB70C8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07D94-0132-4DEF-BF35-CC1DF89B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75874-A501-43CA-BEDF-C29A6166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71D7A-3FAE-4861-B61B-E10E6429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1063F-6D73-4593-B24E-24297AEA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24C4E-E0C3-403C-B629-DAD92496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9EE6B-CB54-4A0A-84D7-A6B9A1E4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3C9DD-EADE-44AD-B381-D873889E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F3AC4-5555-414F-87A5-E50E8599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979-65C3-4BE5-9A06-7FA232C3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5B0FC-BF48-422B-96CC-84AEBD41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E58DD-34E0-4FCA-BE9D-1DDA24CB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58449-F347-4E05-8FAD-FA1829F3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E9262-5953-4374-B204-9C3E54D5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8E102-EC88-4988-BFEE-6B6D305F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5D347-AB29-48C3-834D-F500B1F7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41E22-30BD-4C0F-8735-83304CFB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859C6-3B74-466A-B739-76865FC7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FACD3-64F5-43A3-B17C-68797BAE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6324E-491F-4614-8675-0A97C604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CDF-AB61-4AB8-A7A8-832570F2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E4905-5106-4799-BE17-5BF5CFC0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5B3B4-B356-4612-9E4B-6AFD1A75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63DE5-B83F-4D42-BA87-D2751BBD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7BCEA-21AE-49A9-9ABD-0DA7C1E5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E1B50-B63B-45FC-8D41-CDE20CF5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16282-FAAC-4E4B-AC14-799B5011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51EAC-FFC6-4713-AF25-EA091FC2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6EC4D-A250-4B40-91BF-BC2AF48D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C0659-0EB9-41AC-9448-980EC9C6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33A99-8D64-4DD9-BEB4-75240621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F7B6-4570-41C1-AC30-C1D2D326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A4223-588C-4619-B1D2-3FAD1BBC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CC889-88B6-4BCF-BA34-D31B0570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8A814-C7EE-4272-A0B2-C166B581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D36A6-7286-4506-92CE-DAB113E8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35F02-959B-4C76-BC02-60AD8077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C84-A8C6-4458-8299-4CFDCCFA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14644-8BDC-420D-B60D-972B32432656}" type="datetime2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D6308-52B3-40A8-924C-542585CA0BC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66073-1E8B-4D30-A700-AF4E10A5FDE3}" type="datetime2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470F6-DB62-48C7-9C41-4225975A4739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74F74-63EC-4B53-9C51-ACE68C801686}" type="datetime2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747BA-3F1B-4F44-8FB9-5555AEDC9EC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52B78-20BC-47FA-8D56-72B90F423509}" type="datetime2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42400-252A-4046-B28F-66DC5FB15491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mbri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mbri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2386A-10DA-40A9-968C-80933A927C54}" type="datetime2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3220A-6EA5-432C-A5A1-33A098327758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E1F19-1269-4FA5-91D1-B4109D084711}" type="datetime2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EA20D-9CDC-4D4E-B06B-53C88F9287E0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332AD-71C5-4403-8398-8A18C019C36A}" type="datetime2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AD001-0766-4756-BECB-8F2179F0F6F1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ubtitle 2"/>
          <p:cNvSpPr/>
          <p:nvPr/>
        </p:nvSpPr>
        <p:spPr>
          <a:xfrm>
            <a:off x="1981080" y="3935520"/>
            <a:ext cx="50371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100" spc="-1" strike="noStrike">
                <a:solidFill>
                  <a:srgbClr val="00b050"/>
                </a:solidFill>
                <a:latin typeface="Cambria"/>
              </a:rPr>
              <a:t>Software Engineering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Date Placeholder 5"/>
          <p:cNvSpPr/>
          <p:nvPr/>
        </p:nvSpPr>
        <p:spPr>
          <a:xfrm>
            <a:off x="4343400" y="6454800"/>
            <a:ext cx="37242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D2F71-DC9D-4D46-940B-6E19574A54EA}" type="datetime2">
              <a:rPr b="1" lang="en-US" sz="2400" spc="-1" strike="noStrike">
                <a:solidFill>
                  <a:srgbClr val="ff0000"/>
                </a:solidFill>
                <a:latin typeface="Cambria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1669680" y="1143000"/>
            <a:ext cx="50835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Cambria"/>
              </a:rPr>
              <a:t>Software Requirements 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Cambria"/>
              </a:rPr>
              <a:t>Analysis and Specification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94EED-E1F3-4E8C-A8F3-7310DE57B92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09480" y="1295280"/>
            <a:ext cx="7940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ment process includes sequence of steps that need to be performed to convert user needs into S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requirement process has to elicit needs and requirements and clearly specifies i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asic activiti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roblem or requirement analysi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quirement specific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valid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alysis involves elicitation and is the hardes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4D8FE-C053-4FDA-B7EE-E825EBA1279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Rectangle 1"/>
          <p:cNvSpPr/>
          <p:nvPr/>
        </p:nvSpPr>
        <p:spPr>
          <a:xfrm>
            <a:off x="3168720" y="44460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Requirement Proces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E6537-48F5-4C0F-87AD-99CE1EBBCD4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Oval 4"/>
          <p:cNvSpPr/>
          <p:nvPr/>
        </p:nvSpPr>
        <p:spPr>
          <a:xfrm>
            <a:off x="1905120" y="1523880"/>
            <a:ext cx="15238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3962520" y="2438280"/>
            <a:ext cx="1752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3962520" y="3276720"/>
            <a:ext cx="1752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962520" y="4267080"/>
            <a:ext cx="1752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Line 8"/>
          <p:cNvSpPr/>
          <p:nvPr/>
        </p:nvSpPr>
        <p:spPr>
          <a:xfrm>
            <a:off x="48006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480060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Line 10"/>
          <p:cNvSpPr/>
          <p:nvPr/>
        </p:nvSpPr>
        <p:spPr>
          <a:xfrm>
            <a:off x="4800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Line 11"/>
          <p:cNvSpPr/>
          <p:nvPr/>
        </p:nvSpPr>
        <p:spPr>
          <a:xfrm>
            <a:off x="3429000" y="19810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Line 12"/>
          <p:cNvSpPr/>
          <p:nvPr/>
        </p:nvSpPr>
        <p:spPr>
          <a:xfrm flipH="1">
            <a:off x="3580920" y="3505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Line 13"/>
          <p:cNvSpPr/>
          <p:nvPr/>
        </p:nvSpPr>
        <p:spPr>
          <a:xfrm flipV="1">
            <a:off x="3581280" y="2666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7" name="Line 14"/>
          <p:cNvSpPr/>
          <p:nvPr/>
        </p:nvSpPr>
        <p:spPr>
          <a:xfrm>
            <a:off x="3581280" y="2666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8" name="Line 15"/>
          <p:cNvSpPr/>
          <p:nvPr/>
        </p:nvSpPr>
        <p:spPr>
          <a:xfrm>
            <a:off x="57150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Line 16"/>
          <p:cNvSpPr/>
          <p:nvPr/>
        </p:nvSpPr>
        <p:spPr>
          <a:xfrm flipV="1">
            <a:off x="6172200" y="2666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Line 17"/>
          <p:cNvSpPr/>
          <p:nvPr/>
        </p:nvSpPr>
        <p:spPr>
          <a:xfrm flipH="1">
            <a:off x="57150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Line 18"/>
          <p:cNvSpPr/>
          <p:nvPr/>
        </p:nvSpPr>
        <p:spPr>
          <a:xfrm flipH="1">
            <a:off x="571500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D8C0F-8DFB-4AA0-963A-7676FC93FEB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Rectangle 1"/>
          <p:cNvSpPr/>
          <p:nvPr/>
        </p:nvSpPr>
        <p:spPr>
          <a:xfrm>
            <a:off x="3168720" y="44460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Requirement Proces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0198B-474C-477E-A468-A395A84CAD7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593640" y="1371240"/>
            <a:ext cx="795672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cess is not linear, it is iterative and paralle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may be overlap between phases - some parts may be analyzed and specifi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pecification itself may help analysi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alidation can show gaps that can lead to further analysis and specific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A8BC1-1258-4100-BEC1-6AB65145B5F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8" name="Rectangle 1"/>
          <p:cNvSpPr/>
          <p:nvPr/>
        </p:nvSpPr>
        <p:spPr>
          <a:xfrm>
            <a:off x="3168720" y="44460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Requirement Proces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5ED20-75FD-405E-BA2C-987E47D9C7B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6854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Focus of analysis is on understanding the desired systems and it’s requirement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Divide and conquer is the basic requirement strategy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decompose the general problem into small parts, understand each part and the relation between part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Large volumes of information is generated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organizing them is a key task. 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Techniques like data flow diagrams, object diagrams etc. used in the analysis task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B3D7A-0F86-45C0-8D9E-93C0BE15CE0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3168720" y="44460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Requirement Proces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5CD0F-35E4-4498-83BD-33DA89D6331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858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im: to gain an understanding of the needs, requirements, and constraints on the softwar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nalysis involve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terviewing client and us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ading manual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udying current system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lping client/users understand new possibiliti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ike becoming a consultan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t is necessary to understand the working of the organization, client and user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7F1BB-2B07-4437-BDF1-1E4E443F957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Rectangle 1"/>
          <p:cNvSpPr/>
          <p:nvPr/>
        </p:nvSpPr>
        <p:spPr>
          <a:xfrm>
            <a:off x="3168720" y="44460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blem Analysis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3663E-B6A2-4931-B071-AC25D638FB1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609480" y="1092240"/>
            <a:ext cx="794088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me issu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btaining the necessary inform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rainstorming: interacting with clients to establish desired properti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formation organization, as large amount of information gets collect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nsuring completenes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nsuring consistenc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E0E15-9864-4518-9C83-2784FE26B76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168720" y="44460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blem Analysi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8B00C-4DBE-4DA8-B969-3E686B8D5F7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Communication skills are very important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Basic principle: problem partition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Partition with respect to what?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Object - OO analysis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Function  -  structural analysis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Events in the system – event partitioning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Projection - get different views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9C7BF-BF86-41C9-8DD5-47FF46FDB83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Rectangle 1"/>
          <p:cNvSpPr/>
          <p:nvPr/>
        </p:nvSpPr>
        <p:spPr>
          <a:xfrm>
            <a:off x="3168720" y="44460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blem Analysi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ED113-FDCF-4057-824C-897711B0165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97000" y="1447920"/>
            <a:ext cx="8550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 defined methodology; information obtained through analysis, observation, interaction, discussions, 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 formal model of the system is buil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obtained information is organized in the SRS which is reviewed with clie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formal approach relies on the analyst’s experience and feedback from clients in review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useful in many contex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24F60-56AD-412C-825C-716F4D22B00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Rectangle 1"/>
          <p:cNvSpPr/>
          <p:nvPr/>
        </p:nvSpPr>
        <p:spPr>
          <a:xfrm>
            <a:off x="1752480" y="7462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Informal Approach to Analysi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3451F-1B63-4A52-A5BD-2B83958DD0D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nambiguou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erifiabl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raceabl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difiabl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anked for importance and/or stabilit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74AFD-2547-466B-8DEA-558F82D687A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Characteristics of an S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6F7E6-2273-451F-AA25-B81A17DEA91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60912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orrectnes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ach requirement accurately represents some desired feature in the final system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ompletenes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ll desired features/characteristics specified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is the hardest characteristic to satisf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ompleteness and correctness are strongly relat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Unambiguous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ach requirement has exactly one meaning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ithout this, errors will creep in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mportant as natural languages often us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AFCD6-0B33-48EE-BF0E-8B5D34B1D3F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3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Characteristics of an SR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9C557-C221-4302-8735-2ECFDB206A7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09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Problem of scale is a key issue for software engineering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r small scale, understanding and specifying requirements is easy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r large problem - very hard; probably the  hardest, most problematic and error pron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: user needs in minds of peopl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: precise statement of what the future system will do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C81DE-420C-45A9-94B6-A4277F646B2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Rectangle 1"/>
          <p:cNvSpPr/>
          <p:nvPr/>
        </p:nvSpPr>
        <p:spPr>
          <a:xfrm>
            <a:off x="2743200" y="762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Background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4E546-8DB5-45AF-A1F3-91A86B9ED72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593640" y="1752120"/>
            <a:ext cx="795672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erifiabilit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re must exist a cost effective way of checking if a software satisfies requirement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wo requirements don’t contradict each other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raceabl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origin of the requirement, and how the requirement relates to software elements can be determined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anked for importance/stabilit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eeded for prioritizing in construction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reduce risks due to changing requirement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3ADB0-C585-4791-9114-7DC9C0DA601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8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Characteristics of an SR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DCFAF-3121-4D0E-91FB-4A8E9B780C0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60948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at should an SRS contain ?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arifying this will help to ensure completenes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n SRS must specify requirements on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esign constrai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xternal interfac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14613-53E7-4C02-8BAE-C87349BECAC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Components of an S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4F9DA-D902-4105-930B-A6292223D3D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60948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the heart of the SRS document; this forms the bulk of the specifica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specifies all the functionality that the system should suppor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utputs for the given inputs and the relationship between th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 operations the system will do are functional requireme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must specify behavior for invalid inputs too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290EA-B698-4871-919F-3D2015CE7C2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Functional Requiremen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77F71-366E-415B-B78A-1D41780E695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593640" y="1981080"/>
            <a:ext cx="795672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nclude all the performance constraints on the software system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enerally on response time, throughput etc. =&gt; dynamic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apacity requirements =&gt; static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ust be in measurable terms (verifiability)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97A84-878E-456E-927A-2EC32A2DFF9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erformance Requiremen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C952F-32CC-4FC6-BF21-3F5486E79E8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593280" y="1904760"/>
            <a:ext cx="80931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actors in the client environment that restrict the choic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me such restriction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ndard compliance and compatibility with other syste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rdware limitation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liability, fault tolerance, backup requiremen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A7818-E7B1-470D-A6C7-84FF583B985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Rectangle 1"/>
          <p:cNvSpPr/>
          <p:nvPr/>
        </p:nvSpPr>
        <p:spPr>
          <a:xfrm>
            <a:off x="1752480" y="83664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sign Constrain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4A827-38FB-468D-942A-A50C30930E4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 interactions of the software with people, hardware, and other softwa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r interface is the most importan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se should also be verifiabl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1C0A5-8501-431F-A509-E6A0D496E77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External Interfac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FAEB8-90C5-4A0C-83D7-DFB0141FC77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urpose, the basic objective of the syste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cope of what the system is to do, not to do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verall descriptio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duct perspectiv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duct function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r characteristic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3EB45-2A00-4A84-89D7-A8580645B8F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tructure of an SRS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72E6F-BB93-43C3-93C8-A171863D866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685440" y="18288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pecific requiremen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xternal interfac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unctional requirem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erformance requirem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esign constrai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standardization of the SRS was done by IEEE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49827-B251-449C-BF59-FD79F3D259A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tructure of an SRS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E5EDF-FE3C-4E79-A331-EDB7AFDC049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6840" y="1904760"/>
            <a:ext cx="80931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a traditional approach for function specifications – specify each func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 cases is a newer technique for specifying behavior (functionality) i.e. focuses on functional specifications on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ugh primarily for specification, it can be used in analysis and elicit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can be used to specify business or organizational behavior also, though we will focus on software.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ll suited for interactive syste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BD480-B08F-4546-A662-23BC8A4A834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8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8DA51-D669-45A3-B676-A8381155365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use case captures a contract between a user and system about behavio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asically, it is presented in a textual for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so it is useful in requirements elicitation as users like and understand the story telling form and react to it easi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11EB6-2E43-4F6E-B041-C5917274AC0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4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Basic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EAC0D-4E3B-4878-B08C-79A5A9D4E18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dentifying and specifying requirement necessarily involves people interac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ment analysis cannot be automa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ment (IEEE) = a condition or capability that must be possessed by a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ment phase ends with a software requirements specification (SRS) docume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RS specifies what the proposed system should do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05000-8846-46EC-A1C2-358B6494FD4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2743200" y="762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Background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65F80-E135-418B-A44F-238B3BE95F5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593280" y="1886040"/>
            <a:ext cx="80931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ctor: a person or a system that interacts with the proposed system to achieve a goa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.g. User of an ATM (goal: get money); data entry operator (goal: Perform transaction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ctor is a logical entity, so receiver and sender actors are different (even if the same person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imary actor: the main actor who initiates a use cas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Use case is to satisfy his goal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actual execution may be done by a system or another person on behalf of the Primary actor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99A39-113A-4686-B636-AF5585B0523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9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0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Basics …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0055C-882B-4078-87EC-AF769239C47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593640" y="1981080"/>
            <a:ext cx="795672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cenario: a set of actions performed to achieve a goal under some condi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ctions specified as a sequence of step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step is a logically complete action performed either by the actor or the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in success scenario – when things go normally and the goal is achiev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ternate scenarios: when things go wrong and goals cannot be achiev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0447C-8313-4CB9-A201-DBC5E2F779A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Basics …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2CC99-76CC-4BF8-BF39-64B0130525A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use case is a collection of many such scenario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scenario may employ other use cases in a step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.e. a sub-goal of a use case goal may be performed by another use cas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us, use cases can be organized hierarchical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3FBCA-4A14-4715-BFC2-0D173D55822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2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Basics …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FEC9F-8151-4F3C-BF64-97A702AC927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593640" y="1904760"/>
            <a:ext cx="795672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 cases specify functionality by describing interactions between actors and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cus on external behavio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 cases (UCs)are primarily textua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C diagrams show UCs, actors, and dependenci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y provide an overview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ory like description is easy to understand by both users and analys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y do not form the complete SRS, only the functionality par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3E343-6407-45B0-AD94-652562DC6D4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Basics …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FCEEA-CEF5-4C54-A988-12E635017FA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593640" y="1981080"/>
            <a:ext cx="795672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 Case 1: Buy stock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imary Actor: Purchas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oals of Stakeholders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urchaser: wants to buy stock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any: wants full transaction inform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econdition: User already has an accoun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15F09-B384-4556-8A28-440A010CF13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B0926-197F-4000-9C91-6E2692D6ACA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593640" y="1486080"/>
            <a:ext cx="795672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in Success Scenario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r selects to buy stock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ystem gets name of web site from user for trading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stablishes connec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r browses and buys stock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ystem intercepts responses from the site and updates user portfolio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ystem shows user new portfolio standing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E61FA-03B8-4285-B147-D7A7090DD60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9" name="Rectangle 1"/>
          <p:cNvSpPr/>
          <p:nvPr/>
        </p:nvSpPr>
        <p:spPr>
          <a:xfrm>
            <a:off x="2583000" y="56340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Rectangle 1"/>
          <p:cNvSpPr/>
          <p:nvPr/>
        </p:nvSpPr>
        <p:spPr>
          <a:xfrm>
            <a:off x="762120" y="9334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…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329D4D-827B-4F39-BD09-B459208DC7B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593640" y="1722240"/>
            <a:ext cx="7956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ternativ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a: System gives error message, asks for new suggestion for site, gives option to canc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3a: Web failure. 1-Sys reports failure to user, backs up to previous step. 2-User exits or tries agai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4a: Computer crash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4b: web site does not acknowledge purchas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5a: web site does not return needed inform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20898-065E-468D-B559-D9043B9983A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5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Rectangle 1"/>
          <p:cNvSpPr/>
          <p:nvPr/>
        </p:nvSpPr>
        <p:spPr>
          <a:xfrm>
            <a:off x="838080" y="119844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…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62313-86A9-4D11-A1A4-8062A10CB70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 Case 2: Buy a produc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imary actor: buyer/custom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oal: purchase some produc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econdition: Customer is already logged i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312BA-1D4A-4ECA-BC29-05868BB1CC9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1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2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02D8E-9187-486F-AADF-6B1B7725C1C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ain Scenario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ustomer browses and selects item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ustomer goes to checkou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ustomer fills shipping option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ystem presents full pricing inform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ustomer fills credit card inform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ystem authorizes purchas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ystem confirms sal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ystem sends confirming emai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AB0A7-981E-4B12-8199-45161B09933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2 …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78CC4-C6E6-4178-A188-0FCCF65CE88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593640" y="1793880"/>
            <a:ext cx="795672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lternative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6a: Credit card authorization fail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08440" indent="-2214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ows customer to reenter inform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3a: Regular customer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08440" indent="-2214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ystem displays last 4 digits of credit card numb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108440" indent="-2214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sks customer to OK it or change i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108440" indent="-2214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ves to step 6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2DAAE-95D8-44DC-928F-A74D75D7437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4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2 …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6FC33-78D0-45B5-B642-0F760B7B883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Requirements understanding is hard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isualizing a future system is difficul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apability of the future system will not be clear, hence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need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will not be clea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ments change with tim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t is essential to do a proper analysis and specification of requirement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010D5-3333-442A-82BE-FFC63E4CEAB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Rectangle 1"/>
          <p:cNvSpPr/>
          <p:nvPr/>
        </p:nvSpPr>
        <p:spPr>
          <a:xfrm>
            <a:off x="2743200" y="762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Background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B2A0D-E1D6-4960-BB30-B8E71CB30AA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0520" y="1584360"/>
            <a:ext cx="8534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Use Case1: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Put an item for auc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Primary Actor: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Sell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Precondition: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Seller has logged i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Main Success Scenario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ller posts an item (its category, description, picture, etc.) for  auc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ystem shows past prices of similar items to sell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ystem specifies the starting bid price and a date when auction will clos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ystem accepts the item and posts i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Exception Scenarios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 a) There are no past items of this category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ystem tells the seller this situation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3C690-2238-49EA-B1BA-F1D2F33F6C6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Rectangle 1"/>
          <p:cNvSpPr/>
          <p:nvPr/>
        </p:nvSpPr>
        <p:spPr>
          <a:xfrm>
            <a:off x="2743200" y="47484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Rectangle 1"/>
          <p:cNvSpPr/>
          <p:nvPr/>
        </p:nvSpPr>
        <p:spPr>
          <a:xfrm>
            <a:off x="914400" y="106056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– An Auction Sit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B959F-802E-4300-ADAF-1CACE555401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04920" y="186480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Use Case2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Make a bi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Primary Actor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Buy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Precondition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The buyer has logged i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Main Success Scenario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uyer searches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browse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elect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some ite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ystem shows the rating of the seller, the starting bid, the current bids, and the highest bid; asks buyer to make a bi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uyer specifies bid price, max bid price, and incremen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ystems accepts the bid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Blocks funds in bidders accoun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ystem updates the bid price of other bidders where needed, and updates the records for the ite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7498B-3C02-4685-A1B1-0405D747636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– An Auction Site …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A83D4-F83B-403A-B659-01B4710199E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0520" y="2193480"/>
            <a:ext cx="816948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Alternative Scenarios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3 a) The bid price is lower than the current highes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ystem informs the bidder and asks to rebid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4a) The bidder does not have enough funds in his accoun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ystem cancels the bid, asks the user to get more fund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DA7BE-AAAE-44AF-861B-3EC424C5ECA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1" name="Rectangle 1"/>
          <p:cNvSpPr/>
          <p:nvPr/>
        </p:nvSpPr>
        <p:spPr>
          <a:xfrm>
            <a:off x="2313000" y="67644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2" name="Rectangle 1"/>
          <p:cNvSpPr/>
          <p:nvPr/>
        </p:nvSpPr>
        <p:spPr>
          <a:xfrm>
            <a:off x="914400" y="1305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– An Auction Site …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0DE08-F72A-4D32-AA3D-4B34EC34E27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049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Use Case3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Complete auction of an ite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Primary Actor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Auction Syste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Precondition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The last date for bidding has been reach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Main Success Scenario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lect highest bidder; send email to selected bidder and seller informing final bid price; send email to other bidders also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Debit bidder’s account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credit seller’s accoun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Transfer from seller’s account commission amount to organization’s accoun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move item from the site; update record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Exception Scenarios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Non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89B88-F700-4AB9-9ACC-568F81DEA3D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8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– An Auction Site …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B0116-95A3-4DDC-A934-4031DF73517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593640" y="1706400"/>
            <a:ext cx="8321760" cy="47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Use Case 0 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Auction an item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Primary Actor: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Auction system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Scope: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Auction conducting organizatio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Precondition: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Non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Main Success Scenario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ller perform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put an item for auc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arious bidder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make a bi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n final date perfor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complete the auction of the ite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t feed back from seller; get feedback from buyer; update record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3C2A9-63A4-4270-8494-CCD1C9C3C0D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Rectangle 1"/>
          <p:cNvSpPr/>
          <p:nvPr/>
        </p:nvSpPr>
        <p:spPr>
          <a:xfrm>
            <a:off x="2392200" y="558720"/>
            <a:ext cx="51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4" name="Rectangle 1"/>
          <p:cNvSpPr/>
          <p:nvPr/>
        </p:nvSpPr>
        <p:spPr>
          <a:xfrm>
            <a:off x="914400" y="11224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Summary – Summary-Level Use Cas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F4175-2C33-4013-BAA1-8FBBB58CF69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0520" y="2193480"/>
            <a:ext cx="816948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 cases form a good medium for brainstorming and discuss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nce can be used in elicitation and problem analysis also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 cases can be developed in a stepwise refinement mann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ny levels possible, but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four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naturally emerg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9314D-9A8B-443A-841A-746BF1985B0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9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0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Developing Use Case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BEC0A-395A-4182-BC4B-EA306EF1CF5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593640" y="1981080"/>
            <a:ext cx="7956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ctors and goal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epare an actor-goal lis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vide a brief overview of the use cas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defines the scope of the syste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leteness can also be evaluat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ain Success Scenario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each use case, expand the main success scenario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will provide the normal behavior of the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can be reviewed to ensure that interests of all stakeholders and actors is me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B7DD6-F47B-46A3-9A6B-0C3F77702DD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5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6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Developing Use Cases …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AEAC9-EF1D-4BE8-A942-F68159AC5AC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593640" y="1793520"/>
            <a:ext cx="79567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Failure conditions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List possible failure conditions for use case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For each step, identify how it may fail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This step uncovers special situation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Failure handling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Perhaps the hardest part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Specify system behavior for the failure conditions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New business rules and actors may emerge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A0967-B876-4D79-AD49-66B73F77E87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1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2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Developing Use Cases …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3D058-5D6C-4C9A-A8CE-C3C48CCFBAA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593640" y="1981080"/>
            <a:ext cx="795672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four levels can drive analysis by starting from top and adding details as analysis proceed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 cases should be specified at a level of detail that is sufficient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r writing, use good technical writing rule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 simple gramma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early specify all parts of the use cas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en needed combine steps or split step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4FBE8-70E2-426B-A1CE-B8C0E8BE9EF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7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8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Developing Use Cases …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1EC07-6F88-483B-80D8-FE0C6A95DAD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304920" y="1282320"/>
            <a:ext cx="85341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It is widely used and focuses on functions performed in the system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Data flow modeling views a system as a network of data transforms through which the data flow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It uses data flow diagrams (DFDs) and functional decomposition in modeling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The Structured System Analysis and Design (SSAD) methodology uses DFD to organize information, and guide analysi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4D5D9-929B-4859-8382-3ED2E08B23A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3" name="Rectangle 1"/>
          <p:cNvSpPr/>
          <p:nvPr/>
        </p:nvSpPr>
        <p:spPr>
          <a:xfrm>
            <a:off x="2971800" y="53964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Model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FE28C-6C89-4E4E-9E60-0A1D2E99FE5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6094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RS establishes the basis of agreement between the user and the suppli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rs needs have to be satisfied, but user may not understand the softwa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velopers will develop the system, but may not know about the problem domai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RS is the medium to bridge the communication gap and specify user needs in a manner both can understan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ADD49-7C20-473C-BDCB-3A93C1A97AB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3168720" y="444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Need for S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A2674-A01C-41D6-B67D-0A0B65396B9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3049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DFD shows flow of data through the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FD views a system as transforming inputs to outpu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ransformation is done through transfor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FD captures how transformation occurs from input to output as data moves through the transfor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FD is not limited to softwa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2E4EA-5D48-45E4-A650-69B5F235F22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8" name="Rectangle 1"/>
          <p:cNvSpPr/>
          <p:nvPr/>
        </p:nvSpPr>
        <p:spPr>
          <a:xfrm>
            <a:off x="2438280" y="73836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(DFDs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D2DF1-1A76-4585-855E-38E02D45C41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80520" y="1827000"/>
            <a:ext cx="8169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F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ransforms are represented by named  circles/ bubbl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ubbles are connected by arrows on which named data travel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rectangle represents a source or sink and is originator/consumer of data (often outside the system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E191D-22DB-467C-895D-B02247B2212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3" name="Rectangle 1"/>
          <p:cNvSpPr/>
          <p:nvPr/>
        </p:nvSpPr>
        <p:spPr>
          <a:xfrm>
            <a:off x="2438280" y="73836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8AEF8-C4CC-4A3B-AA5B-4FF2AB35231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5" descr="Fig3-2"/>
          <p:cNvPicPr/>
          <p:nvPr/>
        </p:nvPicPr>
        <p:blipFill>
          <a:blip r:embed="rId1"/>
          <a:stretch/>
        </p:blipFill>
        <p:spPr>
          <a:xfrm>
            <a:off x="762120" y="1679400"/>
            <a:ext cx="7543800" cy="4721400"/>
          </a:xfrm>
          <a:prstGeom prst="rect">
            <a:avLst/>
          </a:prstGeom>
          <a:ln w="0">
            <a:noFill/>
          </a:ln>
        </p:spPr>
      </p:pic>
      <p:sp>
        <p:nvSpPr>
          <p:cNvPr id="58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1A038-DB3F-42FD-BAD2-DE9F845EC09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8" name="Rectangle 1"/>
          <p:cNvSpPr/>
          <p:nvPr/>
        </p:nvSpPr>
        <p:spPr>
          <a:xfrm>
            <a:off x="2438280" y="73836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9" name="Rectangle 1"/>
          <p:cNvSpPr/>
          <p:nvPr/>
        </p:nvSpPr>
        <p:spPr>
          <a:xfrm>
            <a:off x="380880" y="11905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74E10-FD92-46AA-A3BB-92D43AF6F6F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593640" y="1679400"/>
            <a:ext cx="795672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xternal files are shown as labeled straight lin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need for multiple data flows by a process is represented by * (which means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relationship is represented by +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 processes and arrows should be nam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cesses should represent transforms, arrows should represent some data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8D4DB-CBC3-4092-B041-5422D9CE700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4" name="Rectangle 1"/>
          <p:cNvSpPr/>
          <p:nvPr/>
        </p:nvSpPr>
        <p:spPr>
          <a:xfrm>
            <a:off x="593640" y="10638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DFD Conventio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5" name="Rectangle 1"/>
          <p:cNvSpPr/>
          <p:nvPr/>
        </p:nvSpPr>
        <p:spPr>
          <a:xfrm>
            <a:off x="2849400" y="4795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BBD6D-AF86-45F3-BEF5-F08F5BC5F60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456840" y="1547280"/>
            <a:ext cx="80010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cus is given on what transforms happen, how they are done is not importa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ually major inputs/outputs are shown, minor are ignored in this model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 loops and conditional thinking will be includ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DFD is NOT a control chart, no algorithmic design/ thinking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40E4E-A3D1-448E-A082-3CCDF0CC94B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0" name="Rectangle 1"/>
          <p:cNvSpPr/>
          <p:nvPr/>
        </p:nvSpPr>
        <p:spPr>
          <a:xfrm>
            <a:off x="2836800" y="6714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0B85B-2F62-4749-BCF8-B882C1675C8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72600" y="2437920"/>
            <a:ext cx="8153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get stuck , reverse direc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control logic comes in, stop and restar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abel each arrow and bubb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ke use of +  &amp;  *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ry drawing alternate DFD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F8AAE-7535-47D9-B3AD-D5847255964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5" name="Rectangle 1"/>
          <p:cNvSpPr/>
          <p:nvPr/>
        </p:nvSpPr>
        <p:spPr>
          <a:xfrm>
            <a:off x="2836800" y="6714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6" name="Rectangle 1"/>
          <p:cNvSpPr/>
          <p:nvPr/>
        </p:nvSpPr>
        <p:spPr>
          <a:xfrm>
            <a:off x="316080" y="12654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Drawing a DFD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61ACB-5F38-4F1C-8147-DB3F98AFA70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593640" y="1981080"/>
            <a:ext cx="7956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FD of  a system may be very large which can be organized hierarchical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rt with a top level DFD with a few bubbles then draw DFD for each bubb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eserve I/O when “exploding” a bubble so that consistency is preserv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rawing the leveled DFD becomes a top-down refinement process, and allows modeling of large and complex syste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C7092-6723-4840-9BF5-EFD51E2FDD6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1" name="Rectangle 1"/>
          <p:cNvSpPr/>
          <p:nvPr/>
        </p:nvSpPr>
        <p:spPr>
          <a:xfrm>
            <a:off x="2836800" y="6714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2" name="Rectangle 1"/>
          <p:cNvSpPr/>
          <p:nvPr/>
        </p:nvSpPr>
        <p:spPr>
          <a:xfrm>
            <a:off x="316080" y="12654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Leveled DFD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7EEEA-CDFE-4F56-BB27-84BF8DC192B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09480" y="1981080"/>
            <a:ext cx="792504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a DFD, arrows are labeled with data ite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ata dictionary defines data flows in a DF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shows the structure of data; the structure becomes more visible when explod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 can use regular expressions to express the structure of data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5220A-ABA8-44C3-B87B-14D73399990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7" name="Rectangle 1"/>
          <p:cNvSpPr/>
          <p:nvPr/>
        </p:nvSpPr>
        <p:spPr>
          <a:xfrm>
            <a:off x="2836800" y="6714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8" name="Rectangle 1"/>
          <p:cNvSpPr/>
          <p:nvPr/>
        </p:nvSpPr>
        <p:spPr>
          <a:xfrm>
            <a:off x="316080" y="12654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Data Dictionary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CE73D-FA5D-4C4C-A001-A78BFB3B37F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593640" y="2193480"/>
            <a:ext cx="824544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the timesheet DF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eekly_timesheet = employee_name + id + [regular_hrs + overtime_hrs]*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ay_rate = [hourly | daily | weekly] + dollar_am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mployee_name = last + first + middl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d = digit + digit + digit + digit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63F53-6AC9-41E2-86E0-2060061639D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3" name="Rectangle 1"/>
          <p:cNvSpPr/>
          <p:nvPr/>
        </p:nvSpPr>
        <p:spPr>
          <a:xfrm>
            <a:off x="2836800" y="6714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4" name="Rectangle 1"/>
          <p:cNvSpPr/>
          <p:nvPr/>
        </p:nvSpPr>
        <p:spPr>
          <a:xfrm>
            <a:off x="316080" y="12654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Data Dictionary Exampl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26B1C-4477-4BFA-A551-567678D9864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609480" y="19807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Unlabeled data flow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issing data flow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xtraneous data flow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onsistency not maintained during refinemen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issing processe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oo detailed or too abstrac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ontains some control information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B4ADF-5339-4E1E-B39D-CA02BFDCF97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9" name="Rectangle 1"/>
          <p:cNvSpPr/>
          <p:nvPr/>
        </p:nvSpPr>
        <p:spPr>
          <a:xfrm>
            <a:off x="2836800" y="6714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0" name="Rectangle 1"/>
          <p:cNvSpPr/>
          <p:nvPr/>
        </p:nvSpPr>
        <p:spPr>
          <a:xfrm>
            <a:off x="316080" y="1265400"/>
            <a:ext cx="75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Drawing a DFD – Common Error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B71B6-D8ED-4DF7-96C1-B77939A3FF0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Helps the user to understand his need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rs do not always know their need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ust analyze and understand the potential need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goal is not just to automate a manual system, but also to add value through I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requirement process helps to clarify need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RS provides a reference for validation of the final product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ear understanding about what is expec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alidation - “ software satisfies the SRS. “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D8B60-7CDE-4918-9C06-41E8C15877F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3168720" y="444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Need for SR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D7620-89DC-454D-80C1-12FDD46357D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593640" y="1752120"/>
            <a:ext cx="795672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tructured system analysis and design (SSAD) –focuses only on analysi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SAD is used a lot when automating existing manual system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ain steps of SSAD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raw a context diagra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raw DFD of the existing syste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raw DFD of the proposed system and identify the man-machine bounda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50984-E7F0-478F-97C2-4EBDD103BBF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5" name="Rectangle 1"/>
          <p:cNvSpPr/>
          <p:nvPr/>
        </p:nvSpPr>
        <p:spPr>
          <a:xfrm>
            <a:off x="2438280" y="6714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tructured Analysis Method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BE0BAF-657C-484B-A070-4A56E5BC202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593640" y="1547640"/>
            <a:ext cx="7956720" cy="26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iews the entire system as a transform and identifies the contex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a DFD with one transform (system), with all inputs, outputs, sources, sinks for the system identifi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A56BC-2DB7-4FB3-8CAF-3B525A0C05B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0" name="Rectangle 1"/>
          <p:cNvSpPr/>
          <p:nvPr/>
        </p:nvSpPr>
        <p:spPr>
          <a:xfrm>
            <a:off x="2836800" y="6714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Context Diagrams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1" name="Oval 2"/>
          <p:cNvSpPr/>
          <p:nvPr/>
        </p:nvSpPr>
        <p:spPr>
          <a:xfrm>
            <a:off x="3581280" y="4648320"/>
            <a:ext cx="1295640" cy="121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27c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2" name="TextBox 3"/>
          <p:cNvSpPr/>
          <p:nvPr/>
        </p:nvSpPr>
        <p:spPr>
          <a:xfrm>
            <a:off x="3809880" y="5105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2303640" y="3927600"/>
            <a:ext cx="10666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127c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Rectangle 9"/>
          <p:cNvSpPr/>
          <p:nvPr/>
        </p:nvSpPr>
        <p:spPr>
          <a:xfrm>
            <a:off x="5878440" y="3984480"/>
            <a:ext cx="106704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127c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5" name="Rectangle 10"/>
          <p:cNvSpPr/>
          <p:nvPr/>
        </p:nvSpPr>
        <p:spPr>
          <a:xfrm>
            <a:off x="5427720" y="5448240"/>
            <a:ext cx="106668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127c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6" name="Rectangle 11"/>
          <p:cNvSpPr/>
          <p:nvPr/>
        </p:nvSpPr>
        <p:spPr>
          <a:xfrm>
            <a:off x="1866960" y="5295960"/>
            <a:ext cx="10666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127c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7" name="TextBox 12"/>
          <p:cNvSpPr/>
          <p:nvPr/>
        </p:nvSpPr>
        <p:spPr>
          <a:xfrm>
            <a:off x="5472000" y="5502240"/>
            <a:ext cx="10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External Entit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8" name="TextBox 13"/>
          <p:cNvSpPr/>
          <p:nvPr/>
        </p:nvSpPr>
        <p:spPr>
          <a:xfrm>
            <a:off x="5932440" y="4156200"/>
            <a:ext cx="10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External Entit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9" name="TextBox 14"/>
          <p:cNvSpPr/>
          <p:nvPr/>
        </p:nvSpPr>
        <p:spPr>
          <a:xfrm>
            <a:off x="2341440" y="40435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External Entit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0" name="TextBox 15"/>
          <p:cNvSpPr/>
          <p:nvPr/>
        </p:nvSpPr>
        <p:spPr>
          <a:xfrm>
            <a:off x="1866960" y="5367240"/>
            <a:ext cx="10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External Entit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651" name="Straight Arrow Connector 8"/>
          <p:cNvCxnSpPr>
            <a:stCxn id="649" idx="3"/>
            <a:endCxn id="641" idx="1"/>
          </p:cNvCxnSpPr>
          <p:nvPr/>
        </p:nvCxnSpPr>
        <p:spPr>
          <a:xfrm>
            <a:off x="3424320" y="4365360"/>
            <a:ext cx="348480" cy="461160"/>
          </a:xfrm>
          <a:prstGeom prst="straightConnector1">
            <a:avLst/>
          </a:prstGeom>
          <a:ln w="9360">
            <a:solidFill>
              <a:srgbClr val="e5224e"/>
            </a:solidFill>
            <a:miter/>
            <a:tailEnd len="med" type="triangle" w="med"/>
          </a:ln>
        </p:spPr>
      </p:cxnSp>
      <p:cxnSp>
        <p:nvCxnSpPr>
          <p:cNvPr id="652" name="Straight Arrow Connector 19"/>
          <p:cNvCxnSpPr>
            <a:stCxn id="650" idx="3"/>
            <a:endCxn id="641" idx="2"/>
          </p:cNvCxnSpPr>
          <p:nvPr/>
        </p:nvCxnSpPr>
        <p:spPr>
          <a:xfrm flipV="1">
            <a:off x="2906640" y="5257440"/>
            <a:ext cx="675360" cy="434160"/>
          </a:xfrm>
          <a:prstGeom prst="straightConnector1">
            <a:avLst/>
          </a:prstGeom>
          <a:ln w="9360">
            <a:solidFill>
              <a:srgbClr val="e5224e"/>
            </a:solidFill>
            <a:miter/>
            <a:tailEnd len="med" type="triangle" w="med"/>
          </a:ln>
        </p:spPr>
      </p:cxnSp>
      <p:cxnSp>
        <p:nvCxnSpPr>
          <p:cNvPr id="653" name="Straight Arrow Connector 22"/>
          <p:cNvCxnSpPr/>
          <p:nvPr/>
        </p:nvCxnSpPr>
        <p:spPr>
          <a:xfrm flipV="1">
            <a:off x="4773240" y="4479480"/>
            <a:ext cx="1135800" cy="434160"/>
          </a:xfrm>
          <a:prstGeom prst="straightConnector1">
            <a:avLst/>
          </a:prstGeom>
          <a:ln w="9360">
            <a:solidFill>
              <a:srgbClr val="e5224e"/>
            </a:solidFill>
            <a:miter/>
            <a:tailEnd len="med" type="triangle" w="med"/>
          </a:ln>
        </p:spPr>
      </p:cxnSp>
      <p:cxnSp>
        <p:nvCxnSpPr>
          <p:cNvPr id="654" name="Straight Arrow Connector 24"/>
          <p:cNvCxnSpPr>
            <a:stCxn id="641" idx="5"/>
            <a:endCxn id="645" idx="1"/>
          </p:cNvCxnSpPr>
          <p:nvPr/>
        </p:nvCxnSpPr>
        <p:spPr>
          <a:xfrm>
            <a:off x="4686120" y="5689440"/>
            <a:ext cx="741960" cy="178200"/>
          </a:xfrm>
          <a:prstGeom prst="straightConnector1">
            <a:avLst/>
          </a:prstGeom>
          <a:ln w="9360">
            <a:solidFill>
              <a:srgbClr val="e5224e"/>
            </a:solidFill>
            <a:miter/>
            <a:tailEnd len="med" type="triangle" w="med"/>
          </a:ln>
        </p:spPr>
      </p:cxnSp>
      <p:cxnSp>
        <p:nvCxnSpPr>
          <p:cNvPr id="655" name="Straight Arrow Connector 27"/>
          <p:cNvCxnSpPr>
            <a:endCxn id="641" idx="7"/>
          </p:cNvCxnSpPr>
          <p:nvPr/>
        </p:nvCxnSpPr>
        <p:spPr>
          <a:xfrm flipH="1">
            <a:off x="4685760" y="4362480"/>
            <a:ext cx="1168920" cy="464400"/>
          </a:xfrm>
          <a:prstGeom prst="straightConnector1">
            <a:avLst/>
          </a:prstGeom>
          <a:ln w="9360">
            <a:solidFill>
              <a:srgbClr val="e5224e"/>
            </a:solidFill>
            <a:miter/>
            <a:tailEnd len="med" type="triangle" w="med"/>
          </a:ln>
        </p:spPr>
      </p:cxnSp>
      <p:cxnSp>
        <p:nvCxnSpPr>
          <p:cNvPr id="656" name="Straight Arrow Connector 32"/>
          <p:cNvCxnSpPr/>
          <p:nvPr/>
        </p:nvCxnSpPr>
        <p:spPr>
          <a:xfrm flipH="1" flipV="1">
            <a:off x="4800240" y="5532120"/>
            <a:ext cx="627840" cy="157680"/>
          </a:xfrm>
          <a:prstGeom prst="straightConnector1">
            <a:avLst/>
          </a:prstGeom>
          <a:ln w="9360">
            <a:solidFill>
              <a:srgbClr val="e5224e"/>
            </a:solidFill>
            <a:miter/>
            <a:tailEnd len="med" type="triangle" w="med"/>
          </a:ln>
        </p:spPr>
      </p:cxnSp>
      <p:cxnSp>
        <p:nvCxnSpPr>
          <p:cNvPr id="657" name="Straight Arrow Connector 36"/>
          <p:cNvCxnSpPr/>
          <p:nvPr/>
        </p:nvCxnSpPr>
        <p:spPr>
          <a:xfrm flipH="1" flipV="1">
            <a:off x="3369960" y="4647960"/>
            <a:ext cx="281520" cy="373680"/>
          </a:xfrm>
          <a:prstGeom prst="straightConnector1">
            <a:avLst/>
          </a:prstGeom>
          <a:ln w="9360">
            <a:solidFill>
              <a:srgbClr val="e5224e"/>
            </a:solidFill>
            <a:miter/>
            <a:tailEnd len="med" type="triangle" w="med"/>
          </a:ln>
        </p:spPr>
      </p:cxnSp>
      <p:cxnSp>
        <p:nvCxnSpPr>
          <p:cNvPr id="658" name="Straight Arrow Connector 41"/>
          <p:cNvCxnSpPr/>
          <p:nvPr/>
        </p:nvCxnSpPr>
        <p:spPr>
          <a:xfrm flipH="1">
            <a:off x="2944080" y="5486040"/>
            <a:ext cx="607320" cy="367560"/>
          </a:xfrm>
          <a:prstGeom prst="straightConnector1">
            <a:avLst/>
          </a:prstGeom>
          <a:ln w="9360">
            <a:solidFill>
              <a:srgbClr val="e5224e"/>
            </a:solidFill>
            <a:miter/>
            <a:tailEnd len="med" type="triangle" w="med"/>
          </a:ln>
        </p:spPr>
      </p:cxnSp>
      <p:sp>
        <p:nvSpPr>
          <p:cNvPr id="659" name="Footer Placeholder 3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0" name="Slide Number Placeholder 7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D4AB5-C8A8-40FA-AB54-6E01A2570E5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5" descr="Fig3-4"/>
          <p:cNvPicPr/>
          <p:nvPr/>
        </p:nvPicPr>
        <p:blipFill>
          <a:blip r:embed="rId1"/>
          <a:stretch/>
        </p:blipFill>
        <p:spPr>
          <a:xfrm>
            <a:off x="1295280" y="1547640"/>
            <a:ext cx="6553440" cy="4776840"/>
          </a:xfrm>
          <a:prstGeom prst="rect">
            <a:avLst/>
          </a:prstGeom>
          <a:ln w="0">
            <a:noFill/>
          </a:ln>
        </p:spPr>
      </p:pic>
      <p:sp>
        <p:nvSpPr>
          <p:cNvPr id="66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CC419-EC25-40CF-81C3-A3C550DA65F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2286000" y="6714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Example – Context Diagra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4DDE6-7E36-4D08-9186-F83624B1A0A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593280" y="1371240"/>
            <a:ext cx="80931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current system is modeled as a DFD to understand its working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context diagram is refin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ach bubble represents a logical transformation of some data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eveled DFD may be us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enerally, it can be obtained after understanding and interacting with user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Validate the DFD by walking through it with user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0024A-962A-402F-8C42-B108C9A5E75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8" name="Rectangle 1"/>
          <p:cNvSpPr/>
          <p:nvPr/>
        </p:nvSpPr>
        <p:spPr>
          <a:xfrm>
            <a:off x="2836800" y="671400"/>
            <a:ext cx="52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FD of the Curr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232D9-6650-4289-9C84-BF67064A979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5" descr="Fig3-5"/>
          <p:cNvPicPr/>
          <p:nvPr/>
        </p:nvPicPr>
        <p:blipFill>
          <a:blip r:embed="rId1"/>
          <a:stretch/>
        </p:blipFill>
        <p:spPr>
          <a:xfrm>
            <a:off x="762120" y="1676520"/>
            <a:ext cx="7772400" cy="4952880"/>
          </a:xfrm>
          <a:prstGeom prst="rect">
            <a:avLst/>
          </a:prstGeom>
          <a:ln w="0">
            <a:noFill/>
          </a:ln>
        </p:spPr>
      </p:pic>
      <p:sp>
        <p:nvSpPr>
          <p:cNvPr id="67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79C98-A45D-4AFE-B472-15153296955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3" name="Rectangle 1"/>
          <p:cNvSpPr/>
          <p:nvPr/>
        </p:nvSpPr>
        <p:spPr>
          <a:xfrm>
            <a:off x="1143000" y="9190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Example – DFD of Existing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972B5-58FF-443F-9C1F-9864F144EE6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457200" y="16588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no general rules for drawing the DFD of the future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FD should model the entire proposed system - process may be automated or manual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alidate with the us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n establish man-machine boundar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at processes will be automated and which remains manua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how clearly the interaction between automated and manual proces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87322-11DC-47E4-A64E-E810618A399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8" name="Rectangle 1"/>
          <p:cNvSpPr/>
          <p:nvPr/>
        </p:nvSpPr>
        <p:spPr>
          <a:xfrm>
            <a:off x="2124000" y="7272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Modeling the Proposed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5BE1F-5B56-4F92-B585-F1277E0D349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5" descr="Fig3-6"/>
          <p:cNvPicPr/>
          <p:nvPr/>
        </p:nvPicPr>
        <p:blipFill>
          <a:blip r:embed="rId1"/>
          <a:stretch/>
        </p:blipFill>
        <p:spPr>
          <a:xfrm>
            <a:off x="380880" y="106668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68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8A42F-01DE-41AE-A218-FA1ADA6FBF4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3" name="Rectangle 1"/>
          <p:cNvSpPr/>
          <p:nvPr/>
        </p:nvSpPr>
        <p:spPr>
          <a:xfrm>
            <a:off x="1828800" y="6415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Example – DFD of Proposed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0933F-A364-4425-9C16-B1B79239761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5684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nal output of requirements task is the S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y are DFDs, OO models, etc. are not SRS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RS focuses on external behavior, while modeling focuses on problem structu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r interface is not modeled, but have to be in S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rror handling, constraints etc. are also needed in S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ransition from analysis to specification is not straight forwar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Knowledge about the system acquired in analysis is used in specific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307F6-805E-4151-A515-A99B38D7607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8" name="Rectangle 1"/>
          <p:cNvSpPr/>
          <p:nvPr/>
        </p:nvSpPr>
        <p:spPr>
          <a:xfrm>
            <a:off x="1143000" y="9190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Requirements Specification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27322-CFED-4BCC-935F-0DD2A7DE0BF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380520" y="16761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Requirement validation is important because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ere is a lot of room for misunderstanding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errors possible in requirement analysis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t is expensive to fix requirement defects later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ust try to remove most errors in the SR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ost common error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mission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 3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consistenc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 10-3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correct fact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 10-3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mbiguit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 5 -2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C34E9-44BF-4529-AD3B-A87A29FF4F0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3" name="Rectangle 1"/>
          <p:cNvSpPr/>
          <p:nvPr/>
        </p:nvSpPr>
        <p:spPr>
          <a:xfrm>
            <a:off x="1143000" y="9190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Requirements Validation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76E69-F6B8-4580-B338-F2C2B3E575D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RS is reviewed by a group of peopl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8080" indent="-2192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A group includes author, client, user, development team representative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review process is a standard inspection proces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Effectiveness: can catch 40-80% of requirement error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27115-B0E8-4A0C-8F1D-30667376B77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8" name="Rectangle 1"/>
          <p:cNvSpPr/>
          <p:nvPr/>
        </p:nvSpPr>
        <p:spPr>
          <a:xfrm>
            <a:off x="1143000" y="9190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Requirements Review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C94C0-B78F-4CA6-B072-AC05B466286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609480" y="2133720"/>
            <a:ext cx="784872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igh quality SRS is essential for high quality softwa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ment errors get manifested in the final softwa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satisfy the quality objective, we must begin with high quality S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ments defects are not few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A77B4-E2FC-4597-A5D3-7AED3F55A1C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3168720" y="444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Need for SRS .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F3E4C-A9E6-4BF1-9DA9-2D685E6AC6B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609480" y="133020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ving a good quality SRS is essential for a better quality &amp; productivity softwa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requirement phase has 3 major sub pha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alysis, specification and valid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d or problem understanding and modeling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thods used: SSAD,  OOA, Prototyping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Key properties of an SRS: correctness, completeness, consistency, traceability, unambiguousnes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DE82B-25B6-4782-A9F5-2D473D846F5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3" name="Rectangle 1"/>
          <p:cNvSpPr/>
          <p:nvPr/>
        </p:nvSpPr>
        <p:spPr>
          <a:xfrm>
            <a:off x="2571840" y="563400"/>
            <a:ext cx="58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ummary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F8527-9292-4A54-A9C5-7D53DAE4EBF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593640" y="1523880"/>
            <a:ext cx="795672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ust contain functionality, performance, external interfaces and design constrai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 case is a method to specify the functionality which is also useful for analysi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alidation – is done through review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4F245-591E-475A-AF19-5095F301421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8" name="Rectangle 1"/>
          <p:cNvSpPr/>
          <p:nvPr/>
        </p:nvSpPr>
        <p:spPr>
          <a:xfrm>
            <a:off x="2571840" y="563400"/>
            <a:ext cx="58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ummary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7371B-6076-4AFF-9728-2696C0648F8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533160" y="121896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ood SRS reduces the development cos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RS errors are expensive to fix later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quirement changes can cost a lot (up to 40%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ood SRS can minimize changes and error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ubstantial savings; extra effort spent during requirement saves multiple times that effort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n Exampl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ost of fixing errors in requirement, design, coding, acceptance testing and operation are 2, 5, 15, 50, 150 person-month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9D7C5-BB81-445A-837A-B8CC4380F66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168720" y="444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Need for SR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3B0CA-A62B-4F24-870A-B20D4C3D8DC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533160" y="15235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Example …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fter requirement phase 65% req errs detected in design , 2% in coding, 30% in acceptance testing, 3% during oper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50 requirement errors are not removed in the req. phase, the total cos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US" sz="2400" spc="-1" strike="noStrike">
                <a:solidFill>
                  <a:srgbClr val="0070c0"/>
                </a:solidFill>
                <a:latin typeface="Cambria"/>
              </a:rPr>
              <a:t>32.5 *5 + 1*15 + 15*50 + 1.5*150 = 1152 h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100 person-hours invested additionally in requirement to catch these 50 defects, then development cost could be reduced by 1152 person-hou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et reduction in cost is 1052 person-hou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BF3B1-EAC4-4F40-9B0C-388F14FB3FB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8" name="Rectangle 1"/>
          <p:cNvSpPr/>
          <p:nvPr/>
        </p:nvSpPr>
        <p:spPr>
          <a:xfrm>
            <a:off x="3168720" y="444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Need for SR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CE668-8B9C-469D-8379-CBC6BA243D2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04:19:19Z</dcterms:created>
  <dc:creator>Raju</dc:creator>
  <dc:description/>
  <dc:language>en-US</dc:language>
  <cp:lastModifiedBy>user</cp:lastModifiedBy>
  <dcterms:modified xsi:type="dcterms:W3CDTF">2020-04-27T05:57:49Z</dcterms:modified>
  <cp:revision>108</cp:revision>
  <dc:subject/>
  <dc:title>Process and Process Models</dc:title>
</cp:coreProperties>
</file>