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3FF3-291D-40A7-B4D8-6D1896DD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0BA-E5B1-4BA6-96DC-03B8F7123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342-22D2-4296-8184-F8B1E39C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2EC-3BE5-40DA-92C8-47C5331D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827-AA83-4D73-AD3C-4ECF3E07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159-D8F0-4696-8414-B67E9A00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29A-3500-424F-B67D-B2E5D25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86C-B712-439B-A470-3BFA1ED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7CC-F838-4265-A2EE-8A9A1FE4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709-E01E-4D9A-8C85-DBC63B06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F8C-1851-40AA-82D1-3EF9E394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29B-8A94-4EF1-98FD-AAC4A05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58F-4FFE-4740-A2EE-840EB98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38F-9DA4-4469-BDDD-D1CBCF9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FF3-3D15-4B77-A477-257BB929B8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anced Computing, M.Tech 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64B-05E4-4A84-B3A5-01F669F051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624880" cy="57006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4D7F-7DBA-4758-8ADA-88436FED61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as a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 model in which an organization outsources the equipment used to support operations, including storage, hardware, servers and networking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provider owns the equipment and is responsible for housing, running and maintain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ent typically pays on a per-us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27D-7F66-4509-A6C4-B66471E41B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38A9-B4DD-4F5D-9047-9786D79EF9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2C4-CB4F-4120-B5C5-212F1E5D62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4128-3543-4B68-B18E-BE5E397978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-based computing, where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vided to computers and other devices on demand, like the electricity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anything that involves delivering hosted services over the internet and encompasses any subscription-based or pay-by-use service that, in real time, extends IT’s exis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0E2-E35A-47FA-BDA7-A22ECFCEA9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lou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-scal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models of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y-interactive Web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AC73-FDFF-4199-88AB-73EA7E7C35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gments of Cloud Compu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has three main segments which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(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(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(I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 serves different products for businesses and individuals with different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2D0-83B6-40FA-81A8-D844FD1ED8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(Sa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, demand softwar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software services come in different varieties. They vary in their pricing scheme and how the software is delivered to the end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force.com (CRM), Google (GOOG) and NetSuite (N) are some of the companies which provide on demand software or Saa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9DF-D356-4C30-AA23-F6193895E4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Segment (P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products that are used to deploy inter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Suite, Amazon, Google, and Microsoft have also developed platforms that allow users to access applications from centralized ser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, Net Suite, Rackspace cloud, amazon.com and salesforce are some of the active plat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DC0-1D51-48EC-8CDE-41A681C27B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S cont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ly data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processing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ing, indexing, searching, min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omics” life scien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tific data (physics, astronom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2.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626D-0F56-431B-96A4-C15575F993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9F0-91B4-48D8-A5FF-E76668499A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egment :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S, the backbone of the entire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vendors’ environments such as Google gears allow users to build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storage, such as Amazon’s S3, is also considered to be part of the infrastructure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5DB-2441-49D5-AE2D-295F24240E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D28-4E49-4A3C-B20D-CA83089C20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coloandcloud.com/wp-content/uploads/2012/05/PaaS-Chart.gif"/>
          <p:cNvPicPr/>
          <p:nvPr/>
        </p:nvPicPr>
        <p:blipFill>
          <a:blip r:embed="rId1"/>
          <a:stretch/>
        </p:blipFill>
        <p:spPr>
          <a:xfrm>
            <a:off x="357120" y="285840"/>
            <a:ext cx="7934400" cy="59529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A225-737B-4623-A090-F8A40DF3B4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27T23:24:24Z</dcterms:modified>
  <cp:revision>744</cp:revision>
  <dc:subject/>
  <dc:title>Diapositiva 1</dc:title>
</cp:coreProperties>
</file>