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EA69-0882-440F-91AC-0ADA3B9F0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80C2-CE49-4272-BBDB-B1E521AED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226-F9DF-4475-9889-0946F54C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2FF-4936-4C53-9C9C-67F194CD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964-A098-4F89-A119-F509187D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751-B0BD-4FC5-9232-AE9B2A05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794-16AF-4F66-BEC8-EFC249F2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128-92A1-41BC-B301-4D5C0C2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D23-5D27-470F-A61D-1B91C22A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11F-05C4-4183-94E2-979590D3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F50-96BF-4EA3-B9A2-64F5DFFB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21A-3074-4DDE-910F-E36220F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2DA-5F7F-4036-AE8E-775191BC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BBD-5854-4253-8DA4-4158F1E2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AA8D-2DA1-4A56-8AC0-53AFE300E3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vanced Computing, M.Tech 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2051-EF13-4E2F-A237-3E7BFB7405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4920" y="500040"/>
            <a:ext cx="8624880" cy="570060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5840-BF61-435E-B82D-D8FD99A824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a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ructure as a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sion model in which an organization outsources the equipment used to support operations, including storage, hardware, servers and networking compon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rvice provider owns the equipment and is responsible for housing, running and maintaining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ient typically pays on a per-us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AB46-4CE5-4ACC-95A4-FBC1E61637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0F39-A2FE-4C64-A7D5-027240FA49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Computing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2028-BA14-420A-9442-80699ADFE2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B866-0E34-4BE5-B494-721E6411E6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4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ud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-based computing, where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resour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ovided to computers and other devices on demand, like the electricity gr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s to anything that involves delivering hosted services over the internet and encompasses any subscription-based or pay-by-use service that, in real time, extends IT’s exist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B2B0-6DBB-4FAA-9C3C-E6B04E0F4A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lou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-scal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data ce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models of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y-interactive Web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8FFF-BCA5-46F6-B94B-19CDD86BAE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gments of Cloud Compu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computing has three main segments which ar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(S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(P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(I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egment serves different products for businesses and individuals with different purp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6154-9CD6-456D-AE08-85BB68FF23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(Sa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based on, demand software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mand software services come in different varieties. They vary in their pricing scheme and how the software is delivered to the end us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force.com (CRM), Google (GOOG) and NetSuite (N) are some of the companies which provide on demand software or SaaS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1E99-AE26-4157-9910-C9E67A3F4C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tform Segment (Pa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products that are used to deploy inter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Suite, Amazon, Google, and Microsoft have also developed platforms that allow users to access applications from centralized serv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, Net Suite, Rackspace cloud, amazon.com and salesforce are some of the active plat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1A19-8E70-4501-B85E-ADC79A191A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S cont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ely data-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also be processing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wling, indexing, searching, mining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genomics” life science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ientific data (physics, astronom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2.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7E15-43FD-4F42-80A4-B53B764619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E3C2-3C5E-40CE-874B-BF66AE0D7B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segment :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aS, the backbone of the entire concep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vendors’ environments such as Google gears allow users to build appl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storage, such as Amazon’s S3, is also considered to be part of the infrastructure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6470-CCD7-4B9C-8E0C-A5981BF072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C828-8BB6-4BAD-B9FF-2ABEDBC069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coloandcloud.com/wp-content/uploads/2012/05/PaaS-Chart.gif"/>
          <p:cNvPicPr/>
          <p:nvPr/>
        </p:nvPicPr>
        <p:blipFill>
          <a:blip r:embed="rId1"/>
          <a:stretch/>
        </p:blipFill>
        <p:spPr>
          <a:xfrm>
            <a:off x="357120" y="285840"/>
            <a:ext cx="7934400" cy="595296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959F-BC98-433A-98DF-728BA39B44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0-04-27T23:24:24Z</dcterms:modified>
  <cp:revision>744</cp:revision>
  <dc:subject/>
  <dc:title>Diapositiva 1</dc:title>
</cp:coreProperties>
</file>