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5"/>
          </p:nvPr>
        </p:nvSpPr>
        <p:spPr>
          <a:xfrm>
            <a:off x="52318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6"/>
          </p:nvPr>
        </p:nvSpPr>
        <p:spPr>
          <a:xfrm>
            <a:off x="-36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7"/>
          </p:nvPr>
        </p:nvSpPr>
        <p:spPr>
          <a:xfrm>
            <a:off x="523188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8BDA-9740-479D-AD60-914A82964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232240" y="665784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DD9-06C7-422F-97F2-F9CC00D99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9F34-B3F6-4755-B285-F67F7CAE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0702-D12D-455E-87DD-7253023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F43DC-9227-4771-89BD-61645E45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A2787-B341-4292-8ECC-F7F6C077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A39C1-7BE0-4249-AD4C-230F2C5F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C424C-899F-45F3-908C-2CEC702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51F7D-E609-40FA-B526-C78FC5D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4BC3B-B690-4D52-9FBA-50AE5B4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AB37A-0B77-4D1E-80E8-87F290F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A5B8D-DDC2-4992-B1D8-C5A15046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24133-CB02-448B-B4BC-76625E1A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EA51D-8FB6-47E8-B7E8-E15D6D7F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A104-6256-4FC8-8E3B-C8767749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C7EA4-1620-4D2F-B7D9-FC745ED1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F6468-548C-48BA-9AD5-27808A0D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49928-E12A-4F42-8B3E-52F81156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62D8A-2A5E-4A1F-96EB-37870004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16BBF-906D-499F-829A-04B742A3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AEA78-52C5-4D67-BF1C-6730247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C2FB5-2C2F-4584-9F0C-D04E0B1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A6CC2-183A-4182-AA9D-21307A79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E057C-6D17-42F7-A4AA-FF391A1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AE9F9-719C-48DC-84FD-0C3E8FFB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2B52-2096-467C-B785-EF1C95FF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F68EF-ED0F-4D91-9F3F-30F7B41B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750E98-A11E-4B89-A249-118CD570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064B63-2764-434A-A073-79A968C0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E2E558-D380-4DA1-97BC-13E232EE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888317-D993-49A5-B392-625AADDE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B5B809-B451-468F-91B7-D71CF78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2A39D7-7103-4AD0-B6B2-E7FF08F3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DBB7FD-86A0-4019-AD98-5DE7664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EFB40-9BAE-4E85-8086-74D1AB0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0CD733-0916-4A12-86DE-0333AF95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6F9BAD-D04B-4D9C-877D-30DAE6D0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BD06B4-8B17-4FA9-BA87-79D79EA3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21D9D0-60FF-4B9A-81A1-55E9D384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68766-FB7E-40FA-A6B5-F457082D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DD7EC-16D8-442D-86DB-0900636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88B80-818E-4510-A7ED-2798B810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00749-508A-4E4E-8D1E-CF6D5ABB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08E01-89A1-44A0-8ABC-DECC438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367DA-B92A-4BF1-871A-9BF5BA05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152F5-B16A-4220-BCE3-0D5005EF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B9A9A-7C03-4FBD-869B-08289A1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C642C-C4B1-4BD1-9B12-B8E50E39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D98C1-4ECD-4080-A745-76627388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D0140-AEA8-4B7F-830E-2A9AEC42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980CF-A93D-48EC-8771-46131CD9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233228-41D8-4C6A-B958-6C99F49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566AEF-A4AF-4765-A8D2-E48FA2A0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ECC13A-5402-4240-81D7-3545547F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E19AAB-86C0-4C67-A077-27277B7C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29E3C0-9464-4E1E-B358-BAC14745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AEB67E-855B-44A9-BE80-684937D2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BAD120-584F-4879-821D-F9C5817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A5EBD5-E72C-4A1D-B669-E6F243E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843B66-3B99-4807-A9A2-316AB2A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BB8354-B88A-4541-9E23-7CB231D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6247B1-CF96-4B4A-9C36-D8FE98CF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D97AF0-A5E4-4871-8BEB-69E659D0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1EF89C-34EB-41B7-BDD9-0CA9543A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95B507-AB23-47DD-8C2F-1A14BC8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5FCBB1-F512-4A06-B3A1-45658835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EE7665-93C3-479E-9A35-36ACD1E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7CC90B-E3EA-4B67-8F72-5DE5ECD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89AAD5-C4FB-41C9-A08E-E2A1310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565486-64DC-48CE-8C09-A3CF6DC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B2E8A2-42F6-437E-866E-A51761F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A58AD9-01A6-4822-954A-EEE5460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BEF0B8-D845-4D2C-B2CB-74FD65B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05B9A9-5538-4034-9099-85908CBA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F1780C-25D6-4DF7-96B8-E09A0D8D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ED7548-0A5B-44B0-8883-FB445190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4F915F-C6BA-4FE3-B4FE-A018F7E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539482-3616-44BB-8050-D7D4CCB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D82073-5042-406F-9DB8-46BD10E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F791A1-A075-46BF-945E-ED5FE0A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F854B5-255F-4B61-91BE-343CA185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C55288-BF1C-44E4-A24E-4A88016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6572B9-5FDC-4F98-96EA-54F8794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F2334D-0437-4685-996A-37259A2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77B323-E3A3-4FAD-AEB8-B1493A5A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854413-9441-42D0-85BE-FC5882F8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797B72-BB29-4458-A7EE-2821F836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EA70-168A-41B9-881B-345FD929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C88B9-33E8-426D-A359-4F6BA65F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E1980-8952-4079-B085-EEFF2F2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585E9-E022-4F1E-8940-9F7FFDC4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925F4-B173-4404-87A8-6FFF6FC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DCC83-7B8C-4D15-A082-2DC74473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905D-99DB-4930-94AF-A4C290B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A5830-F12A-4CA2-99A6-8525894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0C51F-E67C-4102-AC11-FFBBE91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D9AC1-FABD-43A3-8F55-13BBF5F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94C3F-38DE-47E1-8164-454BAEC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6989E-F66E-49A2-8FC8-6A014DD2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1798C-E29A-4A36-A635-8CF057D2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19D82-AF83-4BBB-8DF5-EB89E1DF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1B043-9BA5-4F34-AC5B-CEAB253E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24E58-A7B9-456F-886F-8948B4D5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BA609-A807-434E-BFBA-17F89DB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E257-965B-48AD-921C-C70A6818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36C65-2A87-47C3-8327-7E8D75A4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D4AC7-74CD-46D8-9796-398B36D2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BF9E6-4245-492B-A405-048991E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3C846-9E59-490C-91F1-C73040B5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3C2ED-05C9-4B8B-AC4F-21DA3CC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4183D-6A40-42A1-9A70-9D64C62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8CC90-DE9C-49CB-8C6F-44D6B41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16103-7705-4566-BD52-D24BB84D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11A40-0D4C-46AB-9B91-AC8723F4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146B30-6B4D-44EF-8BD6-E919EA99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9B11-39AD-4711-B5EE-226A87F1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E84302-5890-4CFD-AFB2-A4D4F41C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9B910-08F1-4309-B9EB-30A7D59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EB131D-4331-47AD-AE3F-6B31D99A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20F26-9411-4E97-B516-44F4CE4B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D5E45-7F41-4050-9C10-F1B45F34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85B8B9-71C9-495B-8D77-F295AEF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F02FFD-CEFF-4B62-AB9E-C688131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CE407-6ABA-431A-A84E-6F4C92EC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28A30-71DD-40E5-BE05-523E61B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B423E-1A5D-465A-B68E-95B9E68C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F77E-85D8-42F0-B17D-47B83816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A95F99-6173-43A0-BF59-C518075F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CA954C-7656-450F-95A8-A105AC56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38CC2-7AEB-49E5-BA1E-97048A2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0AD7B4-CE0D-46C7-9020-3A02F74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D8D9E-D1A7-47CC-AF96-7F403D6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EE70E-4458-40AF-86D2-ED3CD94A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A6CB8-82AB-4C16-987E-CFF611E8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D58940-D066-4FAA-8E8F-7CFB85A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E08BB-E59B-4BC8-B7BD-0DA33AF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B08A40-689F-425B-A935-A42ED95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D45F-F297-4D7C-AB1C-9A04E5E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6AB78-5A13-4FBB-A500-DA9CD33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C54C76-90DA-41BF-BBE8-EEE0658C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91BD7-14BA-4016-910F-77B6F7A5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B2B0A7-0D4F-40E6-AF9F-9EDF8575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2E82F-356A-4A95-AA0C-81ACCE7E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790A58-FCD2-4AA2-997B-847BB2F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30F43D-1F59-4407-8AF7-61871D3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1A890-757D-4008-9713-187E0559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4014B-91DF-4431-AB96-DD285D5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6FD9DA-59F5-4236-BEBA-8A419CCF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E4A8-9D6E-42F2-A298-E1C8E23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80F316-0E9F-4DFE-A1B2-8F25F37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F3E5E-7BE6-40BB-97E5-363E4563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53056-A1C9-44D6-8981-3C28A85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5A2931-E44F-460C-B8F9-89D6E466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DB73C-D271-400A-AECE-05B94A00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90EBBC-9EE4-4F65-8955-C6CED110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6E16A6-F79E-4982-BFC7-BC6BE081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AE15E-7F6F-401E-8757-86932A9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B2A78-7EA8-4425-B856-C8024761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0DD96B-5AEE-475A-9AB1-0ACDDB6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D34F-A9A6-4B8E-9ECF-AB6509C7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4CA3D2-12A5-4B53-B08A-278CA09E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B02F8B-5C13-4B1A-AD92-4F60EDE7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3CA5BE-0D27-447D-BDA7-FC7EEB0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224A3A-D90E-49BB-8015-88774AEB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D25329-AD06-466B-8C6E-3A8EFFC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B59A8-ABA4-4A8A-8CA6-D2A324DF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E19E9-A54F-48AE-AD27-23D8D6A4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66DBB-F203-4D4A-B18D-E81B5847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05BBD-B9F9-4D39-AFC9-F1863A3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43E4D-D92E-4ABF-AF2E-1C2CC842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02D1-FBBC-492F-9F18-B2DF2E818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E44B-4DDF-4C15-8F0B-2C21A4FF3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17" descr="ascpcolor"/>
          <p:cNvPicPr/>
          <p:nvPr/>
        </p:nvPicPr>
        <p:blipFill>
          <a:blip r:embed="rId2"/>
          <a:stretch/>
        </p:blipFill>
        <p:spPr>
          <a:xfrm>
            <a:off x="6477120" y="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C81-FF04-4491-BEA7-99B1B9E5D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73C-2E77-41D3-9D5A-DBC80FB54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FB49-FEE6-4FF8-899E-C7AE99513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8460-C14B-4D4F-B275-AFA4C6B20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093-E025-437A-8CBC-21F21FDA2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A1B-0E46-4D83-AC8B-A0E142C07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570-334A-4070-BB76-25DCC759F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780-0893-4BB7-A483-41CA8A2D9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345C-FE97-475E-B49F-0A454BE86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783-9458-4327-A200-E14238D18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F89-8B23-4D45-B2D2-FC82E2CE6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703-877B-4D19-B31C-AF5C93E7F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ascpcolor"/>
          <p:cNvPicPr/>
          <p:nvPr/>
        </p:nvPicPr>
        <p:blipFill>
          <a:blip r:embed="rId2"/>
          <a:stretch/>
        </p:blipFill>
        <p:spPr>
          <a:xfrm>
            <a:off x="3886200" y="-152280"/>
            <a:ext cx="403848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05CA-1464-495E-9DAE-C680A5467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16C7-D084-4148-BBE9-761A42B39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318-32D6-4E37-A93D-726F57294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E33E-A195-4B05-B6B6-502D2DFC8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071C-869A-4851-B150-351BA6E2F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24D2-1B08-4BBA-A2BC-DD7AEAFD5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160-8EB7-48CE-B6F9-5CD1220A7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586-0A41-4C74-89E2-F8F9037E3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61E-4582-4E81-8B34-5188079AB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C557-D0FD-42C2-BFF3-DB870AE7D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B8E-05D2-4535-A997-1D7837BDD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1B49-EB4C-4FB1-A73F-1E47E20CA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E5B9-F908-4CEF-87B0-E80E419BE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0534-483D-4494-B1A0-6DB266E7D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292-17C0-465A-96BD-8CC7AD250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logy and museum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140D-98B8-4F96-9BA8-81598881CF5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completion of this chapter, the student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fine cytopath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various applications of cytopathological diag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4. Explain the diagnostic techniques used in cytopa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0DEB-5AF4-4424-8ADF-3914AC147E7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Cytology and museum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1  introduction to Cyt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 Pathology museum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B9B-2A7A-4650-AD2B-69DAD0FBA4C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1  introduction to Cytology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logy is the scientific study of the structure and function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involves the examination of samples from asymptomatic individuals to detect  premalignant or early malignant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work involves the assessment of material from patients with established signs or symptoms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asic premise that the content of a cytology specimen should accurately and reproducibly represent the cell population of the target tissue or l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730A-8ECD-4488-ACCB-F2578274709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094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athology is the study of cells from various body sites to determine the cause or nature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applications of cytopath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the early detection of asymptomatic canc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is of symptomatic canc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of patients treated for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FAAB-687B-45B9-8336-A25C30C9728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t types of cytopathologic method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needle aspiration cytology (FNA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foliative cyt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sive Cy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Fine-needle aspiration cytology (F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NAC, cells are obtained by aspirating from the diseased organ using a very thin needle under negative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any organ or tissue can be sampled by Fine-needle aspi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pirated cells are then stained and are studied under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organs (example, breast, lymph node, skin and soft tissue) can be easily aspi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041F-8871-4EC2-8FB1-B3180D6B02F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organ lesions, such as the lung, liver, pancreas, kidneys and adrenal glands are aspirated with guidance by fluoroscopy or ultra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needle aspiration cytology is cheap and fast in diagnosing many diseases e.g., Tuberculosis, lymphoma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foliative cy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foliative cytology refers 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examination of cells that are shed spontaneously in to body fluids or secre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putum, cerebrospinal fluid (CSF), urine, effusions in body cavities (pleura, pericardium, peritoneum) and vaginal discharge can be used for the diagnosis of cancer cells and cancer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410-4F17-41E4-B4DB-755294B9771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Abrasive cy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sive cytology refers to methods by which cells are dislodged by various tools from body surfaces such as skin, mucous membrane, and serous membr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can be used in preparation of samples for cervical smear (Pup smear) for early detection of cancer of theuterine cerv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6151-CC17-49C7-8697-8A6228EA01D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0:05:08Z</dcterms:created>
  <dc:creator>Fit</dc:creator>
  <dc:description/>
  <dc:language>en-US</dc:language>
  <cp:lastModifiedBy>DMU</cp:lastModifiedBy>
  <cp:lastPrinted>2019-03-17T06:49:50Z</cp:lastPrinted>
  <dcterms:modified xsi:type="dcterms:W3CDTF">2019-03-17T06:51:43Z</dcterms:modified>
  <cp:revision>15</cp:revision>
  <dc:subject/>
  <dc:title>6.Cytology and museum techniques</dc:title>
</cp:coreProperties>
</file>