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530-49BA-42FF-B8C3-1E409A2AC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F959-93EB-42A2-82C9-74C656787D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issue will contain an internal quality control, but appendix, fallopian tube, uterus or small intestine  may b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1CF5-77A3-4AE4-8C96-1AFB09D48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901-C093-441E-BE32-4E57A3B9B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638-195E-490C-953D-1CE6870C4D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0DAA-0AB7-4237-A2E3-1866E9E1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A542-73B0-465A-A898-527E8AF0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6626B-EA20-43E5-8B7E-259F407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ECA50-BDB2-4572-9A54-0F2AFBA0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46513-7D1A-45A1-885C-1513EAAD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E4BEF-1B1A-40C0-9E8E-AB97889F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D46E8-7AE4-4436-BEB4-A6076E1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BDC2F-66A7-4856-9B04-7A1BFF4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093BB-8AC8-4C42-B0BC-41902A9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329EB-4692-44FA-BC3C-6AE7A323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BDE9A-2BF8-4305-9375-2F5A343E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10E73-13EF-4436-AA12-FE83FB4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499F-4958-4ABE-9B65-0591BD4C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18529-087D-4C32-ABCB-F3FC999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D334C-600C-4F2E-862E-F24B998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89580-638B-4A2A-B51E-3693343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4FC93-E9E1-4B32-BABE-38374C71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1A5A8-A22F-43AD-9B09-CC5BBE71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2D804-CEB1-4556-BFBA-9DE40C2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7534D-D5E4-46DE-9AAF-B18C51B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76B35-0442-49F0-AA86-85993A3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624FA-7F77-4AA6-BD49-9DE9AF3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6135E-EF10-472A-874D-82C8BB7C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E86B-3A17-48AE-8094-BCA5E5B3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CD4F2-B3EF-4C40-9819-29A4E87A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49592C-EF25-42A5-9749-981A8ECB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99DF66-2024-4BED-AA12-F8A78E47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DCF183-59E3-4BBB-BB0E-D26391D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CBF7B4-7BA0-4E6E-835D-0089D5A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5DB9E6-EDF6-4A7F-BA71-BCF1F880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75C724-BBE0-4BD0-8963-C80D59DA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B4D19D-F8A8-4410-BA46-D158D00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CEAF3E-F48C-4C32-94E7-DFC7501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3C83FF-D3D2-4848-8769-0541CF9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8CF6B5-0936-44F3-8157-FEB8C22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D1D01E-61BF-4E18-A609-26C1E1B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D9A629-FEC0-4206-84BA-910C1AA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73A2C-93EB-45CA-9BE8-CA5B8ADB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D43C6-EE8E-4490-A348-262CC39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AAF97-538C-4E98-AE75-6A0BCBB4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92055-26F5-45BD-8B4A-6183DCA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C5296-A2F4-41E4-BB13-391A1F1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5BFA6-FBB5-495D-B148-511AA12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454CD-B37D-4277-BD7A-B98A387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64CE8-7C2B-4A99-99A2-2C31FBE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20D3E-F980-414B-996A-C297913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433A2-C63E-4917-A845-9DF1239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92434-6B94-467C-9BD6-0DF232C8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9DA21-95A0-4581-BE9F-D555B75C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CE71EF-A084-4402-A418-CC6F31F4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7D935B-9B1B-4E6C-A2B0-50E1EFC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360356-F794-4413-B6EF-04419E48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42527A-4F45-41B5-8747-C47732D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03C761-DD44-4BC8-B10F-F69CFF8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839A4C-6D91-465F-ABBD-9C0E7EA3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5F8435-5877-4C0B-B2E2-1B7B189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EB8C3-ECCB-41BB-B8C8-09E964C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67BA4D-BA64-4A5A-AEA6-5F92F9C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8DEBB7-9E68-434E-A5AB-47ACA18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5D148C-85C9-4B0F-95D5-26029014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46EA10-DA38-4488-BA37-6CE17A8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E67016-773C-44BA-A966-E511D627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80528F-8497-4270-A6AA-622A0C1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D5B6B4-E471-49FD-9E32-75E5FFA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C707C2-0A20-4C41-B36F-C66FED8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07985C-F4DA-47D1-A2D2-E87CDE6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0F97AA-E0A1-43E5-8232-4D9A1B55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B067A0-A3D2-48F6-90B6-4E11450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4BD44B-1107-49D6-961E-D4D1D6FE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3C245F-A6EE-4005-AE9E-9037376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24AD11-A730-4A7F-903E-829B55C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ED927D-E5DD-4C06-BB4B-63735912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76AE95-C944-46F3-B588-92B2581C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C42EBE-D537-4200-A079-7CDA6D0A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7AD866-C505-4235-BED2-F27FC5D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17A10E-E510-4D8B-9B1A-03BD9877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D18BFC-235D-4FE4-8198-D1C76D0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7B454B-B8BA-4C75-B93D-EB5F8BD9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0C7496-B3D2-4BC9-9B8C-D746A7D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747EC4-C6BF-408C-A9DD-73459B0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546913-C140-4A07-B682-C3FB06D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30E53A-30D9-4D05-BEB9-23D2EF2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A3CED9-9325-4E4B-91E8-548B004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21656E-AFB8-48F2-A212-7301260A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269DD9-42E8-44FD-8DF9-B956B1FD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518D-A378-4DCE-B796-8C270D1F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1BC9B-DE0C-4827-8D14-B4C29C88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3A9BF-3516-4801-BA0B-462E4B0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CE72A-108B-43C2-B3BE-725153EA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F4A0A-2316-4F15-90A5-A7497BA4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D3FAE-5AAF-40FD-AEE3-B263AE3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E437-D39D-445B-AE22-EDF7D203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0C19C-3239-4CF0-8D7C-8F99CF2C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9658C-63E6-4B01-A3AC-DBA5C0C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B7458-B26D-471A-B8E2-42C5633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52988-FF28-4FF4-9D84-024F777F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66A04-711D-4E3F-95E2-2283731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3BFE3-1A3E-44F8-AF86-404CA9AD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AEC9B-CF54-4884-BB20-437E7430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129F5-7A96-46BA-A592-75843F3B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84B17-0CA3-48ED-AF4E-C5B4D546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07BB1-A047-4586-ADAC-A89526DD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0DD6-80E5-42D9-8259-877C0D17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E4970-2181-401C-BCED-C95053A0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F8D79-9167-42F0-BA2C-632E5914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A40E5-6379-461A-B564-3293DA98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BF496-E807-46F8-BFF3-7C18DEB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C284F-268A-4B4A-A0B4-4609641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02D3A-BAE7-49E5-B081-585546D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B8568-AC5C-491B-A595-CBFC534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2A67C-5801-47EF-9B31-F3B8EF1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598D0-5D6D-461F-991C-D7A68B0D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E8D574-4793-45DD-99AB-588842DE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9577-F88A-4C27-9AA8-D534C5F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9F242-13C2-4036-8718-F528C7F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423EE-6EAC-4E31-8032-442A675D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A33DD7-ECA4-49D7-85D0-FC494DCA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4EFA0-0777-4A68-9A40-BC73A24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B4E172-884A-4CE8-8500-FB4701F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5BBE8-F970-4744-9869-B7F65DB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3D161-D69F-4B88-BC06-5792155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9278F-B62E-4FB8-914E-C34B1B8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4A9141-A733-4D57-AD3B-84C82D3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37AD8-2963-4AAF-89F9-759E0A4A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E71D-4E30-4AF0-8300-312E984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3E1D6-FA81-443D-BACB-FA998DED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B0C14F-3136-4845-B3A4-56FE35B5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D527B-5E65-4669-99F8-13881B9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6F2EA3-8ED5-4EA7-9809-6FFC54A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B3AA4C-DA2A-4DF2-ABE0-3B17718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51789-53C8-4BAC-ADD0-F797C9B0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5F4AC-24B0-445A-BFCF-1A3D7491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A21F3-D176-4CCD-8334-0A0C60A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34978-0F58-4F2A-9E58-DBDAFAF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D053F-6E4F-4B39-BC75-41EF70A8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7251-B0DB-409F-A851-C1485CE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E7FD7-2F3D-4A77-84BC-F43E8401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D2CF5-09A3-4BF1-805D-0B181F30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3D527-46CB-48A6-BF58-B20E2372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CDFCB-682E-4832-9FAD-CB425795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E2E09-A467-4383-A86C-1E310E5C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C3ADF-DC9B-46EE-8798-09F71975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76E6B-3B9F-4467-9894-58994AC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37A29-3E3F-4476-9A80-21FD6CB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5396E-A509-4E64-97B6-84C92E9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AC1A8C-B3BA-4E49-B13B-A9AEC46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EC1B-7640-4D51-8F88-4ACDBF6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FFA2E-9C30-4DE9-B49A-3426931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D8EAB1-C1F1-4F11-AA75-B8BE6DCD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3E895-C914-481E-8E3A-26592AE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C5A73-6475-4A29-AEA9-4A3958B4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CA7321-8CCA-4DC4-B131-ADBC8E4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F852D7-CFDB-4984-8C67-C24764AC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9C8A8-64E6-4DE7-B986-173DF851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3893A-FDF8-4387-8C41-BB9ADECA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421783-AABD-4385-9207-C4D88A1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CA592F-AB5D-4D7C-920C-B722C55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71A2-5F7B-48FF-AD26-543E3F0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CAF8E5-E65B-4C3E-B478-5F135F5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BA11B-1DF9-4B33-A407-0B5A764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9AA49C-8505-4F5F-B202-6A51398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EE13D-5648-4FEF-9118-0B2DFB7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0C44A-F5DA-4227-B0DB-9A347B7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D88339-B141-49F0-9B43-7F8CCA38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EE9AE5-4D9C-4399-97AE-AD00AF1D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A5131-4E8E-422A-8E1F-AD067164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B931B-10A2-45D4-9730-AACB201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92EB4-3DE1-4742-AEC6-263F2A0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EC57-DB0E-44C8-9F65-3787999FD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F331-8323-4596-9841-35B7EB6BC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6126-F841-4797-B4FD-6546895A1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995-6643-43D7-AE6A-60B274409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F04-18F2-4A24-B11C-AD25831C5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B15C-3137-49F2-8824-6605FFEA6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6B5-4A49-442F-B79E-89BCA4612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81B-D99B-40D2-B81D-3440EECF6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CBB-420B-4F49-82EE-F68F8B3BC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0F9-F95B-4FFD-8E44-422792092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3EC-D2E0-4EF1-902A-CFADA09EF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522A-87A8-4994-B3BA-050A94342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1F1-E0C4-4586-A08B-76BD7DDA2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F9F-F124-4C69-B447-B297552BA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A6F-6575-4166-A4B7-8582E45D8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218-CEB5-45EC-9670-216ED6D47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D4E3-EA33-4484-8665-B0B1B9DC0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EB3-E863-438C-BD7E-27493BF6C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BA6-56ED-4D34-8C39-287F0E5B2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9C0A-255E-4372-BF15-D33DED795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619-D809-47DE-B48F-53789281E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C82E-C852-4DEF-8829-AAE5588DA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6689-48DC-4F5B-B744-50162AE0C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49E5-34A5-4F86-BEF0-A6468A3B2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E2FD-9B6E-4A80-B23F-DCBBC69CC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90E-DFF8-4D1C-9B3E-17DD85EAB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87E-9A65-4D7F-9C05-73A673AA2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BAA-FFF3-4A6E-BB5E-2736CBF14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569-1E5F-40F5-A633-7B5E798C9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6848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f2f2f2"/>
                </a:solidFill>
                <a:latin typeface="Arial"/>
              </a:rPr>
              <a:t>5. Special Staining methods 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3500280" y="0"/>
            <a:ext cx="4714920" cy="15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145763"/>
          <p:cNvPicPr/>
          <p:nvPr/>
        </p:nvPicPr>
        <p:blipFill>
          <a:blip r:embed="rId1"/>
          <a:stretch/>
        </p:blipFill>
        <p:spPr>
          <a:xfrm>
            <a:off x="7162920" y="46483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6"/>
          <p:cNvSpPr/>
          <p:nvPr/>
        </p:nvSpPr>
        <p:spPr>
          <a:xfrm>
            <a:off x="4286160" y="4572000"/>
            <a:ext cx="471492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are commonly  demonstrated with a silver stain employing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enamine silver methods rely on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oxidation of carbohydrates within the tiss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aldehyde 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groups will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irectly act to reduce silver 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ethenamine silver solution to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nd silver ions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dependent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e silver to a visible metall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entaff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may also b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emonstrated using the Periodic Acid-Schiff (PAS)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ADD-123D-4772-9847-8C948585DF6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2860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 demonstration is useful to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o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eriosclerotic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idence of other vascular diseases, and vessel invasion by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Verhoeff-Van Gieson (VVG)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only used to demonstrate 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ssue section is initially over stained with a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matoxylin-ferric chloride-iod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differentiated for optimal demonstra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F79-D93E-464B-96EC-F2BC3662856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od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link hematoxylin dye molecules to tissu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ey act as oxidizers to convert hematoxylin to hema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lute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n used to break the tissue-mordant-dye complex, thereby differentiating structures with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 have a strong affinity for the iron -hematoxylin 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y will retain dye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other structures dissociate dy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BAA-0266-4F38-B8CB-7515F7792F0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stic fib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odium thiosulfate rem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iodine and ferric chloride from tissue s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Van Gies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ts as a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ounterst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quality control tissues include lung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arenchym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AE6C-58DF-4880-9463-61430C86BA9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86680" cy="6400800"/>
          </a:xfrm>
          <a:prstGeom prst="rect">
            <a:avLst/>
          </a:prstGeom>
          <a:ln w="0">
            <a:noFill/>
          </a:ln>
        </p:spPr>
      </p:pic>
      <p:sp>
        <p:nvSpPr>
          <p:cNvPr id="69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7DD-6E0A-430C-856F-65E00C1DA3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hoeff solution should be made fresh for each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tiation step is critical to optimal results, as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ver-differentiation results in loss of finer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staining in van Gieson counterstain will contin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differentiate s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ts picric acid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A4B-BE41-48E1-A845-BA510561F1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28240" y="3805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hrome S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inguish collagen from mus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id in the diagnosis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ibrotic changes, neuromuscular diseases and tumors of muscle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on’s Tri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Masson’s trichrome s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Bouin’s solution is used initially as a mordant to link the dye molecu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tissue components of inter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 are stain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ert’s 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resistant to decolorization by subsequent acidic staining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436-6695-4DC6-9322-59BCA2405E9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ebrich-scarlet-acid-fuch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ins all acidophilic tissue elements such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ytoplasm,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treatment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osphomolybdic/phosphotungstic acid serves as a decolo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ausing the Biebrich-scarlet-acid-fuchsin to diffuse out of the collagen fibers while leav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cells 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of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aniline b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tain the collagen after which, 1% acetic acid is employed to properly differentiate the tissue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AF5-EDB3-420F-9247-4D931F0224E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572000"/>
          </a:xfrm>
          <a:prstGeom prst="rect">
            <a:avLst/>
          </a:prstGeom>
          <a:ln w="0">
            <a:noFill/>
          </a:ln>
        </p:spPr>
      </p:pic>
      <p:sp>
        <p:nvSpPr>
          <p:cNvPr id="7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BAF-09F8-4E3F-B59E-07D21F46C3F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le Bouin’s solution used at the correct temperature will ensure optimal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differentiation by  posphomolybdic/phosphotungstic acid yields proper intensity of red-staining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red staining of muscle may indicate that Biebrich-scarlet-acid-fuchsin solution has 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ty of blue-staining entities is modified by increasing/decreasing incubation time of aniline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d blue staining of connective tissue may indicate over differentiation of section by 1% glacial 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4F6C-84D4-4438-9A22-84BC3E1B180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5.Special Staining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 Connective tissue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939-7421-4B7E-B637-6954D68F14C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796-3A5A-4482-93B5-78622FE1172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ns,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ining of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jor constitutes of cells and tissues, are made up of amino acids linked by peptid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of demonstration of proteins in tissu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stophys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mino acid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-fluorescent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 histochemical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27B-6E80-46FD-BE8A-2E674BAE093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phys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physical method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sed on physical configuration of their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on their chemical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thods are based on selective staining with large or small molecule dyes for example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richrome metho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se technique, proteins present in collagen, fibrin, elastic, reticulin, and amyloid can be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8188-CE70-437A-B79E-8C53968288F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5228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: Histochemical reactions in protein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371-962D-4F6B-A4CA-8876F962D43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 histochem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 histochemical methods are based upon identification of exposed groupings and linkages within amino acid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staining methods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ome of the amino acids  in the proteins and not the whole proteins are demons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Amino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hydrin-Schi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action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neutral pH and 37oC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inhydrin reacts with alpha aminogroups to produce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aldehyde can then be demonstrated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iff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807-A85A-4A92-ACE9-F9EBDA994DF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ation 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utral formal saline or formaldehyde vap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of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section to 70 %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 with Ninhydrin solution at 370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ce the slide in Schiff reagent for 4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unter stain with alum haematoxy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hydrate with graded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Clean in xyl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Mount in DP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group =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tain pinkish p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97C-F773-4984-9F38-89F0B35A1A4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y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llon re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yro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reated with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hot mercuric-sulphric-acid nitrate mi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inkish 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develops at the sit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rosine containing 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the only amino acid, which contain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xyphenyl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can be regarded a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pecific for tyros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invariably present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tissue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on reaction is a suitable general protein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78AF-C9C7-4C80-A2E3-A92143766BE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has a 5-carbon sugar called deoxyribose, and RNA contains a 5-carbon sugar called rib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n these sugars is a single hydroxyl group (OH-), and it is this difference that allows for selective demonstration of DNA and RNA by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most common 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d for visualizing nucleic acids ar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ul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yl green-pyronin Y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8E6-EB92-44FB-BE5C-086741A17D7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ulge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ulgen stain takes advantage of the ability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to hydroly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hemically alter the deoxyribose sugar of DNA into an 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reacts with Schiff’s reagent, which specifically binds to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st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what constitutes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eulgen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ght green counter stain is often applied to the tissue section to achiev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better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ibose sugar of 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naffected by this 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therefor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ill no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CB52-DAEB-456E-82DE-2322D01511A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8560" cy="28958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7A82-C04C-456C-B732-862E85A9BCD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 Connective tissue staini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79B-7A50-4EDE-8DF0-AA8C248C1C0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eulgen stain, hydrolysis is the most critical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ydrolysis time is increased, an increasingly stronger reaction can be achieved until an optimal state is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hydrolysis past this optimal state causes the reaction to become weaker and ultimately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50C-13B6-4B3D-BE2A-A36C503CC22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28240" y="4568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yl Green-Pyronin Y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demonstr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incubated in a solution of purified methyl green and pyronin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 preferentially binds to DNA and pyronin Y to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that two basic dyes bind preferentially is suggested to be related to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ifferent degrees of polymerization observed in DNA and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more highly polymerized, is bound only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here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less polymerized than DNA, is bou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y pyronin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47D-07AB-452B-9009-A2807391507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60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Carnoy’s fixative yields the best results, though protocols have been modified to allow formalin fixed tissues to be sta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taining, it is imperative that the stained slides are not exposed to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ides should be dehydrated in acetone or tertiary butanol and mounted in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ynthetic re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557-FE53-4B6E-BE2C-B19FCB03B1F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156-4C24-4A6D-A548-001E2CA4372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 Nucl…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49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yl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is an intercellular material that is deposited in various tissues such as heart, muscle, skin, liver, spleen, kidneys and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amyloidosis can be classified based either on the underlying cause or by pattern of amyloi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osis may be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enetic predisposition, chronic inflammatory diseases, tumors or Alzheimer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progression of the amyloidosis can be halted through treatment of the underlying condition, so early diagnosis is extremel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40D-6CAA-425E-B8E0-549EE6BC579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ongo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o red is a dye with a selective affinity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yloi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linear shape of the molecule is responsible for its ability to bi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β -pleated sheet structure of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is thought to be throug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on-polar hydrogen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ining methods used favor the formation of these bonds over electrochemical bonds that may bind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ongo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ther tissue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4C49-2B61-4E18-BB81-BC079B8235E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51920" y="4572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sod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ining solution favors selective binding of the dye and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arrangement between the dye and the amyloid produces a unique effec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e-green birefrin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the stained tissue is observed with polarized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presence of apple-green birefringence has become the most reliable diagnostic feature of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the counterstain of choice for the Congo red 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21C6-B64F-4303-9EC6-1AB5BAA07A6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deposits are formed in tissues spontaneously or in association with a wide range of disease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osits are intercellular and may become large enough to cause damage to surrounding t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type of underlying disease, amy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s may form in muscle, heart, skin, tongue, liver, spleen, kidneys or adre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56A-4D60-41DC-BE28-AC2000A6297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7800" cy="571500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6BF4-A6EA-429E-B73A-422C28D0EBD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520" y="28195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449-B28C-4011-BFA3-3D57276F30B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 tissu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types of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connective tissue matrix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ted with glyco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orm a delicate framework for many soft organs and a network around nerve fibers, fat cells, lymph nodes and smooth and skeletal muscle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collagen and provid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atest strength of the thre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genous fibers are foun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gaments, tendons, cartil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A71-E19B-49D2-80AE-A94E120069F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0492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are widely distributed in both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often referred to as “starches” or “sugars” but can be divided into numerous subtypes based on their che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years, diverse terminology has been used to describe and classify tissue carbohyd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urposes of this chapter related to the staining of tissue carbohydrates, two main entities will be considered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so known as mucosubsta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343400" y="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BCA-C2FD-4501-8E44-100AC72CC57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24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is a simple polysaccharide that is widely distributed throughout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ound in greatest amounts in the liver, hair follicles, endometrial glands, vaginal and ectocervical epithelium, and cardiac and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may have diagnostic significance in several types of tumors including carcinoma, mesothelioma and rhabdomyosarc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glycogen distribution patterns may be disrupted in diseases caused by carbohydrate metabolism enzyme deficiencies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von Gierke’s dis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ompe’s disease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49528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F373-7C91-4DAD-A8A9-D55359548F8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 Acid-Schiff (P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 reaction demonstrate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grou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by the oxidation of certain tissue carbohydrates and glyc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xidation of the tissue sections is performed using period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oxidation, tissue sections are tre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chiff reagent, a colorless mixture of basic fuchsin, HCl and sodium metabisulf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ncubation, basic fuchsin binds to the newly formed aldehyde groups 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30A4-B2B2-4D06-91DF-A7FACF5CC49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unterstains may then be used to visualize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taining is very commonly used to demonstrate cell nuclei, although other counterstains may also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lder methods include treating the sections in a sulfurous rinse solution before the running water w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serve to reduce background staining by removing excess Schiff reagent from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C669-09C2-4590-A946-AC6BB507165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4920" y="380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ly used to evalu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lycogen deposits in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m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bladder, kidney, liver, ovary, pancreas and lung may also contain glycogen granules of diagnostic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ities of the basement membranes revealed by PAS staining can aid in the diagnosis of several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he basement membranes can also be used to measure the invasiveness of skin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E3F-005C-4E8C-B6E8-2016FC60E49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78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27C-6CAD-4A76-B098-7AB77770B2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amily of polypept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ecreted by a variety of epithelial and connective tissu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fication of mucins is complex but can, for purposes here, be simply divided in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ucins are produced by many tum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carcinoma, liposarcoma and mesotheli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systemic production of mucins is also found in diseases caused by enzyme deficiencies (Hurler disease, Schele disease, Hunter dise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D54-5725-4E49-ABCA-8CB3A253D15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4920" y="5335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Mucicarmine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cicarmine stain contains carmine (a red dye) bound in solution to alumin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uminum acts as a mord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binding to the acid groups of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inding causes the carmine dye, which is carried along with the aluminum, to impart a deep pink or red color to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nuclei are usually stained with hematoxylin and the remaining tissue elements are counterstained with metanil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5F84-3E97-4715-98CC-C1C24CEAF5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5335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icarmine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demonstrate acidic mucins secreted by cells of epithelial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stain the capsule of the 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Cryptococcus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763120" cy="350532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AF7A-E2B9-4330-B163-A7FEC2F8005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ian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a water soluble dye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erives its blue color from the copper in the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dye and, therefore, has an affinity for tissue elements containing anionic groups suc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s acid mucins and other acidic carbohydrate mo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8E6-908E-48F6-8AF8-45E42688578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4920" y="3805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elastin and offer the greatest flexibility among th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s allow tissue to stretch and are 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lls of blood vess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perform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port 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ody and are common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ver, kidne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l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rhotic liver shows disturbed patterns of reticular fibers, explaining the routine use of reticular stains in liver biopsy specim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A601-09EC-471A-8C13-0A4E8A5EFE9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acid mucins, which can be produced by several types of epithelial and connective tissue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mucins also play a role in collagen diseases and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early stages of athero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satility of alcian blue staining methods is a valuable tool for the evaluation of the various 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1874-B981-4643-A5B8-0EB370A0235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99320" cy="579132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6A1-45E2-4147-A131-C75B25E548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3805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re classified as simple, compound and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occur in cells either as microscopic droplets or bound to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ing of simple lipids with Sudan and oil red O dyes will be discussed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deposition of fat may develop because of injury and from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 embol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y dislodge, relocate and cause loss of function or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9835-66DC-4F39-B55C-79FE72E88E2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28600" y="3805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sarc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differentiated from other tumor types using lipid-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ive changes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yelin and cell membranes may exude fat dropl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onstrated by these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imple lipids are demonstrated using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oil red 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Sudan black B st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se “staining” techniques demonstrate physical processes rather than chemical interactions displayed by most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ye (oil red O or Sudan black B) is dissolved in a lipid solvent such as propylene gly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8F33-3E33-419D-9BC7-8125491BEF9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088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at solvents, such as isopropanol, may be used, but result in some lipid lo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e molecules are found to be more soluble in the cellular lipid than in the dye solvent imparting a positive stain color to the tissue lip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then stained with an appropriate counterstain (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/nuclear fast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D252-509E-47DC-999C-A2DDB4EB166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2666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" descr=""/>
          <p:cNvPicPr/>
          <p:nvPr/>
        </p:nvPicPr>
        <p:blipFill>
          <a:blip r:embed="rId2"/>
          <a:stretch/>
        </p:blipFill>
        <p:spPr>
          <a:xfrm>
            <a:off x="457200" y="3568680"/>
            <a:ext cx="8381880" cy="329724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A67E-604D-494A-8BF9-D6517C135B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E5F-E021-4FD2-BABA-7C800DDDDE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71600" y="284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 and Minerals</a:t>
            </a: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play an important part in the diagnosis of diseases and conditions such as gout, kidney and gallbladder stones, jaundice, melanomas, Albinism, hemorrhage and tubercul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either normal or patholog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igments are identified either by their color, size and shape or by chemical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can be separated into three categories: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rtifact, ex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nd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41B-860D-43CF-ABFE-162FFD8FE5C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153280" cy="4038480"/>
          </a:xfrm>
          <a:prstGeom prst="rect">
            <a:avLst/>
          </a:prstGeom>
          <a:ln w="0">
            <a:noFill/>
          </a:ln>
        </p:spPr>
      </p:pic>
      <p:sp>
        <p:nvSpPr>
          <p:cNvPr id="82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7C2-8925-4CA2-BE59-3E7E78854F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380880"/>
            <a:ext cx="83055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ogenous pigments are described in this ch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recognized pigment is melan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, a brown or black pigment derived from metabolism and not directly associated with blood, is normally found in skin cells (melanocytes), hair follicles, eyes (iris) and areas of the embryonic br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ribution and amount of melanin is what accounts for the wide varie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kin, h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ye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lanin is found in condition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ignant melan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6EF3-99AC-434D-9E0A-9C3D9F96D4C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lso display characteristic patterns in tumors, thereby aiding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n the differential diagnosis of certain  tumor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commonly demonstrated by the use of stains involv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ver solu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ains rely o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egnation of silver ions to th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seque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tion of those silver ions to their visible metallic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agyrophilic  in that they possess 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sorb silver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re unable to reduce it to visible metallic form without the use of a reducing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764-6DC1-46CC-85D6-C278E1E14EF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2824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 possesses the strang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ability to bind silver from silver solutions and reduce it directly to 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almost completely insoluble in organic solvents because of it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ight bond with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elanin are varied in approach and can be simple or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morl’s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imple technique that uses melanin to reduce ferric iron (Fe3+) to ferrous iron (Fe2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1F4-4CAE-4EB1-AA64-14D4087DF71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5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rrous iron then combines with ferricyanide to form ferrous ferricyanide, also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rnbull’s b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 techniques use silver nitrate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ntana-Masson method for melanin and the Warthin-Starry method for melanin are two such me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step is application of nuclear fast red counter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577-C551-4472-8447-38807A1758E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all the special staining techniques  for melanin, this reaction is not melanin-specific and may stain other element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gentaffin, chromaff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286480" cy="4114800"/>
          </a:xfrm>
          <a:prstGeom prst="rect">
            <a:avLst/>
          </a:prstGeom>
          <a:ln w="0">
            <a:noFill/>
          </a:ln>
        </p:spPr>
      </p:pic>
      <p:sp>
        <p:nvSpPr>
          <p:cNvPr id="8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5359-9A91-4952-BB4F-9D98570E5D6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osid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sider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lood-derived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crystalline aggregate of proteins involved in iron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pathological conditions involv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rrh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lytic anemia, metabolic iron disturbances, liver fibrosis, toxins, cirrhosis,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diabetes melli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ing yellow to golden brown in unstained tiss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 is insoluble in alkalis and soluble in strong acid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2A6E-A996-44B1-97AB-8CACA66D152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ation in formalin alters hemosiderin so that it can be solubilized slowly in weak ac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lor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erl’s methods for i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ferric ion in tissue binds with ferrocyanide in solution forming ferric ferrocyanide, otherwise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russian 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ferric iron in hemoglobin is tightly bound to proteins, it is first necessary to use acid to release it from the protein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hydrochloric acid (releasing solution) and potassium ferrocyanide (binding solution) is abl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in the ferric ir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uclear fast red is the typical counterstain for these st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580-9B9C-442D-8631-1C4E2BC8E64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64520" cy="2438640"/>
          </a:xfrm>
          <a:prstGeom prst="rect">
            <a:avLst/>
          </a:prstGeom>
          <a:ln w="0">
            <a:noFill/>
          </a:ln>
        </p:spPr>
      </p:pic>
      <p:sp>
        <p:nvSpPr>
          <p:cNvPr id="84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1B9-4067-4B98-9EAB-B04CA7794FA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ofus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ofusc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yellow-br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eddish-brown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found in many parts of the body includ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one marrow, adrenal, kidney, liver, heart, testis, ovary, cervix, brain and spinal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is formed by the slow oxidation of lipids and lipo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nicknamed 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“wear-and-tear” pig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arge accumulations of lipofuscin are found in people of advanced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dentified using special staining techniques, lipofuscin can be found in a variety of colors, shapes and si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A8C-AF0C-45A2-B063-A843F295540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52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propertie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are dependent upon the length of time that the original lipid or lipoprotein has  undergone oxi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ore than one special staining technique be performed to confirm the presence of lipofus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lipofuscin is present in some lipid storage dis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n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, and can be found 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dges of cerebral hemorrhage or infar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for lipofuscin include oil red O, Sudan black B, Gomori’s aldehyde fuchsin , methyl green basophilia, periodic acid-Schiff and Fontana-Mas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BC73-FCAC-4A44-801D-99AC5651A4D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304776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8C0-EBAA-4A9E-84EF-E62F2AC6E17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5331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c acid metabolism creates uric acid, which is normally excr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te is the form of uric acid that circulates in the  blood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lized urate is in the form of monosodium u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crystalline urate is characteristically yellow but can vary from colorless to brown, depending on the thickness of th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crystallization or increased urate in the blood predisposes a patient to g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or kidney function, kidney stones and arthri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FED-2FC9-4E6E-94ED-89F37624511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lective silver precipitation on tissue sections may be caused by use of improperly cleaned glass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olution should be made fresh with high qualit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ammonium hydroxide added to ammonical silver solution impairs impregnation of reticular fibers and results in weak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nity of silver solution may contribute to loss of tissue section from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charged or adhesive-coated slides is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0D24-A61C-4FD4-88B3-90964A7084F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088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disease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eukemia, urates can ultimately be deposited in the kidne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s because an extremely high number of cells are destroyed, resulting in nucleic acid metabolism and generation of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issue, uric acid crystals are present as sodium urate, which is soluble in aqueous solutions and slightly soluble in weak alcoholic solu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fixative of choice is 95% alcohol, which prevents the dissolution of the u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urate crystals can be visualized on a hematoxylin &amp; eosin (H&amp;E) stained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39E-F242-4973-BC7A-1A9A66C6D4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52280" y="5331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ates will demonstrate a negative yellow or blue birefringence, based on the alignment of the urat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staining techniq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omori’s methenamine-silver method, can also be used to identify urate crystals in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placed into a methenamine-silver sol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rates, like melanin, can bind silver from silver solutions and reduce it directly to metallic sil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ducing the silver, sodium thiosulfate is used to remove the unreduced silver from the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hen counterstained with light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7A78-2B6D-4A65-A5B4-A081CD53A38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35053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note that an alcoholic fixative must be used in order to preserve the u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88200" cy="2590920"/>
          </a:xfrm>
          <a:prstGeom prst="rect">
            <a:avLst/>
          </a:prstGeom>
          <a:ln w="0">
            <a:noFill/>
          </a:ln>
        </p:spPr>
      </p:pic>
      <p:sp>
        <p:nvSpPr>
          <p:cNvPr id="8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7A5-A087-4F58-9446-DCA15E12DF2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880" y="5331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ste product of Red cell  degradation is  biliverd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is transported to the liver, where is it further reduced to bilirub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rubin is then removed from circulation in the blood and is secreted as a component of 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and bilirubin are considered bile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e pigments can vary in color from yellowish-brown to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excess bile pigment is seen in patients with gallstones, sepsis, liver degeneration, congenital liver enzyme disorders and liver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773A-C70F-49E0-953C-9CA7DE2BFC5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most reliable and reproducible special staining technique for demonstrating bile pigments is Hall’s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 bilirubin is easily oxidized to biliverdin in a solution of ferric chloride and trichlor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tissue section is then counterstained with Van Gieson’s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ile and bile pigments in the liver are detected using this special staining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bile pigments in other locations outside the liver, such as hemorrhage, either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melin technique or Stein’s stai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7AF-0963-4339-BCC1-ECFFD654A9F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0492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s of bile pigments are lost during routine tissue processing and staining because of their slight solubility in organic sol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eposits of bile pigments, however, can resist these processing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two control sections should be processed with the test s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5768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4FB-5753-4E40-9EA3-2EA74240A46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is an insoluble mineral that is part of the normal composition of bones, teeth and n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ne of the most important minerals used by the human body, participating in such vital functions as blood clotting, neuronal signaling, muscle response and heart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alcium deficiency cannot be identified using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normal deposits of calcium can be found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crotic tissue areas in cases of tuberculosis, atherosclerosis, kidney calcinosis, sarcoidosis, hyperparathyroidism and kidney s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17C2-62DF-4CCA-884E-3ADECCAA47E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wo well-known special staining techniques for demonstrating calcium depos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Kossa and Alizarin red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n Kossa calcium stain is an indirect method for identifying calcium in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calcium salts in tissue are calcium phosphate and calcium carbon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, silver is substituted for calcium and is then reduced to metallic silver with sun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stain of choice for identification of calcium is the alizarin red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s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71DE-85F1-429E-8BD7-48A066F0189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6840" y="3276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ining technique, the reaction must be monitored microscopically to ensure that diffusion artifact does not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issues preserved in non-acidic fixatives ar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best for demonstrating calcium depo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137440" cy="297180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01F-7B98-4F32-8966-4BEBF60C04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7D94-5127-4126-BDA0-4F438CBE8D7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22D-913C-44E2-A076-270BB2144CC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org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infective microorganism can be done in histologic examination though rarely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f difficulty in demonstrating microorag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fective microorganisms are too small to be seen in ligh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any large organisms are not distinctive by 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imes the number of the microoraganisms are few that even in special stain can be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E493-BD83-4CAE-A261-02E01AF9AEA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necropsy specimen over growth of non important organisms can obscure important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these difficulties an experienced pathologist can make a diagnosis of infection by correlating clinical and morphololigc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’s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hl-Neelso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tain (for spirochetes and fun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emsa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98C-4AAB-410D-9141-D2D14865A06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ment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ement membrane is a modified connective tissue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vides support to epithelial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ipheral 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mits diffusion of nutrients and wastes between cells and capillaries in underlying connectiv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cellent for the demonstr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mer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ubular basement membranes of kidney biops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outinely used as a component of kidney biopsy panel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o demonstrate evidence of rena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5E8-C384-47E6-9DA9-88C3C2ABD73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43:23Z</dcterms:created>
  <dc:creator>Fit</dc:creator>
  <dc:description/>
  <dc:language>en-US</dc:language>
  <cp:lastModifiedBy>DMU</cp:lastModifiedBy>
  <dcterms:modified xsi:type="dcterms:W3CDTF">2019-06-18T19:11:44Z</dcterms:modified>
  <cp:revision>104</cp:revision>
  <dc:subject/>
  <dc:title>CHAPTER 4  4.Special Staining methods</dc:title>
</cp:coreProperties>
</file>