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DFD1-8703-44C2-92DA-9FB653683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AC11-DD3D-469F-ADBB-E399A9D60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8EF9-EA8A-48B7-9C87-77F59ED44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EE50-67EE-4AEE-8964-66481C660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C90B-158E-4E1A-B881-54EA63085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69F6-C4FC-4A58-AABE-302096DE0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3807-0676-494B-BBCE-C64232AE3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F023-8CCF-4370-B97B-416AA5507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2C42-346B-4DBB-8435-49CD8C45B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E69C-D57C-40C4-B901-E5B741FAF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6EB3-784B-46B8-9442-BDC84BFB4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EDB2-DFD4-4684-AA7F-6A88BD749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D1A4-080C-48A1-BF39-9A9A850D1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8D51-594C-448E-873C-CF5C9EA3F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5D37-A7A2-43F8-9E26-B1F9D7761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F52C-67C0-4236-B523-33D2FC33C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0778-0252-48BE-BDF3-18F5D5B002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24B5-2A1D-45C4-94F2-DC7CAB215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E188-EB1C-495A-BD76-B51A0D13F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14B7-7167-4708-9765-044B2C98D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E5FF-F84C-4AF4-97E2-45A99AB22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EE03-51E8-4CB2-BE8F-D2C984427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80B2-933C-4C96-A90C-FA6B819E1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F021-252F-4723-A1E2-78F00F6F1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4A53-3280-455C-B3A0-5B2098AA1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CD67-1C02-4783-8828-E85BEE827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FE3C-ACB0-4E24-B24E-99F96C06B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DEE-72A9-49FB-9535-A03D4F98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66B-A14F-4906-AE1E-2F910980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C14-33AE-4D53-8965-47DEBF5E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639-F252-4BCB-9413-99A6EE0A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7945-E841-4EDB-96AA-244B4FDD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396E-69D6-4AD8-926C-F651BFA3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677F-F3FD-4467-BB8A-59F97460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70AF-71B1-4CE8-BD48-D9652774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A05D-BE73-4AA0-AA64-5C7853F7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27B7-AD3D-43EB-B9DE-C388ADC5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3E7E-D28C-428A-9124-C113D9DB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E31-9869-4B1E-BE50-3C5998F5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65E8-C4B6-4E3E-9ED5-8F653E49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7684-81BC-4CFE-8139-7E6D5CE3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312F-246D-40E8-940C-063918BE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F647-FE6C-4AC5-8EA1-DF69CCA2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7DC7-67DA-45FA-AC00-D92E635CF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3A911-B1CF-4193-8298-D47A7747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ECF01-A196-4896-B4BB-D019E2CF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9B5A-BE69-40D9-B0A9-FAC0A0B2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EB050-D190-4A79-A255-2A7038EF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54A0C-DB9E-40F5-93D8-08E9818C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A37-5EF9-4161-857E-84910D68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CE63F-BFB2-4088-B14F-DDDDEA67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9E3FB-4647-40D5-8503-66DB02DC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836C3-3F7B-4F5D-A205-B3C2EB64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762E-C39D-41EE-8806-1E76B109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29A6E-A020-43E8-AE61-964E05C9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AE469-1186-4A48-80F8-034B57A5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25639-B1D4-43C6-98D9-93055FB2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84904-AFE0-4A27-8BA1-D1BFC6DB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B68FA-B8BD-4062-82C3-D07701A5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2FA46-4FA9-4B03-AD06-54DEF5E2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5F7-2038-4822-A8AB-65DFC6EC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9ABAC-FA6E-4CB1-B417-BAD15D1F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AD115-D084-46AF-B4CF-065677F8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05E0-6EFC-4F90-BD19-A391F5AF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05E65-EF6C-4E83-83F2-6C1EBCAC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1048E-85B1-4341-8A23-88D35746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255F9-C995-4D46-96B7-10B231FA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AA4A7-BF6F-4AB3-9B43-50451449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69043-DEAC-4A28-9417-7505F1D9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7149F-C971-49CC-B71D-F1A9F96A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657D3-93FD-4617-AD36-FA4E2165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06AA-9362-486D-80F2-8AA9568D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CED4C-46ED-4865-BD5C-8E774A3F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4AD78-9C6F-4966-A6DC-8347F507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0F3224-412A-48B5-BE5A-F6CC601A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8A642-E35B-4180-A744-49EDD4A9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13283-6E45-4A40-86D1-B37F75A2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F283E-5C36-430A-A57C-BB0F7480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A061F-7E5B-4719-94DF-45483669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7C604-18AE-48CE-A7FE-44CC6746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920291-50FB-4C3C-97AC-E7493FF5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3884D7-ECA2-492C-ACC9-73856661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E85C-F220-4DDD-B662-B7CF5D52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B2DD5A-39A3-4D76-BE2B-31A10371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6B1-E76F-4BA7-9A8B-B68C2C14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5F2-CD05-4FCB-93D6-8BB8DC03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4E52-01BC-4695-BF18-90F69D99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A8F7-7B70-4201-B164-FE128726C8F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1DB1-31E1-4B7F-B526-D65EB3930D3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7206-16F2-456A-AEBE-D112733396A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C8C3-C5AE-4F19-9C1E-FE97FE9DE74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05A7-5F3C-4FC4-9666-51ED5DA83ED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26596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487692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b74b"/>
                </a:solidFill>
                <a:latin typeface="Calibri"/>
              </a:rPr>
              <a:t>Log window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4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low the tool bar is the Log window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you run a SAS program, a listing of the program is printed in this window.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lists all the contents of all the programs in order you have submitted for execu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ails concerning the running of the program are printed here,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e.g. how much time it took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If the program doesn’t work, SAS prints messages along with the program that indicate where it found error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G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window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lists error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&amp;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warning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resulting from your last program submis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Log window should always be examined after running a SAS progra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304920" y="438120"/>
            <a:ext cx="8534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alibri"/>
              </a:rPr>
              <a:t>Program Editor window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13336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Once SAS is started, by default the cursor will be located at the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OGRAM EDITOR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is here that </a:t>
            </a:r>
            <a:r>
              <a:rPr b="1" lang="en-US" sz="2400" spc="-1" strike="noStrike">
                <a:solidFill>
                  <a:srgbClr val="00b050"/>
                </a:solidFill>
                <a:latin typeface="Constantia"/>
              </a:rPr>
              <a:t>the various commands that make up a SAS program are type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is where you type in your programs, or recall previously written program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This is also where you submit your programs for execution.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ce a SAS program is typed &amp; edited into the Program Editor window it is ready to be submitted for execu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304920" y="29700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Calibri"/>
              </a:rPr>
              <a:t>Output wind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nstantia"/>
              </a:rPr>
              <a:t>If the program runs successfully then the output from the program will appear in the Output window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access the Output window use the menu command Window &amp; click on output or clink on output window at the window bar which is found at the bottom of the scree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UTPUT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window lists the output resulting from execution of your programs. It contains printable results, if any exists, from the SAS procedures you ra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tice that you can toggle between windows by using Window menu from the menu ba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utput wind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9b74b"/>
                </a:solidFill>
                <a:latin typeface="Calibri"/>
              </a:rPr>
              <a:t>Function key wind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nother important SAS Application window is the KEYS window, which contains the function key  in th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GRAM EDITOR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o acces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unction keys press </a:t>
            </a:r>
            <a:r>
              <a:rPr b="1" lang="en-US" sz="2600" spc="-1" strike="noStrike">
                <a:solidFill>
                  <a:srgbClr val="0000cc"/>
                </a:solidFill>
                <a:latin typeface="Constantia"/>
              </a:rPr>
              <a:t>F9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and the following default settings will be display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762120" y="439560"/>
            <a:ext cx="7467480" cy="60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502920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Calibri"/>
              </a:rPr>
              <a:t>Results wind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0948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results window is structured in such a way that its outputs from program are organized into folders, sub folders, and items within each subfolder for each specific SAS procedure outpu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access the SAS output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 on Results tab in the SAS workspace window ba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 on the plus sign to expand to sub folder &amp; item of your choice 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uble click on an output line of your choice also gives you the same resul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772400" cy="616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9b74b"/>
                </a:solidFill>
                <a:latin typeface="Calibri"/>
              </a:rPr>
              <a:t>SAS: Statistical Analysis System</a:t>
            </a: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AS System is an information delivery system that transforms data into information for better decision-making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he SAS programming languag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enables you to access &amp; manage your data. For example, you can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read, transform, format &amp; combine dat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You can also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modify valu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&amp; 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create variab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With SAS, you use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statements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to write a series of instructions called a SAS program.  The programs are written using the SAS languag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AS workplace enables you to write &amp; edit SAS programs, as well as manage your data &amp; outpu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518148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cc"/>
                </a:solidFill>
                <a:latin typeface="Calibri"/>
              </a:rPr>
              <a:t>Explorer wind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window which contains a number of SAS reserved &amp; your own libraries which contain SAS data sets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temporari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permanent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n SAS environmen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646280" y="1935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9b74b"/>
                </a:solidFill>
                <a:latin typeface="Calibri"/>
              </a:rPr>
              <a:t>Exit S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7617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exit SAS you can simply click on the close window symbol in the upper right-hand corner of the Display Manager window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are then asked if you really want to terminate your SAS sess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respond by clicking OK, then the Display Manager window closes &amp; the SAS session end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f course, any programs, logs, or output produced during the SAS session are lost unless they have been sav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b74b"/>
                </a:solidFill>
                <a:latin typeface="Calibri"/>
              </a:rPr>
              <a:t>Ending your interactive SAS session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You can end your interactive SAS session using several methods, includ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ing on 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the upper right corner of the main SAS wind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sue 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Y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NDSA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mmand on the SAS command 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it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om the file pull-down menu in the main SAS window menu b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s 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LT + F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b74b"/>
                </a:solidFill>
                <a:latin typeface="Calibri"/>
              </a:rPr>
              <a:t>Submitting SAS Programs for execu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SAS program typed into the Program Editor window is submitted for processing by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rst select part of the program you want to submit for execution &amp; then do one of the follow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ing on the Submit button from the tool bar (submit icon--          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ose submit from the run menu on the menu ba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s the  short cut key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F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235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ype submit on the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command ba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&amp; click on the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right mar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2057400" y="4191120"/>
            <a:ext cx="38088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b74b"/>
                </a:solidFill>
                <a:latin typeface="Calibri"/>
              </a:rPr>
              <a:t>Clearing the window and filename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clear a SAS window of its contents, do one of the following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RTL + 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ick on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dit &gt; Clear al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yp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lea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 the command bar and press Ent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ght click on the window whose content you wont to clear &amp; select clear all from the edit menu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b74b"/>
                </a:solidFill>
                <a:latin typeface="Calibri"/>
              </a:rPr>
              <a:t>Getting Help from the command bar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can get help for SAS language elements &amp; SAS products by using the HELP command in the command b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you enter the HELP command, the SAS system help displays help for either the active window or for the type of help you specify in the HELP command argum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4267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9b74b"/>
                </a:solidFill>
                <a:uFillTx/>
                <a:latin typeface="Calibri"/>
              </a:rPr>
              <a:t>Accessing S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nstantia"/>
              </a:rPr>
              <a:t>Double click on the SAS icon      on the deskto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nstantia"/>
              </a:rPr>
              <a:t>Start -Run</a:t>
            </a:r>
            <a:r>
              <a:rPr b="0" lang="en-US" sz="2800" spc="-1" strike="noStrike">
                <a:solidFill>
                  <a:srgbClr val="0000cc"/>
                </a:solidFill>
                <a:latin typeface="Constantia"/>
              </a:rPr>
              <a:t>, fill in the dialog box that pops up with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"C:\Program Files\SAS </a:t>
            </a:r>
            <a:r>
              <a:rPr b="1" lang="en-US" sz="2400" spc="-1" strike="noStrike">
                <a:solidFill>
                  <a:srgbClr val="0000cc"/>
                </a:solidFill>
                <a:latin typeface="Constantia"/>
              </a:rPr>
              <a:t>Institute\SAS\V9\sas.exe"</a:t>
            </a:r>
            <a:r>
              <a:rPr b="0" lang="en-US" sz="2400" spc="-1" strike="noStrike">
                <a:solidFill>
                  <a:srgbClr val="0000cc"/>
                </a:solidFill>
                <a:latin typeface="Constantia"/>
              </a:rPr>
              <a:t>and hit Enter</a:t>
            </a:r>
            <a:r>
              <a:rPr b="0" lang="en-US" sz="2800" spc="-1" strike="noStrike">
                <a:solidFill>
                  <a:srgbClr val="0000cc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onstantia"/>
              </a:rPr>
              <a:t>Click on: Start </a:t>
            </a:r>
            <a:r>
              <a:rPr b="1" i="1" lang="en-US" sz="2800" spc="-1" strike="noStrike">
                <a:solidFill>
                  <a:srgbClr val="0000cc"/>
                </a:solidFill>
                <a:latin typeface="Constantia"/>
              </a:rPr>
              <a:t>- </a:t>
            </a:r>
            <a:r>
              <a:rPr b="0" lang="en-US" sz="2800" spc="-1" strike="noStrike">
                <a:solidFill>
                  <a:srgbClr val="0000cc"/>
                </a:solidFill>
                <a:latin typeface="Constantia"/>
              </a:rPr>
              <a:t>all programs-the SAS system-the SAS system for windows V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either case, once you have invoked SAS, the Display Manager window (SAS work space) shown in Figure below should be displayed on your scree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52380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90720" y="930240"/>
            <a:ext cx="7391160" cy="5616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9" name="Line 5"/>
          <p:cNvSpPr/>
          <p:nvPr/>
        </p:nvSpPr>
        <p:spPr>
          <a:xfrm>
            <a:off x="2362320" y="3733920"/>
            <a:ext cx="152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2209680" y="3200400"/>
            <a:ext cx="228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2362320" y="4038480"/>
            <a:ext cx="2854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684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op line of the Display Manager window is called the menu bar. It contains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ile, Edit, View, Tools, Run, Solutions, Window, and Help menu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cc"/>
                </a:solidFill>
                <a:latin typeface="Constantia"/>
              </a:rPr>
              <a:t>when the Program Editor window is active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File, Edit, View, Tools, Solutions Window and Help menu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cc"/>
                </a:solidFill>
                <a:latin typeface="Constantia"/>
              </a:rPr>
              <a:t>when the Log window is active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window is made active by clicking on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upper border of an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active window is dark blu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that of an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inactive window is gra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ft-clicking any of the commands in the menu bar produces a drop-down li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low the menu bar is a small window called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commanded bar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text can be typed &amp; a row of buttons called the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tool ba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buttons in the tool bar correspond to frequently used commands that can also be accessed from the drop-down lists in the menu b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S initial scre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10447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10666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When you start first SAS, by default the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LOG</a:t>
            </a:r>
            <a:r>
              <a:rPr b="1" lang="en-US" sz="2600" spc="-1" strike="noStrike">
                <a:solidFill>
                  <a:srgbClr val="0000cc"/>
                </a:solidFill>
                <a:latin typeface="Constantia"/>
              </a:rPr>
              <a:t> &amp; the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PROGRAM EDITOR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windows are the only two windows visib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y are split evenly so that the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LOG</a:t>
            </a:r>
            <a:r>
              <a:rPr b="1" lang="en-US" sz="2600" spc="-1" strike="noStrike">
                <a:solidFill>
                  <a:srgbClr val="0000cc"/>
                </a:solidFill>
                <a:latin typeface="Constantia"/>
              </a:rPr>
              <a:t> window occupies the upper half &amp; the 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PROGRAM EDITOR</a:t>
            </a:r>
            <a:r>
              <a:rPr b="1" lang="en-US" sz="2600" spc="-1" strike="noStrike">
                <a:solidFill>
                  <a:srgbClr val="0000cc"/>
                </a:solidFill>
                <a:latin typeface="Constantia"/>
              </a:rPr>
              <a:t> window occupies the lower half</a:t>
            </a:r>
            <a:r>
              <a:rPr b="0" lang="en-US" sz="2600" spc="-1" strike="noStrike">
                <a:solidFill>
                  <a:srgbClr val="0000cc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380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3000" spc="-1" strike="noStrike">
                <a:solidFill>
                  <a:srgbClr val="0000cc"/>
                </a:solidFill>
                <a:latin typeface="Constantia"/>
              </a:rPr>
              <a:t>output window 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is also open &amp; is positioned behind the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LOG &amp;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 the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ROGRAM EDITOR</a:t>
            </a: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 windows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The other two important windows open and placed behind the output window are </a:t>
            </a:r>
            <a:r>
              <a:rPr b="1" lang="en-US" sz="3000" spc="-1" strike="noStrike">
                <a:solidFill>
                  <a:srgbClr val="0000cc"/>
                </a:solidFill>
                <a:latin typeface="Constantia"/>
              </a:rPr>
              <a:t>explorer &amp; result window.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Currently selected windows are called ACTIVE &amp; they appear in the foreground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0:14:22Z</dcterms:created>
  <dc:creator>USER</dc:creator>
  <dc:description/>
  <dc:language>en-US</dc:language>
  <cp:lastModifiedBy>user</cp:lastModifiedBy>
  <dcterms:modified xsi:type="dcterms:W3CDTF">2019-01-17T19:52:36Z</dcterms:modified>
  <cp:revision>39</cp:revision>
  <dc:subject/>
  <dc:title>Topics to be covered</dc:title>
</cp:coreProperties>
</file>