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AD1DE-CCBF-4D78-9CEF-7C0DCDD74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D24B2-7B5D-4C1E-86E5-06C84C5FC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7AC2E-4EF3-478C-9BFF-2C34EAC3C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A7BE4-CFB7-4065-A1E2-7B7BE6354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F47AE-6096-4AF4-93B4-2AE406D344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F824B-0129-43D5-B766-81626816C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D8B69-8E88-4DEE-B349-1389B6B14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98CA5-9F1D-485E-B85F-F76273942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55DD9-1E54-4BD8-A382-5CCA28DAC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D93A4-7A85-4A1A-87C6-BC50E539A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7BE0E9-E20F-4CDC-BF2C-BDF500F6E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96A4D-A3B8-41B7-BD78-FE43CF699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60BF3-1C5C-4C5C-84B5-9845766C2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1D4CF-2218-484F-9748-DB61541C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FA99-5B68-4C6B-BAEF-B3F56C538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CEF15-BA37-4802-91E9-CC6CAB183E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F039B-D150-4C88-B036-81167F63D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3DD3CB-C2C0-485D-B812-B7C03929AB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CD294-9A54-43DB-925D-01EF0BA99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8DA41-F799-44F1-9A7B-8B9065886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DA6F2-164F-4540-9701-132F163EEA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51AC0A-D3E6-4033-A5FD-35FD821A88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FC0CD-4918-4D87-9F75-D4C84DF37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0BC4D-B971-4C4D-8FD1-C23880ED1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89B9C-8BEF-4F90-9455-A30176F19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B80AF-4446-4112-9E67-ACDB5C0F7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BA11C2-B1D9-4613-8042-D010A3EB1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61985C-B49C-43F3-987E-979C7E79A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A9D085-DF81-4B68-9CDD-23015967C3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324BD-4AD1-4483-82B8-097C3A5693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DE8991-32AE-4061-B241-DF20580706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2B7EE-453D-41CC-AC68-55F0C7208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EE7B9-2E00-4D8B-B21F-AE0A082D8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0998E-CE1B-43F4-A17F-63CEAB0E2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97BE67-86EE-4AF7-8A80-AF8329871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F238F-2CA2-4A66-B8E7-7370117B4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E2DC31-EB04-4EE0-8A51-FC690B0F3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8FBDAA-C691-4C0F-A002-960100BB0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1E5AC-164D-421D-B484-C26C71FD3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E9317-FDBB-4D15-BC70-3686FD36F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32CB2A-06E5-439C-A9E8-A0519EDA6E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957125-23D1-47E1-AF93-628B166B9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7567F0-D86C-455F-B5EF-7EBC084735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18BA5F-ADDE-4CAD-B02F-8E972934F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CFDF-8BF1-4032-B5B6-78F3C19AB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F7E17-CC94-4036-BE0E-93312247BD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FC4378-988B-4372-B7DF-232F7D560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9F51B-0568-407A-95E2-0E0DB9539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20303-67BE-4F14-A9EC-3F8DF1663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FC6BA8-CFB9-497F-806B-E29F15976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1EA60-B606-4A83-923C-A2DE332F8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4F792-261A-49D8-803F-C883DD60A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74565-9024-493A-86DB-E7BBB057D1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9912C-B3F0-42FD-BBF0-FC42FD2E6C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DBAB10-27C9-4EEE-AEB5-F550E129D9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3A038-697A-4472-BB34-BEB217ECB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06569F-6F08-4B90-A963-41AB5F89BE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DB43-7ADF-4263-A826-AA94CCDB1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92BD-6E51-4179-A4EE-CB6D92F4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2C29-67BC-436C-BF2F-ED15B4DAA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42CC-FD99-4ECB-BF4E-5469E13602A1}"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025E-B276-4D7C-A7DD-4B762D459F5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E5A6-3AED-48BD-AC1D-293D80BA3366}"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62F8-CE00-4FEA-A50D-611C14024E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1E5C-1572-4DBB-8DD3-4699DD6C10BA}"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C861-AD69-486A-B47E-6729DA433B1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2DE4-1157-4DA1-A5D2-30A6577D5129}"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682B-D576-4A7B-AA89-AD1CD09319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27B2-2E92-430A-AFC1-067B469A8134}"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FCCF-6706-48AC-8241-23E80A5B0A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AFC35-23D4-4E70-95B8-7AFEC2E5B93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29"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4. Switchover (Change over) Design </a:t>
            </a:r>
            <a:endParaRPr b="0" lang="en-US" sz="2200" spc="-1" strike="noStrike">
              <a:solidFill>
                <a:srgbClr val="000000"/>
              </a:solidFill>
              <a:latin typeface="Arial"/>
            </a:endParaRPr>
          </a:p>
        </p:txBody>
      </p:sp>
      <p:sp>
        <p:nvSpPr>
          <p:cNvPr id="230"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AE60-6AE2-4753-A55E-BAB591B381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7"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924D-3648-409A-B7A6-FA257FF7B02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92F2-2FEE-484B-8D95-13C6353C739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4612-B060-4ACE-9D98-C3AFD1F0B5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274"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8ED4-A94A-4A42-9491-63F158C251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6"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277"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278" name="Picture 2" descr=""/>
          <p:cNvPicPr/>
          <p:nvPr/>
        </p:nvPicPr>
        <p:blipFill>
          <a:blip r:embed="rId1"/>
          <a:stretch/>
        </p:blipFill>
        <p:spPr>
          <a:xfrm>
            <a:off x="2438280" y="1600200"/>
            <a:ext cx="3733920" cy="1087560"/>
          </a:xfrm>
          <a:prstGeom prst="rect">
            <a:avLst/>
          </a:prstGeom>
          <a:ln w="0">
            <a:noFill/>
          </a:ln>
        </p:spPr>
      </p:pic>
      <p:pic>
        <p:nvPicPr>
          <p:cNvPr id="279" name="Picture 3" descr=""/>
          <p:cNvPicPr/>
          <p:nvPr/>
        </p:nvPicPr>
        <p:blipFill>
          <a:blip r:embed="rId2"/>
          <a:stretch/>
        </p:blipFill>
        <p:spPr>
          <a:xfrm>
            <a:off x="1600200" y="3657600"/>
            <a:ext cx="4724280" cy="1654200"/>
          </a:xfrm>
          <a:prstGeom prst="rect">
            <a:avLst/>
          </a:prstGeom>
          <a:ln w="0">
            <a:noFill/>
          </a:ln>
        </p:spPr>
      </p:pic>
      <p:sp>
        <p:nvSpPr>
          <p:cNvPr id="280"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019E-ED4D-4901-A09B-1C0E30DBF0A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283" name="Picture 4" descr=""/>
          <p:cNvPicPr/>
          <p:nvPr/>
        </p:nvPicPr>
        <p:blipFill>
          <a:blip r:embed="rId1"/>
          <a:stretch/>
        </p:blipFill>
        <p:spPr>
          <a:xfrm>
            <a:off x="914400" y="3962520"/>
            <a:ext cx="6781680" cy="1944720"/>
          </a:xfrm>
          <a:prstGeom prst="rect">
            <a:avLst/>
          </a:prstGeom>
          <a:ln w="0">
            <a:noFill/>
          </a:ln>
        </p:spPr>
      </p:pic>
      <p:sp>
        <p:nvSpPr>
          <p:cNvPr id="284"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0F94-4502-438F-9CB6-483C6D2DA0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287"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288"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9"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291"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292"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293"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294" name="Picture 2" descr=""/>
          <p:cNvPicPr/>
          <p:nvPr/>
        </p:nvPicPr>
        <p:blipFill>
          <a:blip r:embed="rId1"/>
          <a:stretch/>
        </p:blipFill>
        <p:spPr>
          <a:xfrm>
            <a:off x="2971800" y="1905120"/>
            <a:ext cx="1057320" cy="552240"/>
          </a:xfrm>
          <a:prstGeom prst="rect">
            <a:avLst/>
          </a:prstGeom>
          <a:ln w="0">
            <a:noFill/>
          </a:ln>
        </p:spPr>
      </p:pic>
      <p:pic>
        <p:nvPicPr>
          <p:cNvPr id="295" name="Picture 3" descr=""/>
          <p:cNvPicPr/>
          <p:nvPr/>
        </p:nvPicPr>
        <p:blipFill>
          <a:blip r:embed="rId2"/>
          <a:stretch/>
        </p:blipFill>
        <p:spPr>
          <a:xfrm>
            <a:off x="2743200" y="3886200"/>
            <a:ext cx="1295280" cy="533520"/>
          </a:xfrm>
          <a:prstGeom prst="rect">
            <a:avLst/>
          </a:prstGeom>
          <a:ln w="0">
            <a:noFill/>
          </a:ln>
        </p:spPr>
      </p:pic>
      <p:sp>
        <p:nvSpPr>
          <p:cNvPr id="296"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297"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165F8-3C63-4FE1-A20A-9893DEFC59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2"/>
          <p:cNvSpPr/>
          <p:nvPr/>
        </p:nvSpPr>
        <p:spPr>
          <a:xfrm>
            <a:off x="609480" y="228600"/>
            <a:ext cx="8001000" cy="19224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s can be shown graphically in the following figure. The vertical axis represents measures and the horizontal axis represents levels of factor A. The connected symbols represent the levels of factor B.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lines are roughly parallel, this means that </a:t>
            </a:r>
            <a:r>
              <a:rPr b="1" lang="en-US" sz="1800" spc="-1" strike="noStrike">
                <a:solidFill>
                  <a:srgbClr val="000000"/>
                </a:solidFill>
                <a:latin typeface="Arial"/>
              </a:rPr>
              <a:t>there is no interaction</a:t>
            </a:r>
            <a:r>
              <a:rPr b="0" lang="en-US" sz="1800" spc="-1" strike="noStrike">
                <a:solidFill>
                  <a:srgbClr val="000000"/>
                </a:solidFill>
                <a:latin typeface="Arial"/>
              </a:rPr>
              <a:t>. </a:t>
            </a:r>
            <a:r>
              <a:rPr b="1" lang="en-US" sz="1800" spc="-1" strike="noStrike">
                <a:solidFill>
                  <a:srgbClr val="000000"/>
                </a:solidFill>
                <a:latin typeface="Arial"/>
              </a:rPr>
              <a:t>Any difference in slope between the lines indicates </a:t>
            </a:r>
            <a:r>
              <a:rPr b="0" lang="en-US" sz="1800" spc="-1" strike="noStrike">
                <a:solidFill>
                  <a:srgbClr val="000000"/>
                </a:solidFill>
                <a:latin typeface="Arial"/>
              </a:rPr>
              <a:t>a possible interaction, the greater the difference in slope the stronger the interaction.</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295280" y="2286000"/>
            <a:ext cx="6400800" cy="3571920"/>
          </a:xfrm>
          <a:prstGeom prst="rect">
            <a:avLst/>
          </a:prstGeom>
          <a:ln w="0">
            <a:noFill/>
          </a:ln>
        </p:spPr>
      </p:pic>
      <p:sp>
        <p:nvSpPr>
          <p:cNvPr id="301" name="Rectangle 4"/>
          <p:cNvSpPr/>
          <p:nvPr/>
        </p:nvSpPr>
        <p:spPr>
          <a:xfrm>
            <a:off x="1676520" y="6019920"/>
            <a:ext cx="6705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Illustration of interaction between two factors A and B</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3DA1-976C-495C-BAF5-642685252A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2"/>
          <p:cNvSpPr/>
          <p:nvPr/>
        </p:nvSpPr>
        <p:spPr>
          <a:xfrm>
            <a:off x="457200" y="228600"/>
            <a:ext cx="8077320" cy="1310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04" name=""/>
          <p:cNvGraphicFramePr/>
          <p:nvPr/>
        </p:nvGraphicFramePr>
        <p:xfrm>
          <a:off x="1295280" y="17524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700E-337E-4720-8EB2-792ABACEBF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0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A665-8D98-4087-94DD-16B6575F6D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2"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233"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34"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628A-9490-46D8-97D9-265BA5A9D5B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1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31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31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31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31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31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3FC5-E294-4F62-A416-3569837B75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32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32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323" name="Picture 3" descr=""/>
          <p:cNvPicPr/>
          <p:nvPr/>
        </p:nvPicPr>
        <p:blipFill>
          <a:blip r:embed="rId1"/>
          <a:stretch/>
        </p:blipFill>
        <p:spPr>
          <a:xfrm>
            <a:off x="1066680" y="1600200"/>
            <a:ext cx="5791320" cy="838080"/>
          </a:xfrm>
          <a:prstGeom prst="rect">
            <a:avLst/>
          </a:prstGeom>
          <a:ln w="0">
            <a:noFill/>
          </a:ln>
        </p:spPr>
      </p:pic>
      <p:sp>
        <p:nvSpPr>
          <p:cNvPr id="32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327" name="Picture 5" descr=""/>
          <p:cNvPicPr/>
          <p:nvPr/>
        </p:nvPicPr>
        <p:blipFill>
          <a:blip r:embed="rId2"/>
          <a:stretch/>
        </p:blipFill>
        <p:spPr>
          <a:xfrm>
            <a:off x="762120" y="3352680"/>
            <a:ext cx="5079960" cy="304920"/>
          </a:xfrm>
          <a:prstGeom prst="rect">
            <a:avLst/>
          </a:prstGeom>
          <a:ln w="0">
            <a:noFill/>
          </a:ln>
        </p:spPr>
      </p:pic>
      <p:sp>
        <p:nvSpPr>
          <p:cNvPr id="32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90169-3C5F-4498-9EAE-8B56E57483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3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3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33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6F3D-DC81-434D-8763-EF0E3F59F3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762120" y="533520"/>
            <a:ext cx="40384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 TDIFF PDIFF P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5" name=""/>
          <p:cNvGraphicFramePr/>
          <p:nvPr/>
        </p:nvGraphicFramePr>
        <p:xfrm>
          <a:off x="4038480" y="228600"/>
          <a:ext cx="4724640" cy="2822400"/>
        </p:xfrm>
        <a:graphic>
          <a:graphicData uri="http://schemas.openxmlformats.org/drawingml/2006/table">
            <a:tbl>
              <a:tblPr/>
              <a:tblGrid>
                <a:gridCol w="863640"/>
                <a:gridCol w="863640"/>
                <a:gridCol w="865080"/>
                <a:gridCol w="1268640"/>
                <a:gridCol w="86364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6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DA0DE-18BC-41E6-B447-E9A9C9EAAF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7" name="Rectangle 1"/>
          <p:cNvSpPr/>
          <p:nvPr/>
        </p:nvSpPr>
        <p:spPr>
          <a:xfrm>
            <a:off x="762120" y="384840"/>
            <a:ext cx="7848360" cy="59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SAS System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Class Level Informatio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Class           Levels    Valu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2       1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Rea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umber of Observations Used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SAS Syste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GLM Proced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Dependent Variable: ga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um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ource                      DF         Square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Model                        3      0.14521095      0.04840365       4.39    0.019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rror                       16      0.17648360      0.011030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Corrected Total             19      0.3216945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R-Square     Coeff Var      Root MSE     gain M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0.451394      17.81139      0.105025      0.5896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ource                      DF     Type III SS     Mean Square    F Value    Pr &gt; 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                              1      0.05191805      0.05191805       4.71    0.045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I                             1      0.06418445      0.06418445       5.82    0.02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vitI*vitII                     1      0.02910845      0.02910845       2.64    0.123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31C9-41F3-4821-87FD-BD5132768D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9" name="Rectangle 1"/>
          <p:cNvSpPr/>
          <p:nvPr/>
        </p:nvSpPr>
        <p:spPr>
          <a:xfrm>
            <a:off x="838080" y="680400"/>
            <a:ext cx="6705720" cy="499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vit    vit                                             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I      II               </a:t>
            </a:r>
            <a:r>
              <a:rPr b="0" lang="en-US" sz="1400" spc="-1" strike="noStrike">
                <a:solidFill>
                  <a:srgbClr val="000000"/>
                </a:solidFill>
                <a:latin typeface="Calibri"/>
                <a:ea typeface="Times New Roman"/>
              </a:rPr>
              <a:t>gain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1                0.52020000       0.04696855        &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2                0.55720000       0.04696855        &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1                0.54580000       0.04696855        &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2                0.73540000       0.04696855        &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vitI*vitI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r &gt; |t| for H0: LSMean(i)=LSMean(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ependent Variable: ga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xxx            0.9433        0.9799        0.02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0.9433          xxx            0.9981        0.07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0.9799        0.9981          xxx            0.05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0.0238        0.0701        0.0506        xxx</a:t>
            </a:r>
            <a:endParaRPr b="0" lang="en-US" sz="14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708D-2BCD-4B2D-868C-A682562025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2286000" y="-357120"/>
            <a:ext cx="5562720" cy="72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vitI vitII 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85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58     2 1 0.86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486     2 1 0.4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536     2 1 0.4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67     2 2 0.6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5     2 2 0.7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89     2 2 0.9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36     2 2 0.6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0.549     2 2 0.6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vitI 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MODEL gain= vitI vitII vitI*vit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vitI*vitII /P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B4F5-DDB5-4DF6-A9C7-B30B2C6BEC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36" name="Picture 2" descr=""/>
          <p:cNvPicPr/>
          <p:nvPr/>
        </p:nvPicPr>
        <p:blipFill>
          <a:blip r:embed="rId1"/>
          <a:stretch/>
        </p:blipFill>
        <p:spPr>
          <a:xfrm>
            <a:off x="1066680" y="762120"/>
            <a:ext cx="6423120" cy="685800"/>
          </a:xfrm>
          <a:prstGeom prst="rect">
            <a:avLst/>
          </a:prstGeom>
          <a:ln w="0">
            <a:noFill/>
          </a:ln>
        </p:spPr>
      </p:pic>
      <p:sp>
        <p:nvSpPr>
          <p:cNvPr id="237"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238"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239"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5592-8E0C-423A-9A17-055348F4335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242" name="Picture 2" descr=""/>
          <p:cNvPicPr/>
          <p:nvPr/>
        </p:nvPicPr>
        <p:blipFill>
          <a:blip r:embed="rId1"/>
          <a:stretch/>
        </p:blipFill>
        <p:spPr>
          <a:xfrm>
            <a:off x="2362320" y="1143000"/>
            <a:ext cx="1752480" cy="731880"/>
          </a:xfrm>
          <a:prstGeom prst="rect">
            <a:avLst/>
          </a:prstGeom>
          <a:ln w="0">
            <a:noFill/>
          </a:ln>
        </p:spPr>
      </p:pic>
      <p:pic>
        <p:nvPicPr>
          <p:cNvPr id="243"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EEA87-D0A2-46E9-9A43-C323464EA5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246"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247"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48"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95E9-D8DA-44C6-8F40-18012FF713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251"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252"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253"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254"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255"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15A9-1DEF-4F56-824C-9233CE594F6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57"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8"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259"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E8B4-C8A6-40EA-AFCA-BA19734386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2"/>
          <p:cNvSpPr/>
          <p:nvPr/>
        </p:nvSpPr>
        <p:spPr>
          <a:xfrm>
            <a:off x="1981080" y="914400"/>
            <a:ext cx="44197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Cow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t cow $ mil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31       2   2  2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27       1   2  2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34        2   3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25        1   3  3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5  43        2   6  4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5  38       1   6  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9  28       2   7  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9  20       1   7  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0  25      2   8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0  19      1   8  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MIXED data=cow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a:t>
            </a:r>
            <a:r>
              <a:rPr b="0" i="1" lang="en-US" sz="1400" spc="-1" strike="noStrike">
                <a:solidFill>
                  <a:srgbClr val="000000"/>
                </a:solidFill>
                <a:latin typeface="Arial"/>
              </a:rPr>
              <a:t>SS trt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milk = t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DOM co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trt/ P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a:t>
            </a:r>
            <a:endParaRPr b="0" lang="en-US" sz="1400" spc="-1" strike="noStrike">
              <a:solidFill>
                <a:srgbClr val="000000"/>
              </a:solidFill>
              <a:latin typeface="Arial"/>
            </a:endParaRPr>
          </a:p>
        </p:txBody>
      </p:sp>
      <p:sp>
        <p:nvSpPr>
          <p:cNvPr id="262" name="Rectangle 3"/>
          <p:cNvSpPr/>
          <p:nvPr/>
        </p:nvSpPr>
        <p:spPr>
          <a:xfrm>
            <a:off x="2448360" y="45720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program:</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340B-0F90-4C6D-B88F-79C1ED372D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4" name="Rectangle 1"/>
          <p:cNvSpPr/>
          <p:nvPr/>
        </p:nvSpPr>
        <p:spPr>
          <a:xfrm>
            <a:off x="609480" y="710280"/>
            <a:ext cx="8077320" cy="456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SAS Syste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he Mixed Proced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Type 3 Tests of Fixed Effec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et.             Err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DF                  DF               F Value                 Pr &gt; F</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trt                      1                     9                 9.09                      0.0146</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Least Squares Mea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imes New Roman"/>
              </a:rPr>
              <a:t>                               </a:t>
            </a:r>
            <a:r>
              <a:rPr b="1" lang="en-US" sz="1200" spc="-1" strike="noStrike">
                <a:solidFill>
                  <a:srgbClr val="000000"/>
                </a:solidFill>
                <a:latin typeface="Calibri"/>
                <a:ea typeface="Times New Roman"/>
              </a:rPr>
              <a:t>Effect    trt    Estimate       Error      DF    t Value    Pr &gt; |t|</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a:t>
            </a:r>
            <a:r>
              <a:rPr b="1" lang="en-US" sz="1200" spc="-1" strike="noStrike">
                <a:solidFill>
                  <a:srgbClr val="000000"/>
                </a:solidFill>
                <a:latin typeface="Calibri"/>
                <a:ea typeface="Times New Roman"/>
              </a:rPr>
              <a:t>31.6000      2.6791       </a:t>
            </a:r>
            <a:r>
              <a:rPr b="0" lang="en-US" sz="1200" spc="-1" strike="noStrike">
                <a:solidFill>
                  <a:srgbClr val="000000"/>
                </a:solidFill>
                <a:latin typeface="Calibri"/>
                <a:ea typeface="Times New Roman"/>
              </a:rPr>
              <a:t>9      11.79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a:t>
            </a:r>
            <a:r>
              <a:rPr b="1" lang="en-US" sz="1200" spc="-1" strike="noStrike">
                <a:solidFill>
                  <a:srgbClr val="000000"/>
                </a:solidFill>
                <a:latin typeface="Calibri"/>
                <a:ea typeface="Times New Roman"/>
              </a:rPr>
              <a:t>2       28.2000      2.6791       </a:t>
            </a:r>
            <a:r>
              <a:rPr b="0" lang="en-US" sz="1200" spc="-1" strike="noStrike">
                <a:solidFill>
                  <a:srgbClr val="000000"/>
                </a:solidFill>
                <a:latin typeface="Calibri"/>
                <a:ea typeface="Times New Roman"/>
              </a:rPr>
              <a:t>9      10.53      &lt;.0001</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Differences of Least Squares Means</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Standard</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Effect    trt    _trt    Estimate       Error      DF    t Value    Pr &gt; |t|    Adjustment       Adj P</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rt       1      2         3.4000      1.1274       9       3.02      0.0146    Tukey-Kramer    0.0146</a:t>
            </a:r>
            <a:endParaRPr b="0" lang="en-US" sz="12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9:08:25Z</dcterms:modified>
  <cp:revision>1342</cp:revision>
  <dc:subject/>
  <dc:title>Topics to be covered</dc:title>
</cp:coreProperties>
</file>