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A175-904A-4CFE-A1DC-F6BEC0768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D307-D259-4079-9BAC-4CF8CF930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19FB8-45F7-4764-8628-60F86BDE1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FA33-750E-4B7D-97E0-F4C47709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80627-F29B-4B60-9991-7C66AE53B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A44A-9142-40F5-8847-437472D7F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15548-9542-49D2-B9CA-3FBB3883E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57019-EE7E-444E-8F09-6941981E2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59F3-096D-4D4C-B547-11884B335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D8C3B-D4AA-434F-9D07-DA9186B36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1C2E5-D378-4701-A514-445AEC6C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403B0-4AFC-4A5A-ADD7-27A1DC440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D0FEB-9771-4370-8FA7-DA5132EB2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F7736-10C0-49E0-9DA7-5DCE465C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5AD7B-6CB6-47D2-9376-055DF347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7A90F-5CCE-4DF6-9447-247873AA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69BCF-D539-4E6F-8971-F15F4EED9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980CC-76ED-474F-B16D-ABB3EF353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051D4-AAA0-4AFD-807A-784BB6593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98A94C-35F6-4870-901A-6C5217095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DF342-8176-4252-B06A-303F5E574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5948F-C239-4271-BD82-D7F898993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7E412-A069-4B5C-AB59-8AAC4596B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A0DB5-4524-41CC-BABA-BF5F5D366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CCBCC-1FD6-4541-B918-F13F36D8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AFF207-0FA9-487E-B4F1-A25A42842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9967C-3F28-4C5A-86D4-CF93F568E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8A751-9ED4-46DA-94B6-297BF92C2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A5CDB-9789-4FB6-9065-3F797BF67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56FC1-1A68-45AB-9373-A42826DB4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94DE8-51EB-41FE-BFA3-7356228CB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D2A7F-EA1C-411F-B149-2F61C51BF6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91E96E-3760-42ED-BA63-173D6FE5C5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6CA23-B6A4-4634-9F80-A19F01910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C2D25-F37B-49E7-94FA-D5ECADD13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C75C-958B-4E88-924D-54CBB5C8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33BD9-5790-4EB5-ACEE-D7E0307A5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B31E2-04EE-40B9-A192-DBAFF59A4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928DA-5D3D-40CF-B601-03D5675D6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4385E-4EF1-4540-AE00-9708422C9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59013-E419-40AB-BD12-ED2D8DBE1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D5ABE-A7F3-4B66-98EF-1840F6971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42FF9-8536-47BF-9848-D8C2C8B9D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1FE81-4ECB-4DDA-A858-B04287CF05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12214-0372-4A49-BEB4-C3597D412F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50ED0-3078-4F16-A20A-9343FD0AE0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EC0E-80B0-471B-9C64-965461470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ABCC8-E9EE-4AB1-933D-27AEB09C1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2B12F-4314-4A5E-AC2C-10A8B30B5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C8904-BD5D-4F52-A3CD-7554E5E50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D9CC1-B1BE-4F4D-A7B1-457DFD13D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B907C7-6418-486D-A2D9-08CF734DF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F6042-F567-48D6-B693-4A5FB6E65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49174-0BFB-4B1A-931D-0C87C606E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B2A1B-808E-4E1F-BC79-53D994727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16449-7743-4A8A-A85F-18CA0268B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CF208-82D4-4113-9C4B-1C094958B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EE9D-F298-4227-968A-97C5068A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62FA74-AC85-4498-A0E7-216B3E578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6F8F-936E-4330-9242-AD576F09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AEEB-DAD1-478A-AC2C-9644F95AF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CC10-41D8-42C1-9B8D-1A53BC44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36EE-4F2C-4303-A7B2-930B8AEA1ED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29E2-D6B0-47AE-ABB8-1DB8A1B32E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BF84-80F0-4E71-840B-1D4CEA52DC56}"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BB71-BB16-4449-97B1-40C20EF523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5006-33A7-45C0-93A5-48D33375189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ADE8-2889-4CB8-ACA2-0DE4B1CAD7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73ED-392C-4CB8-B1A0-94F8C397C88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9BFF-942C-4692-B73E-9F3FAF7B47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F9D7-DD22-4CAE-8E4A-5062518212EA}"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2CAD-C3C2-4BAD-8F97-CAD0D437A5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0E72-B4CF-4B45-8E6C-C3D86ACC52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4614-1C1E-446E-A187-9202ABB06A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228600" y="235080"/>
            <a:ext cx="8610480" cy="497304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it is given as </a:t>
            </a: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is done at 5% level of significant  (95% Confident interval), the Critical value of Z (Z</a:t>
            </a:r>
            <a:r>
              <a:rPr b="0" lang="en-US" sz="1800" spc="-1" strike="noStrike" baseline="-25000">
                <a:solidFill>
                  <a:srgbClr val="000000"/>
                </a:solidFill>
                <a:latin typeface="Arial"/>
              </a:rPr>
              <a:t>critical</a:t>
            </a:r>
            <a:r>
              <a:rPr b="0" lang="en-US" sz="1800" spc="-1" strike="noStrike">
                <a:solidFill>
                  <a:srgbClr val="000000"/>
                </a:solidFill>
                <a:latin typeface="Arial"/>
              </a:rPr>
              <a:t>)  can be reed as Z</a:t>
            </a:r>
            <a:r>
              <a:rPr b="0" lang="en-US" sz="2400" spc="-1" strike="noStrike" baseline="-25000">
                <a:solidFill>
                  <a:srgbClr val="000000"/>
                </a:solidFill>
                <a:latin typeface="Arial"/>
              </a:rPr>
              <a:t>0.025 =</a:t>
            </a:r>
            <a:r>
              <a:rPr b="0" lang="en-US" sz="1800" spc="-1" strike="noStrike">
                <a:solidFill>
                  <a:srgbClr val="000000"/>
                </a:solidFill>
                <a:latin typeface="Arial"/>
              </a:rPr>
              <a:t>1.96 </a:t>
            </a:r>
            <a:r>
              <a:rPr b="1" lang="en-US" sz="1800" spc="-1" strike="noStrike">
                <a:solidFill>
                  <a:srgbClr val="000000"/>
                </a:solidFill>
                <a:latin typeface="Arial"/>
              </a:rPr>
              <a:t>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was done at 1% level of significance (99% Confident interval), the critical Z value would be Z</a:t>
            </a:r>
            <a:r>
              <a:rPr b="0" lang="en-US" sz="1800" spc="-1" strike="noStrike" baseline="-25000">
                <a:solidFill>
                  <a:srgbClr val="000000"/>
                </a:solidFill>
                <a:latin typeface="Arial"/>
              </a:rPr>
              <a:t>0.005 </a:t>
            </a:r>
            <a:r>
              <a:rPr b="1" lang="en-US" sz="1800" spc="-1" strike="noStrike">
                <a:solidFill>
                  <a:srgbClr val="000000"/>
                </a:solidFill>
                <a:latin typeface="Arial"/>
              </a:rPr>
              <a:t>= 2.58  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2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1EFC-ACB7-4224-ABFF-7E819DD21A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1" name="Picture 2" descr=""/>
          <p:cNvPicPr/>
          <p:nvPr/>
        </p:nvPicPr>
        <p:blipFill>
          <a:blip r:embed="rId1"/>
          <a:stretch/>
        </p:blipFill>
        <p:spPr>
          <a:xfrm>
            <a:off x="380880" y="762120"/>
            <a:ext cx="8382240" cy="4552920"/>
          </a:xfrm>
          <a:prstGeom prst="rect">
            <a:avLst/>
          </a:prstGeom>
          <a:ln w="0">
            <a:noFill/>
          </a:ln>
        </p:spPr>
      </p:pic>
      <p:sp>
        <p:nvSpPr>
          <p:cNvPr id="272"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FC27-3358-4F3D-BFEC-A82C0D0B94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1"/>
          <a:stretch/>
        </p:blipFill>
        <p:spPr>
          <a:xfrm>
            <a:off x="1066680" y="3581280"/>
            <a:ext cx="3086280" cy="352440"/>
          </a:xfrm>
          <a:prstGeom prst="rect">
            <a:avLst/>
          </a:prstGeom>
          <a:ln w="0">
            <a:noFill/>
          </a:ln>
        </p:spPr>
      </p:pic>
      <p:pic>
        <p:nvPicPr>
          <p:cNvPr id="276" name="Picture 3" descr=""/>
          <p:cNvPicPr/>
          <p:nvPr/>
        </p:nvPicPr>
        <p:blipFill>
          <a:blip r:embed="rId2"/>
          <a:stretch/>
        </p:blipFill>
        <p:spPr>
          <a:xfrm>
            <a:off x="6019920" y="3505320"/>
            <a:ext cx="676080" cy="390240"/>
          </a:xfrm>
          <a:prstGeom prst="rect">
            <a:avLst/>
          </a:prstGeom>
          <a:ln w="0">
            <a:noFill/>
          </a:ln>
        </p:spPr>
      </p:pic>
      <p:sp>
        <p:nvSpPr>
          <p:cNvPr id="277"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278" name="Picture 4" descr=""/>
          <p:cNvPicPr/>
          <p:nvPr/>
        </p:nvPicPr>
        <p:blipFill>
          <a:blip r:embed="rId3"/>
          <a:stretch/>
        </p:blipFill>
        <p:spPr>
          <a:xfrm>
            <a:off x="6858000" y="3581280"/>
            <a:ext cx="885960" cy="35244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DE22-8D81-4996-8A11-0EEDF19652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2BFE-2ADF-4357-A6F1-38DEF87D31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DEE6-BC9F-4BB3-94C7-FCD12B595D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8011-8AC7-4114-8606-6ED84D2EF8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28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28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F78A-BA46-4534-8FB8-9ED713B55F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5005-12F9-4699-A276-CDF0585187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3AED-ED60-42EB-981A-B9E74D355AB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7D9A-1C94-417A-83D1-B1D329505F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8" name="Rectangle 3"/>
          <p:cNvSpPr/>
          <p:nvPr/>
        </p:nvSpPr>
        <p:spPr>
          <a:xfrm>
            <a:off x="228600" y="332640"/>
            <a:ext cx="84582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Hypothesis testing based on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9DAA-014B-44CA-AA60-E8D8709020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29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066680" y="3124080"/>
            <a:ext cx="3962520" cy="2370240"/>
          </a:xfrm>
          <a:prstGeom prst="rect">
            <a:avLst/>
          </a:prstGeom>
          <a:ln w="0">
            <a:noFill/>
          </a:ln>
        </p:spPr>
      </p:pic>
      <p:sp>
        <p:nvSpPr>
          <p:cNvPr id="30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5027-F8EE-4706-9450-00E1B49E11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Picture 2" descr=""/>
          <p:cNvPicPr/>
          <p:nvPr/>
        </p:nvPicPr>
        <p:blipFill>
          <a:blip r:embed="rId1"/>
          <a:stretch/>
        </p:blipFill>
        <p:spPr>
          <a:xfrm>
            <a:off x="3809880" y="3581280"/>
            <a:ext cx="2067120" cy="381240"/>
          </a:xfrm>
          <a:prstGeom prst="rect">
            <a:avLst/>
          </a:prstGeom>
          <a:ln w="0">
            <a:noFill/>
          </a:ln>
        </p:spPr>
      </p:pic>
      <p:pic>
        <p:nvPicPr>
          <p:cNvPr id="304" name="Picture 3" descr=""/>
          <p:cNvPicPr/>
          <p:nvPr/>
        </p:nvPicPr>
        <p:blipFill>
          <a:blip r:embed="rId2"/>
          <a:stretch/>
        </p:blipFill>
        <p:spPr>
          <a:xfrm>
            <a:off x="3733920" y="4114800"/>
            <a:ext cx="3554280" cy="638280"/>
          </a:xfrm>
          <a:prstGeom prst="rect">
            <a:avLst/>
          </a:prstGeom>
          <a:ln w="0">
            <a:noFill/>
          </a:ln>
        </p:spPr>
      </p:pic>
      <p:sp>
        <p:nvSpPr>
          <p:cNvPr id="30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0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0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not more extreme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3433-36E2-4CD7-B908-74CF247732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E3DD-5F97-4CA9-8064-3123F6691E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0123-1053-45DA-BB6A-6AD5FB6402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3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31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0348-D360-4EE4-93BB-71A87E7332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9999-5D40-44FE-8D71-3B24B52218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6DDE-0CBD-448F-9BC6-4D78BB3AC4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5" name="Picture 2" descr=""/>
          <p:cNvPicPr/>
          <p:nvPr/>
        </p:nvPicPr>
        <p:blipFill>
          <a:blip r:embed="rId1"/>
          <a:srcRect l="0" t="35985" r="0" b="29973"/>
          <a:stretch/>
        </p:blipFill>
        <p:spPr>
          <a:xfrm>
            <a:off x="685800" y="990720"/>
            <a:ext cx="6934320" cy="1904760"/>
          </a:xfrm>
          <a:prstGeom prst="rect">
            <a:avLst/>
          </a:prstGeom>
          <a:ln w="0">
            <a:noFill/>
          </a:ln>
        </p:spPr>
      </p:pic>
      <p:sp>
        <p:nvSpPr>
          <p:cNvPr id="326"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327"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328" name="Picture 2" descr=""/>
          <p:cNvPicPr/>
          <p:nvPr/>
        </p:nvPicPr>
        <p:blipFill>
          <a:blip r:embed="rId2"/>
          <a:stretch/>
        </p:blipFill>
        <p:spPr>
          <a:xfrm>
            <a:off x="990720" y="3124080"/>
            <a:ext cx="1458720" cy="457200"/>
          </a:xfrm>
          <a:prstGeom prst="rect">
            <a:avLst/>
          </a:prstGeom>
          <a:ln w="0">
            <a:noFill/>
          </a:ln>
        </p:spPr>
      </p:pic>
      <p:pic>
        <p:nvPicPr>
          <p:cNvPr id="329"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9B0B-EAD6-49DA-9F02-63745070BB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332"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333" name="Picture 2" descr=""/>
          <p:cNvPicPr/>
          <p:nvPr/>
        </p:nvPicPr>
        <p:blipFill>
          <a:blip r:embed="rId1"/>
          <a:stretch/>
        </p:blipFill>
        <p:spPr>
          <a:xfrm>
            <a:off x="838080" y="1905120"/>
            <a:ext cx="3533760" cy="1066680"/>
          </a:xfrm>
          <a:prstGeom prst="rect">
            <a:avLst/>
          </a:prstGeom>
          <a:ln w="0">
            <a:noFill/>
          </a:ln>
        </p:spPr>
      </p:pic>
      <p:pic>
        <p:nvPicPr>
          <p:cNvPr id="334" name="Picture 3" descr=""/>
          <p:cNvPicPr/>
          <p:nvPr/>
        </p:nvPicPr>
        <p:blipFill>
          <a:blip r:embed="rId2"/>
          <a:stretch/>
        </p:blipFill>
        <p:spPr>
          <a:xfrm>
            <a:off x="4952880" y="1981080"/>
            <a:ext cx="3962520" cy="1143000"/>
          </a:xfrm>
          <a:prstGeom prst="rect">
            <a:avLst/>
          </a:prstGeom>
          <a:ln w="0">
            <a:noFill/>
          </a:ln>
        </p:spPr>
      </p:pic>
      <p:pic>
        <p:nvPicPr>
          <p:cNvPr id="335" name="Picture 4" descr=""/>
          <p:cNvPicPr/>
          <p:nvPr/>
        </p:nvPicPr>
        <p:blipFill>
          <a:blip r:embed="rId3"/>
          <a:stretch/>
        </p:blipFill>
        <p:spPr>
          <a:xfrm>
            <a:off x="2819520" y="3276720"/>
            <a:ext cx="4694040" cy="2209680"/>
          </a:xfrm>
          <a:prstGeom prst="rect">
            <a:avLst/>
          </a:prstGeom>
          <a:ln w="0">
            <a:noFill/>
          </a:ln>
        </p:spPr>
      </p:pic>
      <p:pic>
        <p:nvPicPr>
          <p:cNvPr id="336"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337"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338"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339" name="Elbow Connector 12"/>
          <p:cNvCxnSpPr/>
          <p:nvPr/>
        </p:nvCxnSpPr>
        <p:spPr>
          <a:xfrm>
            <a:off x="762120" y="4038120"/>
            <a:ext cx="2743920" cy="1220040"/>
          </a:xfrm>
          <a:prstGeom prst="bentConnector3">
            <a:avLst>
              <a:gd name="adj1" fmla="val 1508"/>
            </a:avLst>
          </a:prstGeom>
          <a:ln w="28440">
            <a:solidFill>
              <a:srgbClr val="0000cc"/>
            </a:solidFill>
            <a:miter/>
            <a:tailEnd len="med" type="triangle" w="med"/>
          </a:ln>
        </p:spPr>
      </p:cxn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E802-D30D-4A11-9603-92202B39F5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202F-E98F-4FBE-B187-034FA89C85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70CD-0BBA-4D03-8898-F7103A78ED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3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866F-BC02-4A89-8C7B-122A178BCB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351"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353"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354"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BD41-D4EA-45F0-BE86-BBC4437349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8"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59"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360"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361"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91FC-29F5-475F-93E2-B8592CEEC3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9627-744F-4F1F-941F-FF06F2D0AF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5"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9"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70"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0BD9-91B2-47C9-B167-272EF6C136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4"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3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1" name="Picture 11" descr=""/>
          <p:cNvPicPr/>
          <p:nvPr/>
        </p:nvPicPr>
        <p:blipFill>
          <a:blip r:embed="rId1"/>
          <a:stretch/>
        </p:blipFill>
        <p:spPr>
          <a:xfrm>
            <a:off x="2514600" y="5943600"/>
            <a:ext cx="457200" cy="712800"/>
          </a:xfrm>
          <a:prstGeom prst="rect">
            <a:avLst/>
          </a:prstGeom>
          <a:ln w="0">
            <a:noFill/>
          </a:ln>
        </p:spPr>
      </p:pic>
      <p:sp>
        <p:nvSpPr>
          <p:cNvPr id="3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4"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70E9-8409-4B3F-9E95-82C6DBCDFC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59CC-102C-4293-9B59-0E52DE1DEA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2"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AFE4-B38A-4377-B847-4F617F6033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1066680"/>
            <a:ext cx="8076960" cy="5578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possibilities of accepting or rejecting the hypothesis</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Accepting the null hypothesis when it is true</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Rejecting the null hypothesis when it is true </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Accepting the null hypothesis when it is false </a:t>
            </a: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Rejecting the null hypothesis when it is false</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two wrong decisions are related to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a:t>
            </a:r>
            <a:r>
              <a:rPr b="0" lang="en-US" sz="2200" spc="-1" strike="noStrike">
                <a:solidFill>
                  <a:srgbClr val="000000"/>
                </a:solidFill>
                <a:latin typeface="Arial"/>
              </a:rPr>
              <a:t> and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I</a:t>
            </a:r>
            <a:r>
              <a:rPr b="0" lang="en-US" sz="2200" spc="-1" strike="noStrike">
                <a:solidFill>
                  <a:srgbClr val="000000"/>
                </a:solidFill>
                <a:latin typeface="Arial"/>
              </a:rPr>
              <a:t> errors</a:t>
            </a:r>
            <a:endParaRPr b="0" lang="en-US" sz="22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 error is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I error is </a:t>
            </a:r>
            <a:r>
              <a:rPr b="1" lang="el-GR" sz="2400" spc="-1" strike="noStrike">
                <a:solidFill>
                  <a:srgbClr val="000000"/>
                </a:solidFill>
                <a:latin typeface="Arial"/>
              </a:rPr>
              <a:t>β</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1A05-2982-4086-8732-9E7301079B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6" name="Rectangle 2"/>
          <p:cNvSpPr/>
          <p:nvPr/>
        </p:nvSpPr>
        <p:spPr>
          <a:xfrm>
            <a:off x="457200" y="380880"/>
            <a:ext cx="8153280" cy="48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8939-834E-4AA8-AAE0-E164ADD195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3EB4-D0B0-4E56-A782-1A7CB37FAE9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4B83-DF49-40D5-92B8-B6CEAD0707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
              <p:cNvSpPr txBox="1"/>
              <p:nvPr/>
            </p:nvSpPr>
            <p:spPr>
              <a:xfrm>
                <a:off x="990720" y="2971800"/>
                <a:ext cx="1218960" cy="77004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61"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262"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263"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264"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2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9T14:42:53Z</dcterms:modified>
  <cp:revision>813</cp:revision>
  <dc:subject/>
  <dc:title>Topics to be covered</dc:title>
</cp:coreProperties>
</file>