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1382-75C7-4828-8BEE-D6621143D1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418E-5D55-4147-AD1D-F774D75137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9C54-E5E4-4D8D-B2D8-7D70CE05EA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20FD-76C7-4317-8C76-DB0BC41D7E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283F-C1E5-4CE5-B31A-8276F5EF9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4AA2-EB1C-4F77-85AE-132ABD53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2995-0E52-4C96-A11B-512B1E2E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B8C1-A5E5-45F0-ABA3-08B5DFFCE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1AC3-CC83-43A7-A87D-187AD7555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517B-E93B-40C9-BEE2-22D07E94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A68D-321A-487F-B162-D24E94B0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F54D-0348-49B5-B813-9461F837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0D60-E3DB-43D9-A119-E9021009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93DC-5842-4E25-9A55-BF6A3A40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8E27-1008-459C-B61B-6979AAED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6CC6-51A8-463D-AD79-136177F9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E4B7-51D0-4B69-A8E5-68D11445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70A8-2636-418E-AE19-35CC2BC2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44B7-BFBF-4EF2-9199-BF44CF7A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784F-243C-4D40-B3CB-EBAB6332F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8104-F5CA-47DE-9E83-F896A339B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FF96B-A9F9-4136-AA3B-B606224E8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BAE9D-7385-445B-A4B1-183EDA21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EAAD3-7B3A-4FA5-BCBB-6DD1C35F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05B28-FD6B-43F0-B066-0D32C1D7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AB734-D79E-451E-94D7-ADEA414D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008F-D273-41DF-9594-EF02C147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3D875-39CC-49A3-9F1E-01CE2B72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202C6-B20E-4522-AE99-2BC1C432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1BC6F-73C2-40DC-99E9-16CFEC8A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84A90-E35C-41CF-A67A-A885CB85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C7E61-596C-49EA-A942-657B6737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EB3C0-783E-46A9-B732-67910C60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D27E3-B310-413E-888B-3B44FF2F0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A055F-928B-4A0A-929C-D4205E21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19CED-46A2-478B-9E77-CEC55CD7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DBB6C-D073-4EE6-AD1B-757D827D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9CC1-59B2-4AAA-9E94-25489354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8BE6E-63BA-42D8-9806-70AB8B96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DE34E-40FB-423A-802E-FF941AD5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E1747-CC21-458B-8CCA-7E798688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5B851-0FB9-420F-AAA7-F649B2A4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ED01F-DCF8-448B-92B6-6012FE25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D61AC-736B-48B8-8A7E-B990F916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5ADB3-CB3D-4F41-9309-BEC2F1A4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21D4A-3990-43A1-95F0-BDE68329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CA183-9165-4F92-B7C4-4DB2E154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5C92E-3206-495F-A577-4F266BC76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C30A-A459-429F-87AB-169D6FC8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65D10-57C0-49BF-9E03-95AA24FB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7DBB4-D802-4FE7-9F6C-4EEEC7EC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2406A-A72F-4325-9165-0DC1BE49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264C8-2F5A-4DAE-A44F-1990FC20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F69AD-D20C-4A9E-B8A0-365C1CF1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28F98-1B5D-4278-97C9-D117D05E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B583E-AE14-484C-A027-30214794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96C1B-533D-4958-91DF-C8F146FA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3C354-3B5F-498D-88CF-3B6777CF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35879-6A32-4554-9351-1F9CAF96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2479-472F-4E21-8A7F-1F5E903E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A49DC-839D-492C-AE33-F1A15C6D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6773-16B7-416F-A657-A3723059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A830-CE40-4B2A-91C8-221C0E8D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36AF-FA84-4E41-8A79-89DF2D65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29C3-8AFE-4A07-B1C3-4B9532D205B9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F87A-45FD-43B1-98B6-6970FEB697C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4A48-BF4B-48B6-825C-3740BDF45067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DA38-0DFC-42EA-B6FB-E0A88733910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6495-A184-47F8-8A86-CB6DF9DEB2C5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DA0C-9478-4ABC-B61D-1CA6BC0DF2A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1BFD-9862-43C5-87D0-6825885ED960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5F99-EACA-4052-8C3D-1702C473CA3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BB7D-C869-4F59-A155-F4C9078C3C5F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D3C9-8C20-417A-BB84-01F3EC26D2C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35D5-0033-4EA1-8599-CD6FEED52C9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380880" y="228600"/>
            <a:ext cx="8458200" cy="63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Introduction  To Bio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 of some statistical terms an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 Definition of Statistics and Bio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17600" indent="-1317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Arial"/>
                <a:ea typeface="Arial"/>
              </a:rPr>
              <a:t>Statist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ience or a procedu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 collecting, organizing, analyzing and drawing conclusion of numerical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7600" indent="-1317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17600" indent="-131760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it is the prerequisit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Knowledge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for Biome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7600" indent="-1317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7600" indent="-1317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wo types of statistic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9e36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e3611"/>
                </a:solidFill>
                <a:latin typeface="Arial"/>
              </a:rPr>
              <a:t>Descriptive statistics:-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is the statistics that is used in measuring, collecting, organizing, summarizing and description of mas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253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a statistical method which is concerned wit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cribing a set of data but which do not involve generaliz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drawing conclusions.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2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253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Arial"/>
                <a:ea typeface="Arial"/>
              </a:rPr>
              <a:t>These are measures of central tendency such as mean, median, mod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2BAF-771A-406B-A0B9-994965014D4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09480" y="460800"/>
            <a:ext cx="7696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cc"/>
              </a:buClr>
              <a:buFont typeface="Wingdings" charset="2"/>
              <a:buChar char="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cc"/>
                </a:solidFill>
                <a:latin typeface="Arial"/>
                <a:ea typeface="Times New Roman"/>
              </a:rPr>
              <a:t>Methods used in probability sampl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1. Simple random 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rcRect l="0" t="25313" r="0" b="3445"/>
          <a:stretch/>
        </p:blipFill>
        <p:spPr>
          <a:xfrm>
            <a:off x="838080" y="1447920"/>
            <a:ext cx="7696440" cy="293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"/>
          <p:cNvGraphicFramePr/>
          <p:nvPr/>
        </p:nvGraphicFramePr>
        <p:xfrm>
          <a:off x="838080" y="4495680"/>
          <a:ext cx="7925040" cy="1737000"/>
        </p:xfrm>
        <a:graphic>
          <a:graphicData uri="http://schemas.openxmlformats.org/drawingml/2006/table">
            <a:tbl>
              <a:tblPr/>
              <a:tblGrid>
                <a:gridCol w="2981520"/>
                <a:gridCol w="494352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55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Arial"/>
                          <a:ea typeface="Times New Roman"/>
                        </a:rPr>
                        <a:t>Ad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55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asy to understan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55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asy to analy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55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55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Disadvantag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55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quires a list of the popul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55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 is very difficult to achieve (i.e. time, effort and money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55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y miss or under sample key sub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E717-3DEA-4B9B-8858-686E4A09246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"/>
          <p:cNvPicPr/>
          <p:nvPr/>
        </p:nvPicPr>
        <p:blipFill>
          <a:blip r:embed="rId1"/>
          <a:srcRect l="0" t="22443" r="7812" b="1941"/>
          <a:stretch/>
        </p:blipFill>
        <p:spPr>
          <a:xfrm>
            <a:off x="685800" y="1066680"/>
            <a:ext cx="7620120" cy="297180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3"/>
          <p:cNvSpPr/>
          <p:nvPr/>
        </p:nvSpPr>
        <p:spPr>
          <a:xfrm>
            <a:off x="609480" y="4572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2. Systematic 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685800" y="405000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4520" indent="-34452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lement of randomness is usually introduced into this kind of sampling by using random numbers to pick up the unit with which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618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asy to select the sam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618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ght b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re representa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an S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618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 “most” conditions it can be analyzed as S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618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eful when elements can’t be listed prior to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61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Disadvant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618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quires care wi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ycles or periodic tren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sampling fr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DCEB-A23B-408F-8774-3D0FF6DC859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533520" y="394200"/>
            <a:ext cx="807696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3. Stratified Sampl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tition the populati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o groups (strata), e.g., age, wealth status, sex, religion, education status, agro-ecology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btain a simple random sample from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ach group (strat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llect data on each sampling unit that was randomly sampled from each group (stratum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This is useful when the study populations are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heterogeneous,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if comparisons will be made of the results in subgroups of the study po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rcRect l="4398" t="9686" r="2329" b="0"/>
          <a:stretch/>
        </p:blipFill>
        <p:spPr>
          <a:xfrm>
            <a:off x="1219320" y="3657600"/>
            <a:ext cx="6476760" cy="2590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553A-A1BA-4C29-9DF1-7E55B4CE889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"/>
          <p:cNvSpPr/>
          <p:nvPr/>
        </p:nvSpPr>
        <p:spPr>
          <a:xfrm>
            <a:off x="457200" y="842760"/>
            <a:ext cx="830592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Principles of sampling from a stratified popu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alloca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pulation from each subgroup are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proximately 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 Proportionate alloc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self-weigh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d when the subgroups vary dramatically in size of study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vantag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n improv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liability and precis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s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eliminates variability across str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sadvantag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ght need sampling we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86DF-737F-4124-A232-CF5E0F30DC2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"/>
          <p:cNvSpPr/>
          <p:nvPr/>
        </p:nvSpPr>
        <p:spPr>
          <a:xfrm>
            <a:off x="914400" y="3052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4. Cluster/Area 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" descr=""/>
          <p:cNvPicPr/>
          <p:nvPr/>
        </p:nvPicPr>
        <p:blipFill>
          <a:blip r:embed="rId1"/>
          <a:srcRect l="0" t="12504" r="3407" b="0"/>
          <a:stretch/>
        </p:blipFill>
        <p:spPr>
          <a:xfrm>
            <a:off x="1066680" y="685800"/>
            <a:ext cx="7010640" cy="26668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914400" y="3289680"/>
            <a:ext cx="7696080" cy="26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tentially more economical than other metho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logistically simp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Disadvan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its within clusters may b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ss variab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an the population, th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luster sampl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ss precise than a simple rand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mple of the same po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FD55-F81A-4745-9D7F-AD6726A850F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"/>
          <p:cNvSpPr/>
          <p:nvPr/>
        </p:nvSpPr>
        <p:spPr>
          <a:xfrm>
            <a:off x="609480" y="313200"/>
            <a:ext cx="8077320" cy="17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4520" indent="-344520" algn="just"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5. Multi-stage sampl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rther development of the idea of cluster sampl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chnique is meant for big inquiries extending to a considerably large geographical area like an entire count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b05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If the technique of random-sampling is applied at all stages, the sampling procedure is described as multi-stage random sampl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533520" y="2153880"/>
            <a:ext cx="815328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66680" indent="-1666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multi-stage sampling the first stage may be to select large primary sampling units such as states, then districts, then towns and finally certain families within towns (or Region ---zones -----districts-----kebeles----household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Examp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t’s say you wanted to find ou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subject is preferred by Amhara region school child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population list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st of all Amhara region schoolchildr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would be near-impossible to come by, so you canno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ke a sample of the popu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tead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vide the population into zon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 tak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simple random samp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on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the next stage, take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ndom sample of school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om with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ose zon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nally you could perfor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mple random sampling on the studen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ith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cho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o get the final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A396-1C00-4274-BD07-C3A07082E24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380880" y="304920"/>
            <a:ext cx="822960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e3611"/>
                </a:solidFill>
                <a:latin typeface="Arial"/>
                <a:ea typeface="Times New Roman"/>
              </a:rPr>
              <a:t>1.4. Definition of </a:t>
            </a:r>
            <a:r>
              <a:rPr b="1" lang="en-US" sz="2200" spc="-1" strike="noStrike">
                <a:solidFill>
                  <a:srgbClr val="9e3611"/>
                </a:solidFill>
                <a:latin typeface="Arial"/>
              </a:rPr>
              <a:t>Variables and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e36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e3611"/>
                </a:solidFill>
                <a:latin typeface="Arial"/>
                <a:ea typeface="Times New Roman"/>
              </a:rPr>
              <a:t>Variab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s are a set of observations on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cular character.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s are characteristics of popul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der investigation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show variability (that are continuously changing among individual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It is an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factor or character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Calibri"/>
              </a:rPr>
              <a:t>whose valu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can change from individual to individual or from time to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Example of vari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ody weight, feed intake, daily milk yield, sex, eye color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26CA-A880-4E0D-A100-F0E18D6D953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457200" y="181440"/>
            <a:ext cx="8229600" cy="64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Types of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b2d1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b2d1f"/>
                </a:solidFill>
                <a:latin typeface="Arial"/>
              </a:rPr>
              <a:t>Vari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assified 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ative (numer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ative (categoric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ative variables: variables having values expressed as numbers and the d/f b/n values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have numerical mean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b2d1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b2d1f"/>
                </a:solidFill>
                <a:latin typeface="Arial"/>
              </a:rPr>
              <a:t>A quantitative variable can be </a:t>
            </a:r>
            <a:r>
              <a:rPr b="1" lang="en-US" sz="2200" spc="-1" strike="noStrike" u="sng">
                <a:solidFill>
                  <a:srgbClr val="0070c0"/>
                </a:solidFill>
                <a:uFillTx/>
                <a:latin typeface="Arial"/>
              </a:rPr>
              <a:t>continuous</a:t>
            </a: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 or </a:t>
            </a:r>
            <a:r>
              <a:rPr b="1" lang="en-US" sz="2200" spc="-1" strike="noStrike" u="sng">
                <a:solidFill>
                  <a:srgbClr val="0070c0"/>
                </a:solidFill>
                <a:uFillTx/>
                <a:latin typeface="Arial"/>
              </a:rPr>
              <a:t>discrete</a:t>
            </a:r>
            <a:r>
              <a:rPr b="1" lang="en-US" sz="2200" spc="-1" strike="noStrike">
                <a:solidFill>
                  <a:srgbClr val="9b2d1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e361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3611"/>
                </a:solidFill>
                <a:latin typeface="Arial"/>
              </a:rPr>
              <a:t>Continuous variables:</a:t>
            </a:r>
            <a:r>
              <a:rPr b="0" lang="en-US" sz="2000" spc="-1" strike="noStrike">
                <a:solidFill>
                  <a:srgbClr val="9e361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ed using some kind of measuring scale, that 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having continuous no. over a given interv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Length, weight, volume, area, density, time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3611"/>
                </a:solidFill>
                <a:latin typeface="Arial"/>
              </a:rPr>
              <a:t>b. Discrete variables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s having countable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al numbers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termined by coun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Family size, litter size, microbial count, egg production, tiller count,  no. of students in a clas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0EE4-B11A-4555-B8F4-65B95BC24BF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457200" y="228600"/>
            <a:ext cx="82296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Arial"/>
              </a:rPr>
              <a:t>2. Qualitative (categorical) variable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s having values express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ategori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can’t be measured in quantitative fo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rather described by the </a:t>
            </a:r>
            <a:r>
              <a:rPr b="1" lang="en-US" sz="1800" spc="-1" strike="noStrike" u="sng">
                <a:solidFill>
                  <a:srgbClr val="00b050"/>
                </a:solidFill>
                <a:uFillTx/>
                <a:latin typeface="Arial"/>
              </a:rPr>
              <a:t>qualities they possess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9b2d1f"/>
                </a:solidFill>
                <a:latin typeface="Arial"/>
              </a:rPr>
              <a:t>A qualitative variable can be </a:t>
            </a: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an ordinal or nomi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9b2d1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Arial"/>
              </a:rPr>
              <a:t>Ordinal variabl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ativ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ariables having categories that can be rank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are express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thei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lative differe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status of students (excellent, very good, good); weight level of objects (small, medium, large); age level (baby, young, old, very old)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Arial"/>
              </a:rPr>
              <a:t>b. Nominal variabl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ative variabl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aving categories that cannot be rank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.e., no category is more valuable than anot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sex, color, occupation, religion, identification number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assign numbers </a:t>
            </a:r>
            <a:r>
              <a:rPr b="1" lang="en-US" sz="1800" spc="-1" strike="noStrike">
                <a:solidFill>
                  <a:srgbClr val="9e3611"/>
                </a:solidFill>
                <a:latin typeface="Arial"/>
              </a:rPr>
              <a:t>(scores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ordinal categories; however, the differences among </a:t>
            </a:r>
            <a:r>
              <a:rPr b="1" lang="en-US" sz="1800" spc="-1" strike="noStrike">
                <a:solidFill>
                  <a:srgbClr val="9e3611"/>
                </a:solidFill>
                <a:latin typeface="Arial"/>
              </a:rPr>
              <a:t>those numbe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have numerical mean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rule </a:t>
            </a:r>
            <a:r>
              <a:rPr b="1" lang="en-US" sz="1800" spc="-1" strike="noStrike">
                <a:solidFill>
                  <a:srgbClr val="9e3611"/>
                </a:solidFill>
                <a:latin typeface="Arial"/>
              </a:rPr>
              <a:t>those scores depict catego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not a numerical sc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 qualitative variables are coded when data is entered in to a computer for the purpose of data analys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5A8F-808E-4902-BF70-C4058C86BF9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"/>
          <p:cNvSpPr/>
          <p:nvPr/>
        </p:nvSpPr>
        <p:spPr>
          <a:xfrm>
            <a:off x="228600" y="393480"/>
            <a:ext cx="8686800" cy="65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en-US" sz="2200" spc="-1" strike="noStrike">
                <a:solidFill>
                  <a:srgbClr val="9e3611"/>
                </a:solidFill>
                <a:latin typeface="Arial"/>
                <a:ea typeface="Times New Roman"/>
              </a:rPr>
              <a:t>What are dat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236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 are  raw materials for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 statistics means numerical results of any scientific measurement,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 counts or observations.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g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conve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umerical inform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the study variables in a given samp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val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data set is </a:t>
            </a:r>
            <a:r>
              <a:rPr b="1" i="1" lang="en-US" sz="2000" spc="-1" strike="noStrike">
                <a:solidFill>
                  <a:srgbClr val="9e3611"/>
                </a:solidFill>
                <a:latin typeface="Arial"/>
              </a:rPr>
              <a:t>data value or dat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can be obtained fr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utinely kep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or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like dairy farm records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ring Literatu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rveys (using observations, Questionnair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un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e.g. counting diseased animals in a group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peri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e.g. effect of feed intake on body weight ga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 kg of calf 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 liters/day of milk y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le or female sex of 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lue or green eye color, etc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b050"/>
              </a:buClr>
              <a:buFont typeface="Wingdings" charset="2"/>
              <a:buChar char="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Without data, statistical methods do not have mea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D029-CB45-4FBB-BED0-B063280F929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504720" y="380880"/>
            <a:ext cx="8305920" cy="44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e3611"/>
                </a:solidFill>
                <a:latin typeface="Arial"/>
              </a:rPr>
              <a:t>2. Differential statistics / Inferential statistic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-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a statistical methods used for drawing conclusions about a population based on the information obtained from sample drawn from the popul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Arial"/>
              </a:rPr>
              <a:t>It performs </a:t>
            </a:r>
            <a:r>
              <a:rPr b="1" lang="en-IN" sz="2200" spc="-1" strike="noStrike">
                <a:solidFill>
                  <a:srgbClr val="000000"/>
                </a:solidFill>
                <a:latin typeface="Arial"/>
              </a:rPr>
              <a:t>prediction, hypothesis testing, and making of generalization </a:t>
            </a:r>
            <a:r>
              <a:rPr b="0" lang="en-IN" sz="2200" spc="-1" strike="noStrike">
                <a:solidFill>
                  <a:srgbClr val="000000"/>
                </a:solidFill>
                <a:latin typeface="Arial"/>
              </a:rPr>
              <a:t>from sample to population, i.e. a conclusion reached on the basis of evidence and reason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Arial"/>
              </a:rPr>
              <a:t>Examples of inferential statistics: </a:t>
            </a:r>
            <a:r>
              <a:rPr b="0" lang="en-IN" sz="2400" spc="-1" strike="noStrike">
                <a:solidFill>
                  <a:srgbClr val="000000"/>
                </a:solidFill>
                <a:latin typeface="Arial"/>
              </a:rPr>
              <a:t>measures of       dispersion like variances and standard dev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A19F-A871-43FE-BEA7-41D711FB82D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457200" y="228600"/>
            <a:ext cx="830592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Types of data based on their arran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 Raw dat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dat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ritten down as collect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rom the fiel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site of experimental trial, i.e. data that have not been summarized and organized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Ordered dat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  arranged in ascending or descending order or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ta organized and ready for analy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Types of data based on their sourc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y Data: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ected by the investigator her/himsel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purpose of specific inquiry or stu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ary data:-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used by an investigator/researcher which has already been collected b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people or organ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CSA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do we get primary dat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irect personal observ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research area by the researcher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ults obtained from such data are very much reli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ndirect investig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- Here the researcher prepar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nai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send to the researchable area to be collected by enumerators and then get back the information to the researc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6FDD-1F48-4219-8DA0-340347AAB13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"/>
          <p:cNvSpPr/>
          <p:nvPr/>
        </p:nvSpPr>
        <p:spPr>
          <a:xfrm>
            <a:off x="533520" y="228600"/>
            <a:ext cx="815328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3611"/>
                </a:solidFill>
                <a:latin typeface="Arial"/>
              </a:rPr>
              <a:t>Presentation of Summariz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ummarized data can be presented both in numerically and graphic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e36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3611"/>
                </a:solidFill>
                <a:latin typeface="Arial"/>
              </a:rPr>
              <a:t>Numerical present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measure of central tendency (location indicators): e.g. mean median,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frequency distributions (like frequencies and percentages) mainly for qualitativ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measures of dispersions (e.g. range, variance, standard deviations, CV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3611"/>
                </a:solidFill>
                <a:latin typeface="Arial"/>
              </a:rPr>
              <a:t>2. Graphical presentation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phs like bar graph, line graph, pie charts, etc are some of the graphical devices for presentation of statistical 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08DA-ADE4-4C86-B017-E457479CD2D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"/>
          <p:cNvSpPr/>
          <p:nvPr/>
        </p:nvSpPr>
        <p:spPr>
          <a:xfrm>
            <a:off x="457200" y="454320"/>
            <a:ext cx="8305920" cy="60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e3611"/>
                </a:solidFill>
                <a:latin typeface="Arial"/>
                <a:ea typeface="Times New Roman"/>
              </a:rPr>
              <a:t>1.5. Measures of central tendency (location indicato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e3611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s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entral tendenc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 val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culated from the raw data used to describe or represent a given data s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values show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cluste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he values around the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ly used measures of central tendency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66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arithmetic me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66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dian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66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three measures of central tendenc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nd to lie at the center of the data 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ich is a property that gave the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 measures of central tendenc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alue to be considered as representative of a given dat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o lie somewhere at the center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 the nature of the whole data 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F007-9CF5-44D1-9289-1E6158665F6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59056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"/>
          <p:cNvSpPr/>
          <p:nvPr/>
        </p:nvSpPr>
        <p:spPr>
          <a:xfrm>
            <a:off x="1295280" y="4038840"/>
            <a:ext cx="65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Figure. Interpretation of mean, median and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B56F-0FD2-4978-A8BB-FB752EFB445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457200" y="316800"/>
            <a:ext cx="8153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ithmetic mea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st widely us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representat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measu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f central tendency and usually referred 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an or aver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But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fected by outlier val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Cannot be calculated wh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data is mis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s the actual value of data in to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the sum of all values of the data divided by the number of data 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raw data it is calculated 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8" descr=""/>
          <p:cNvPicPr/>
          <p:nvPr/>
        </p:nvPicPr>
        <p:blipFill>
          <a:blip r:embed="rId1"/>
          <a:stretch/>
        </p:blipFill>
        <p:spPr>
          <a:xfrm>
            <a:off x="2819520" y="0"/>
            <a:ext cx="304560" cy="6094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"/>
          <p:cNvPicPr/>
          <p:nvPr/>
        </p:nvPicPr>
        <p:blipFill>
          <a:blip r:embed="rId2"/>
          <a:stretch/>
        </p:blipFill>
        <p:spPr>
          <a:xfrm>
            <a:off x="380880" y="3100320"/>
            <a:ext cx="1600200" cy="87336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10"/>
          <p:cNvSpPr/>
          <p:nvPr/>
        </p:nvSpPr>
        <p:spPr>
          <a:xfrm>
            <a:off x="4467240" y="10188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4"/>
          <p:cNvSpPr/>
          <p:nvPr/>
        </p:nvSpPr>
        <p:spPr>
          <a:xfrm>
            <a:off x="2061360" y="2971800"/>
            <a:ext cx="114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1" descr=""/>
          <p:cNvPicPr/>
          <p:nvPr/>
        </p:nvPicPr>
        <p:blipFill>
          <a:blip r:embed="rId3"/>
          <a:stretch/>
        </p:blipFill>
        <p:spPr>
          <a:xfrm>
            <a:off x="3276720" y="3124080"/>
            <a:ext cx="2020680" cy="36684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10"/>
          <p:cNvSpPr/>
          <p:nvPr/>
        </p:nvSpPr>
        <p:spPr>
          <a:xfrm>
            <a:off x="2057400" y="3507120"/>
            <a:ext cx="556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i = the sum of the values starting from i = 1 up to i = n; n =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457200" y="41155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data collected from the population, the mean value (μ) is computed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1" descr=""/>
          <p:cNvPicPr/>
          <p:nvPr/>
        </p:nvPicPr>
        <p:blipFill>
          <a:blip r:embed="rId4"/>
          <a:stretch/>
        </p:blipFill>
        <p:spPr>
          <a:xfrm>
            <a:off x="914400" y="4572000"/>
            <a:ext cx="914400" cy="51444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13"/>
          <p:cNvSpPr/>
          <p:nvPr/>
        </p:nvSpPr>
        <p:spPr>
          <a:xfrm>
            <a:off x="2514600" y="464904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N = the population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4"/>
          <p:cNvSpPr/>
          <p:nvPr/>
        </p:nvSpPr>
        <p:spPr>
          <a:xfrm>
            <a:off x="457200" y="503136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5360" indent="-22536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 grouped data, each values of xi should be weighed by its respective frequency and the above formula is modified as foll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5" descr=""/>
          <p:cNvPicPr/>
          <p:nvPr/>
        </p:nvPicPr>
        <p:blipFill>
          <a:blip r:embed="rId5"/>
          <a:stretch/>
        </p:blipFill>
        <p:spPr>
          <a:xfrm>
            <a:off x="762120" y="5715000"/>
            <a:ext cx="2895480" cy="7621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6" descr=""/>
          <p:cNvPicPr/>
          <p:nvPr/>
        </p:nvPicPr>
        <p:blipFill>
          <a:blip r:embed="rId6"/>
          <a:stretch/>
        </p:blipFill>
        <p:spPr>
          <a:xfrm>
            <a:off x="4267080" y="5638680"/>
            <a:ext cx="3962520" cy="914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A2CC-C473-419B-AEAD-7C47DF81FF2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"/>
          <p:cNvSpPr/>
          <p:nvPr/>
        </p:nvSpPr>
        <p:spPr>
          <a:xfrm>
            <a:off x="457200" y="15588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b050"/>
                </a:solidFill>
                <a:uFillTx/>
                <a:latin typeface="Arial"/>
                <a:ea typeface="Times New Roman"/>
              </a:rPr>
              <a:t>Exerc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Compute the arithmetic mean for ungrouped and grouped data shown by Tables 2.1 and 2.2, respectivel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762120" y="1295280"/>
          <a:ext cx="6933960" cy="4907160"/>
        </p:xfrm>
        <a:graphic>
          <a:graphicData uri="http://schemas.openxmlformats.org/drawingml/2006/table">
            <a:tbl>
              <a:tblPr/>
              <a:tblGrid>
                <a:gridCol w="2627280"/>
                <a:gridCol w="4306680"/>
              </a:tblGrid>
              <a:tr h="7016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495360" indent="-495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le 2.1.  Percent Butterfat content of milk of 11 randomly selected cows from DMU dairy fa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 of c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butterfat of mil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600B-E0E2-42C8-8D3C-EC08FC93BB2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371600" y="762120"/>
          <a:ext cx="6248520" cy="3182760"/>
        </p:xfrm>
        <a:graphic>
          <a:graphicData uri="http://schemas.openxmlformats.org/drawingml/2006/table">
            <a:tbl>
              <a:tblPr/>
              <a:tblGrid>
                <a:gridCol w="2846520"/>
                <a:gridCol w="3402000"/>
              </a:tblGrid>
              <a:tr h="7016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le 2.2. Frequency distribution of dogs that had different litter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ter siz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equenc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B04E-265F-4A3B-A0A6-B99A16A1525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"/>
          <p:cNvSpPr/>
          <p:nvPr/>
        </p:nvSpPr>
        <p:spPr>
          <a:xfrm>
            <a:off x="533520" y="329400"/>
            <a:ext cx="807696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defined 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iddle value in an ordered data 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i.e., it is a value that divides the data into two halv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raw da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dian value can be determined first by arranging the data into ascending (or descending) or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dian value is computed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M = (n+1)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f the data set is od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M =[ (n/2)+ (n/2)+1]/2  if the data set is even, where M= median and n=the number of observ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if the sample data contains 10 observations, (n/2) = X5( fifth observation) and (n/2)+1 = X5+1 = X6 (sixth observation).  Therefore, the median value would be half way between the fifth and sixth observation. i.e., (X5+X6)/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8A86-F3E6-44BD-A62F-F142E7BECE9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533520" y="762120"/>
            <a:ext cx="8076960" cy="38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fied exampl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dd number of observations  like = 4, 1, 2, 5, 9;  Median = the value of the middle observation = 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even number of observation like = 4, 1, 2,2,5,9;  Median = the average value of the middle two observ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2+4)/2 = 3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B: To find the middle observations both in odd and/or even number of observations, the raw data must be arranged in either ascending or descending ord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914400" y="4952880"/>
            <a:ext cx="7010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b050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b050"/>
                </a:solidFill>
                <a:uFillTx/>
                <a:latin typeface="Arial"/>
              </a:rPr>
              <a:t>Exercise:  </a:t>
            </a:r>
            <a:r>
              <a:rPr b="1" i="1" lang="en-US" sz="1800" spc="-1" strike="noStrike">
                <a:solidFill>
                  <a:srgbClr val="00b050"/>
                </a:solidFill>
                <a:latin typeface="Arial"/>
              </a:rPr>
              <a:t>using data of tables 2.1 and 2.2 determine the median valu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FBDA-645B-40CF-8ABE-7DAB4D509CD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"/>
          <p:cNvSpPr/>
          <p:nvPr/>
        </p:nvSpPr>
        <p:spPr>
          <a:xfrm>
            <a:off x="304920" y="-176760"/>
            <a:ext cx="8534160" cy="66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The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de i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st frequently observed value in the data 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hen mixtures of populations are sampled, the data can have more than one modal value. i.e., multimodal distribu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9052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given set of data may be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modal, bimodal, or multimodal distrib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9052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d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 hav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ne mo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.g. 4, 1, 2, 2, 5,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9052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imod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hav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wo mod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.g. 4, 4, 1, 2, 2, 5,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9052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ltimod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having greater than or equal to three mo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.g. 4, 4, 1, 1, 2, 2, 5, 5,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b050"/>
                </a:solidFill>
                <a:uFillTx/>
                <a:latin typeface="Arial"/>
              </a:rPr>
              <a:t>Exercise:  </a:t>
            </a: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using data of tables 2.1 and 2.2 determine the mode valu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e3611"/>
                </a:solidFill>
                <a:latin typeface="Arial"/>
                <a:ea typeface="Times New Roman"/>
              </a:rPr>
              <a:t>Summary on the usage of measures of central t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M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an be used for both </a:t>
            </a:r>
            <a:r>
              <a:rPr b="1" lang="en-US" sz="2000" spc="-1" strike="noStrike">
                <a:solidFill>
                  <a:srgbClr val="548dd4"/>
                </a:solidFill>
                <a:latin typeface="Arial"/>
                <a:ea typeface="Times New Roman"/>
              </a:rPr>
              <a:t>quantitative and qualitat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var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Medi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an be used for </a:t>
            </a:r>
            <a:r>
              <a:rPr b="1" lang="en-US" sz="2000" spc="-1" strike="noStrike">
                <a:solidFill>
                  <a:srgbClr val="548dd4"/>
                </a:solidFill>
                <a:latin typeface="Arial"/>
                <a:ea typeface="Times New Roman"/>
              </a:rPr>
              <a:t>quantit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both continuous and discrete) as well as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rdi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cale variabl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Me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for describing data, the variable has to be </a:t>
            </a:r>
            <a:r>
              <a:rPr b="0" lang="en-US" sz="2000" spc="-1" strike="noStrike">
                <a:solidFill>
                  <a:srgbClr val="548dd4"/>
                </a:solidFill>
                <a:latin typeface="Arial"/>
                <a:ea typeface="Times New Roman"/>
              </a:rPr>
              <a:t>quantit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712C-62CB-473F-9528-BD14BEB100F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838080" y="609480"/>
            <a:ext cx="777240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9e3611"/>
                </a:solidFill>
                <a:latin typeface="Arial"/>
              </a:rPr>
              <a:t>Biometry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 is the application of statistics used to solve 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biological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More scientifically, it is 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the application of statistical metho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nalyz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logical da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fields of </a:t>
            </a:r>
            <a:r>
              <a:rPr b="1" i="1" lang="en-US" sz="2000" spc="-1" strike="noStrike">
                <a:solidFill>
                  <a:srgbClr val="9b2d1f"/>
                </a:solidFill>
                <a:latin typeface="Arial"/>
              </a:rPr>
              <a:t>biological sciences and medicine 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in order to solve biological proble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Biometry can also be called biometrics or biostatistics or biomathema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4520" indent="-34452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N" sz="2000" spc="-1" strike="noStrike">
                <a:solidFill>
                  <a:srgbClr val="00b050"/>
                </a:solidFill>
                <a:latin typeface="Arial"/>
                <a:ea typeface="Arial"/>
              </a:rPr>
              <a:t>Hence</a:t>
            </a:r>
            <a:r>
              <a:rPr b="1" i="1" lang="en-IN" sz="1800" spc="-1" strike="noStrike">
                <a:solidFill>
                  <a:srgbClr val="00b050"/>
                </a:solidFill>
                <a:latin typeface="Arial"/>
                <a:ea typeface="Arial"/>
              </a:rPr>
              <a:t>, </a:t>
            </a:r>
            <a:r>
              <a:rPr b="1" i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knowledge of statistics is required to apply statistical methods in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7EA5-895C-42F9-8341-302D2EEC7C2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"/>
          <p:cNvSpPr/>
          <p:nvPr/>
        </p:nvSpPr>
        <p:spPr>
          <a:xfrm>
            <a:off x="380880" y="166680"/>
            <a:ext cx="822960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preferred measure of central tenden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never it can be used amongst the three. This is becau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uses all the values in its computational proced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hereas, the other two are rather location parame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n may ignore useful dat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it is only influenced by one or two observations as the case may 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ite all this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e should be exercis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n using mean value for data representation as it i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affected of the three whe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 data are considerably skew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9A3C-35A7-4973-AADB-DFC2A201F57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"/>
          <p:cNvSpPr/>
          <p:nvPr/>
        </p:nvSpPr>
        <p:spPr>
          <a:xfrm>
            <a:off x="442800" y="306000"/>
            <a:ext cx="41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6. Measures of disp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457200" y="685800"/>
            <a:ext cx="8458200" cy="60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asure of dispersio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expression of variabilit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data 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s </a:t>
            </a:r>
            <a:r>
              <a:rPr b="1" lang="en-US" sz="20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how spread are values  from the center</a:t>
            </a:r>
            <a:r>
              <a:rPr b="0" lang="en-US" sz="20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is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site of how cluste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he values around the cen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ly used measures of dispersions inclu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2840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ng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2840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iances (sample and population varian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2840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ndard deviat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ample and population Standard devia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2840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ndard Error (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2840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efficient of variation (CV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asure of dispersio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to be reported with average 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cause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values (me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one do not adequately describe a data 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 consider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score on biostatistics of two clas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students, 2006 and 2007 class displayed by Table 3.1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an score for the 2006 and 2007 class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5.0% and 75.4%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ective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report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ean value alone mislea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the two class students 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able in perform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4C20-A10F-427C-92B4-EB0386236BC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533520" y="1752480"/>
          <a:ext cx="8001000" cy="4556160"/>
        </p:xfrm>
        <a:graphic>
          <a:graphicData uri="http://schemas.openxmlformats.org/drawingml/2006/table">
            <a:tbl>
              <a:tblPr/>
              <a:tblGrid>
                <a:gridCol w="3105000"/>
                <a:gridCol w="2448000"/>
                <a:gridCol w="2448000"/>
              </a:tblGrid>
              <a:tr h="7016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able 3.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iostatistics final score of 2006 and 2007 class students (x/1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of stu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ore (X/1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lass 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(∑ 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-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-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nce (s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 deviation (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Rectangle 1"/>
          <p:cNvSpPr/>
          <p:nvPr/>
        </p:nvSpPr>
        <p:spPr>
          <a:xfrm>
            <a:off x="457200" y="158400"/>
            <a:ext cx="830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he other h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f some measure of dispersio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 Range is reported togethe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the mean value, </a:t>
            </a: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reader would understand that the two class students are widely different in performance.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, </a:t>
            </a:r>
            <a:r>
              <a:rPr b="0" lang="en-US" sz="18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the </a:t>
            </a:r>
            <a:r>
              <a:rPr b="1" lang="en-US" sz="18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2006 class students are highly varie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performa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ut </a:t>
            </a:r>
            <a:r>
              <a:rPr b="1" lang="en-US" sz="18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the 2007 class students are relatively close to each oth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the reader cannot get this idea by inspecting the mean value al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A61D-9AC0-4E3E-9E61-300170C2041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"/>
          <p:cNvSpPr/>
          <p:nvPr/>
        </p:nvSpPr>
        <p:spPr>
          <a:xfrm>
            <a:off x="380880" y="482760"/>
            <a:ext cx="83059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</a:t>
            </a:r>
            <a:r>
              <a:rPr b="0" lang="en-US" sz="2000" spc="-1" strike="noStrike">
                <a:solidFill>
                  <a:srgbClr val="9b2d1f"/>
                </a:solidFill>
                <a:latin typeface="Arial"/>
                <a:ea typeface="Times New Roman"/>
              </a:rPr>
              <a:t>d/c b/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highest and lowest value in a data s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an be expressed </a:t>
            </a:r>
            <a:r>
              <a:rPr b="1" lang="en-US" sz="2000" spc="-1" strike="noStrike">
                <a:solidFill>
                  <a:srgbClr val="9b2d1f"/>
                </a:solidFill>
                <a:latin typeface="Arial"/>
                <a:ea typeface="Times New Roman"/>
              </a:rPr>
              <a:t>as differ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such as the range of the 2006 class score is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within 40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r it can also be expressed </a:t>
            </a:r>
            <a:r>
              <a:rPr b="1" lang="en-US" sz="2000" spc="-1" strike="noStrike">
                <a:solidFill>
                  <a:srgbClr val="9b2d1f"/>
                </a:solidFill>
                <a:latin typeface="Arial"/>
                <a:ea typeface="Times New Roman"/>
              </a:rPr>
              <a:t>as interv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uch as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the said range is </a:t>
            </a:r>
            <a:r>
              <a:rPr b="1" lang="en-US" sz="2000" spc="-1" strike="noStrike">
                <a:solidFill>
                  <a:srgbClr val="9b2d1f"/>
                </a:solidFill>
                <a:latin typeface="Arial"/>
                <a:ea typeface="Times New Roman"/>
              </a:rPr>
              <a:t>between 55 and 95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 is </a:t>
            </a:r>
            <a:r>
              <a:rPr b="1" lang="en-US" sz="2000" spc="-1" strike="noStrike">
                <a:solidFill>
                  <a:srgbClr val="9b2d1f"/>
                </a:solidFill>
                <a:latin typeface="Arial"/>
              </a:rPr>
              <a:t>si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understand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ly graspable measure of dispersion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it is a </a:t>
            </a:r>
            <a:r>
              <a:rPr b="1" lang="en-US" sz="2000" spc="-1" strike="noStrike">
                <a:solidFill>
                  <a:srgbClr val="9b2d1f"/>
                </a:solidFill>
                <a:latin typeface="Arial"/>
              </a:rPr>
              <a:t>crude measure of dispers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t can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easily overestimate the true dispers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data contains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outlier values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nstance consider the scores of two classes of students (class A and B) displayed by Table 3.1. The mean score of class A is 75% and that of class B is 75.4%. The range of the scores is between 55-95% and 65-85%, respectively. Looking at this report, a reader would understand that class A students 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ly varied in their sco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range in this situ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emphasiz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true dispersion of the values in the presence of outlier values as it only takes into consider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values in the data 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034E-9077-4E54-A16F-7D4B06F9A7C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304920" y="377280"/>
            <a:ext cx="8381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riance and standard dev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are expressed </a:t>
            </a:r>
            <a:r>
              <a:rPr b="1" lang="en-US" sz="2000" spc="-1" strike="noStrike">
                <a:solidFill>
                  <a:srgbClr val="9b2d1f"/>
                </a:solidFill>
                <a:latin typeface="Arial"/>
                <a:ea typeface="Times New Roman"/>
              </a:rPr>
              <a:t>as the dispersion of the dat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t from the </a:t>
            </a:r>
            <a:r>
              <a:rPr b="1" lang="en-US" sz="2000" spc="-1" strike="noStrike">
                <a:solidFill>
                  <a:srgbClr val="9b2d1f"/>
                </a:solidFill>
                <a:latin typeface="Arial"/>
                <a:ea typeface="Times New Roman"/>
              </a:rPr>
              <a:t>me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b2d1f"/>
              </a:buClr>
              <a:buFont typeface="Arial"/>
              <a:buAutoNum type="arabicPeriod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Arial"/>
              </a:rPr>
              <a:t>Variance: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pressed a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ing the sum of the squared deviations by the total number of data 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wo types of varia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opulation variance:  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  <a:ea typeface="Arial"/>
              </a:rPr>
              <a:t>σ</a:t>
            </a:r>
            <a:r>
              <a:rPr b="1" lang="en-US" sz="2200" spc="-1" strike="noStrike" baseline="30000">
                <a:solidFill>
                  <a:srgbClr val="0000cc"/>
                </a:solidFill>
                <a:latin typeface="Arial"/>
                <a:ea typeface="Arial"/>
              </a:rPr>
              <a:t>2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  <a:ea typeface="Arial"/>
              </a:rPr>
              <a:t> = ∑ (xi –μ)</a:t>
            </a:r>
            <a:r>
              <a:rPr b="1" lang="en-US" sz="2200" spc="-1" strike="noStrike" baseline="30000">
                <a:solidFill>
                  <a:srgbClr val="0000cc"/>
                </a:solidFill>
                <a:latin typeface="Arial"/>
                <a:ea typeface="Arial"/>
              </a:rPr>
              <a:t>2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  <a:ea typeface="Arial"/>
              </a:rPr>
              <a:t>/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ample variance:  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  <a:ea typeface="Arial"/>
              </a:rPr>
              <a:t>S</a:t>
            </a:r>
            <a:r>
              <a:rPr b="1" lang="en-US" sz="2200" spc="-1" strike="noStrike" baseline="30000">
                <a:solidFill>
                  <a:srgbClr val="0000cc"/>
                </a:solidFill>
                <a:latin typeface="Arial"/>
                <a:ea typeface="Arial"/>
              </a:rPr>
              <a:t>2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  <a:ea typeface="Arial"/>
              </a:rPr>
              <a:t> = ∑ (xi –    )</a:t>
            </a:r>
            <a:r>
              <a:rPr b="1" lang="en-US" sz="2200" spc="-1" strike="noStrike" baseline="30000">
                <a:solidFill>
                  <a:srgbClr val="0000cc"/>
                </a:solidFill>
                <a:latin typeface="Arial"/>
                <a:ea typeface="Arial"/>
              </a:rPr>
              <a:t>2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  <a:ea typeface="Arial"/>
              </a:rPr>
              <a:t>/ n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28600"/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ariance is also termed 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an square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ince it is the mean of the total squared deviation of each value from the mean. i.e.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variance = Mean square =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total sum of squared deviation/degrees of freed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5112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abbreviated, the expression can be written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511200" algn="ctr">
              <a:lnSpc>
                <a:spcPct val="100000"/>
              </a:lnSpc>
              <a:tabLst>
                <a:tab algn="l" pos="0"/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  <a:ea typeface="Arial"/>
              </a:rPr>
              <a:t>S</a:t>
            </a:r>
            <a:r>
              <a:rPr b="1" lang="en-US" sz="1800" spc="-1" strike="noStrike" u="sng" baseline="30000">
                <a:solidFill>
                  <a:srgbClr val="0000cc"/>
                </a:solidFill>
                <a:uFillTx/>
                <a:latin typeface="Arial"/>
                <a:ea typeface="Arial"/>
              </a:rPr>
              <a:t>2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  <a:ea typeface="Arial"/>
              </a:rPr>
              <a:t> = MS = TSS/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2"/>
              <p:cNvSpPr txBox="1"/>
              <p:nvPr/>
            </p:nvSpPr>
            <p:spPr>
              <a:xfrm>
                <a:off x="5486400" y="3124080"/>
                <a:ext cx="3049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8C05-B008-4483-9901-878AD836ACD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"/>
          <p:cNvSpPr/>
          <p:nvPr/>
        </p:nvSpPr>
        <p:spPr>
          <a:xfrm>
            <a:off x="457200" y="272160"/>
            <a:ext cx="83059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4520" indent="-344520"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ample variance S</a:t>
            </a:r>
            <a:r>
              <a:rPr b="1" lang="en-US" sz="20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estimator of the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opulation variance σ</a:t>
            </a:r>
            <a:r>
              <a:rPr b="1" lang="en-US" sz="20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min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the sample variance is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n-1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ferred as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ees of freed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ther than n(sample size) because if the denominator is sample size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underestimates the true dispersion σ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nce expresses the dispersion in the data values in squared unit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 using data of the 2006 class score shown by table 3.3 below, the sample variance is computed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∑ (xi –    )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/ n-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500/7 = 214.29 %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ndicates tha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 score of a student on average deviated from the average sc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he class by 214.29%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.e.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deviation from the center is express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percent squ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ince variance expresses deviation in squared unit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not easily understandable by common us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refore,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itive square root of vari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used to expres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viation in linear un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is gives a quantity calle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andard deviation (S).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That is why estimating Standard deviation from the variance value is impor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4"/>
              <p:cNvSpPr txBox="1"/>
              <p:nvPr/>
            </p:nvSpPr>
            <p:spPr>
              <a:xfrm>
                <a:off x="2209680" y="2895480"/>
                <a:ext cx="3049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424A-FBD7-4BF5-96B1-89713954022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228600" y="380880"/>
            <a:ext cx="84582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39760" indent="-973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 standard deviation (S)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described as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ositive square root of vari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it is used to expre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ation in linear units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39760" indent="-973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39760" indent="-973080"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standard deviation (S) = √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√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∑ (xi –    )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/ n-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39760" indent="-973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39760" indent="-973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4"/>
              <p:cNvSpPr txBox="1"/>
              <p:nvPr/>
            </p:nvSpPr>
            <p:spPr>
              <a:xfrm>
                <a:off x="6324480" y="1295280"/>
                <a:ext cx="3049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38" name="Rectangle 7"/>
          <p:cNvSpPr/>
          <p:nvPr/>
        </p:nvSpPr>
        <p:spPr>
          <a:xfrm>
            <a:off x="457200" y="1752480"/>
            <a:ext cx="83818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the 2006 class students score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S = √214.29 = 14.64%.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.e., in the 2006 class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core of a given student deviated from the class average by </a:t>
            </a: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14.64%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s much easier to understand since it is expressed in similar units as the values in the data s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Summarize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Variance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is the most preferred measure of dispersion that satisfie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wo important qualities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tak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values in the data 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 its computation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fore it is not biased as rang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ability distrib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well understo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fore this makes it  important in higher statistic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0646-9529-4ECE-B729-394571A4E6D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371600" y="674640"/>
          <a:ext cx="6705720" cy="4624560"/>
        </p:xfrm>
        <a:graphic>
          <a:graphicData uri="http://schemas.openxmlformats.org/drawingml/2006/table">
            <a:tbl>
              <a:tblPr/>
              <a:tblGrid>
                <a:gridCol w="2381400"/>
                <a:gridCol w="2016000"/>
                <a:gridCol w="2308320"/>
              </a:tblGrid>
              <a:tr h="3052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 class Score (X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 – 75 =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– 75 = 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2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 – 75 =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– 75 =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– 75 = 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 2 = 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 – 75 = 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– 75 = -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5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2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– 75 = -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∑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Xi –     ) 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∑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∑             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n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/7 = 214.29 %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6"/>
              <p:cNvSpPr txBox="1"/>
              <p:nvPr/>
            </p:nvSpPr>
            <p:spPr>
              <a:xfrm>
                <a:off x="4267080" y="1143000"/>
                <a:ext cx="8384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4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10"/>
              <p:cNvSpPr txBox="1"/>
              <p:nvPr/>
            </p:nvSpPr>
            <p:spPr>
              <a:xfrm>
                <a:off x="6400800" y="1066680"/>
                <a:ext cx="80496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i</m:t>
                        </m: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12"/>
              <p:cNvSpPr txBox="1"/>
              <p:nvPr/>
            </p:nvSpPr>
            <p:spPr>
              <a:xfrm>
                <a:off x="4800600" y="4267080"/>
                <a:ext cx="25704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5"/>
              <p:cNvSpPr txBox="1"/>
              <p:nvPr/>
            </p:nvSpPr>
            <p:spPr>
              <a:xfrm>
                <a:off x="6172200" y="4267080"/>
                <a:ext cx="80496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i</m:t>
                        </m: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15"/>
              <p:cNvSpPr txBox="1"/>
              <p:nvPr/>
            </p:nvSpPr>
            <p:spPr>
              <a:xfrm>
                <a:off x="4191120" y="4648320"/>
                <a:ext cx="8046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i</m:t>
                        </m: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0" name="Rectangle 16"/>
          <p:cNvSpPr/>
          <p:nvPr/>
        </p:nvSpPr>
        <p:spPr>
          <a:xfrm>
            <a:off x="533520" y="38124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3.2. The 2006 class score  Biostatisticsa data used for illustration of variance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AA7D-EAC2-4FA6-9567-20B375997A5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533520" y="457200"/>
            <a:ext cx="822960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Arial"/>
              </a:rPr>
              <a:t>Standard error of mean (S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defend as the standard deviation of the mean divided by the square root of the sample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b2d1f"/>
                </a:solidFill>
                <a:latin typeface="Arial"/>
              </a:rPr>
              <a:t>Standard error of mean (SEM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bolized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tandard error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SEM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helpful to judge how much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viant is 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mple mean from the unknown population me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which the sample is draw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ypothesis testing procedu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o how muc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error level can be tolerat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deciding that the sample estimate is bia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, calculating CV (coefficient of variation) value can be used as a guide to deci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ample estimate is biased or 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"/>
              <p:cNvSpPr txBox="1"/>
              <p:nvPr/>
            </p:nvSpPr>
            <p:spPr>
              <a:xfrm>
                <a:off x="2362320" y="2362320"/>
                <a:ext cx="137160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3"/>
              <p:cNvSpPr txBox="1"/>
              <p:nvPr/>
            </p:nvSpPr>
            <p:spPr>
              <a:xfrm>
                <a:off x="6553080" y="1828800"/>
                <a:ext cx="3715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0438-6597-47B1-A9F9-4A69B7E1719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228600" y="466920"/>
            <a:ext cx="82296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efficient of variation (C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t describes variability in the data set as a proportion to the mean, i.e.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 i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lative measure of vari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efficient of variation is expressed as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V  =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1"/>
              <p:cNvSpPr txBox="1"/>
              <p:nvPr/>
            </p:nvSpPr>
            <p:spPr>
              <a:xfrm>
                <a:off x="6400800" y="2133720"/>
                <a:ext cx="9144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Rectangle 3"/>
          <p:cNvSpPr/>
          <p:nvPr/>
        </p:nvSpPr>
        <p:spPr>
          <a:xfrm>
            <a:off x="380880" y="2909880"/>
            <a:ext cx="8382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5360" indent="-22536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n be use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o compare the relative dispersion (varia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data sets measured in different units as well as magnitu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nstanc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variable or homogeneous is the distribution of weights of same age group individua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given commun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a rule of thumb (standard agreement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can be used as a guide for such kind of decision based on CV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A324-7D24-48A1-83CE-0D8EC9222F4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533520" y="304920"/>
            <a:ext cx="8229600" cy="68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e3611"/>
                </a:solidFill>
                <a:latin typeface="Arial"/>
              </a:rPr>
              <a:t>Application of statistics in resear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stics or biometrics can be applied: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511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design data collection methodolog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type of research both in Survey type (exploratory) and experimental resear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511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Questionnaires, interview, group discussion, experiments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511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569880" indent="-45072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summarize and describe data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7080" indent="-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Tables,  figure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r graphs, line graphs, scatter plots, pie charts etc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7080" indent="-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tatistical quantities lik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measures of central tendencies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7080" indent="-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measures of dispersions, such as Range and Vari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standard deviation, standard err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9880" indent="-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511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infer population parameter from sample statistics, i.e.,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 make generalization about population characteristic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511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511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make comparison among populations, such as Hypothesis testing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pothesis testing involves comparing populations in order to make clear cut deci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E1EB-1D3B-467E-85A8-8478C273B49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533520" y="457200"/>
            <a:ext cx="815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V≤ 10%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ple estimate is considered a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good approxim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parametric value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usually achieved in experimental re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V is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etween 10 and 20%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also considered as a good approximation of the parametric val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in fact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ry good preci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level for samples obtained from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rvey type resear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But, for data generated from experimental research, this should be taken as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pper tolerable lim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deviation for a sample statist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If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V is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etween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0 and 30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%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y b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lerated for exploratory resear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for designed experiments, it is indicative of too much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rror or an un-standardized methodolog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ed, and thus one has to consider revising the methodology of data collec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art from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vising the methodology (randomization) of data coll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obviously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creasing the sample s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also a good approach to improve precision of est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55D6-5D68-45D2-BE18-4606C5435A8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"/>
          <p:cNvSpPr/>
          <p:nvPr/>
        </p:nvSpPr>
        <p:spPr>
          <a:xfrm>
            <a:off x="533520" y="259560"/>
            <a:ext cx="8305560" cy="61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e3611"/>
                </a:solidFill>
                <a:latin typeface="Arial"/>
                <a:ea typeface="Times New Roman"/>
              </a:rPr>
              <a:t>1.2. </a:t>
            </a:r>
            <a:r>
              <a:rPr b="1" lang="en-US" sz="2000" spc="-1" strike="noStrike">
                <a:solidFill>
                  <a:srgbClr val="9e3611"/>
                </a:solidFill>
                <a:latin typeface="Arial"/>
                <a:ea typeface="Times New Roman"/>
              </a:rPr>
              <a:t>Definition of </a:t>
            </a:r>
            <a:r>
              <a:rPr b="1" lang="en-US" sz="2000" spc="-1" strike="noStrike">
                <a:solidFill>
                  <a:srgbClr val="9e3611"/>
                </a:solidFill>
                <a:latin typeface="Arial"/>
                <a:ea typeface="Arial"/>
              </a:rPr>
              <a:t>Population, sample and related terminolo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9e3611"/>
                </a:solidFill>
                <a:latin typeface="Arial"/>
                <a:ea typeface="Times New Roman"/>
              </a:rPr>
              <a:t>popul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the collection of all possible individuals, objects or measurement of interest, or  it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is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the entire subject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of the research interest.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It differs from time to time, which either increase or decrease through time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1200" indent="-3920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ypes of popu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1200" indent="-3920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are different ways of classifying populations based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200" indent="-3920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ze of populations as finite and infin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39204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inite populations are those that can be coun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39204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finite populations are those that are too large to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200" indent="-3920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ature of members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39204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iving or non li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39204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Real or imaginar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al populations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exist in time and spac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, while as imaginary populations are those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experimentally created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F2EF-46C8-4DD1-B67C-68B30DBA760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380880" y="457200"/>
            <a:ext cx="8305920" cy="51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50"/>
                </a:solidFill>
                <a:latin typeface="Arial"/>
                <a:ea typeface="Times New Roman"/>
              </a:rPr>
              <a:t>Sub sets of a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b050"/>
              </a:buClr>
              <a:buFont typeface="Arial"/>
              <a:buAutoNum type="arabicPeriod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Target Population/theoretical population/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fers to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TIRE group of individuals or objec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o which researchers are interested in generalizing the conclus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b050"/>
              </a:buClr>
              <a:buFont typeface="Arial"/>
              <a:buAutoNum type="arabicPeriod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Accessible Population/study population/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refer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population in researc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which the researchers c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ly their conclus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population is a subset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rget popu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om the accessible population researchers draw thei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m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just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Sampling fram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st of uni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the population from which the sample is drawn.  e.g., list of livestock produc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just">
              <a:lnSpc>
                <a:spcPct val="15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Sample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bset of the popul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ed to stu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just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Sampling unit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f the population that are selected –   like Individual people, health facilities, district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012D-8981-4DD0-B900-DF32A683004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6953400" cy="434340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"/>
          <p:cNvSpPr/>
          <p:nvPr/>
        </p:nvSpPr>
        <p:spPr>
          <a:xfrm>
            <a:off x="1066680" y="5105880"/>
            <a:ext cx="647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Adolescents = youth = young people = teenagers  = youngsters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8EE8-08AD-4F6A-91BC-1BFAD13DC7E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"/>
          <p:cNvSpPr/>
          <p:nvPr/>
        </p:nvSpPr>
        <p:spPr>
          <a:xfrm>
            <a:off x="533520" y="393120"/>
            <a:ext cx="807696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cc"/>
                </a:solidFill>
                <a:latin typeface="Arial"/>
                <a:ea typeface="Times New Roman"/>
              </a:rPr>
              <a:t>1.3. Samplin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cc"/>
                </a:solidFill>
                <a:latin typeface="Arial"/>
                <a:ea typeface="Times New Roman"/>
              </a:rPr>
              <a:t>and Types of samp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What is Sampl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proce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y which we stud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small part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population (sample) to make judgments about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tire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mpling involv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ing a number of uni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om a defined pop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Why Do We Samp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hen the population of interest is larg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mpling can be more effici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a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know or to estim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characteristics of a popul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k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ss ti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an reaching the entire pop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k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ss money/resou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n actually provi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re accurate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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06F5-0980-4247-93F5-FEC6EF0BA42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"/>
          <p:cNvSpPr/>
          <p:nvPr/>
        </p:nvSpPr>
        <p:spPr>
          <a:xfrm>
            <a:off x="304920" y="-13680"/>
            <a:ext cx="8610480" cy="69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cc"/>
                </a:solidFill>
                <a:latin typeface="Arial"/>
                <a:ea typeface="Times New Roman"/>
              </a:rPr>
              <a:t>Types of sampl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1.</a:t>
            </a:r>
            <a:r>
              <a:rPr b="1" i="1" lang="en-US" sz="1800" spc="-1" strike="noStrike">
                <a:solidFill>
                  <a:srgbClr val="00b050"/>
                </a:solidFill>
                <a:latin typeface="Arial"/>
              </a:rPr>
              <a:t> N</a:t>
            </a:r>
            <a:r>
              <a:rPr b="1" i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on-probability sampling or purposive 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 sampling method in whic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 probability is assigned for each elementary un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; rather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judgment is used to select the samp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nces of selecting a subject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kn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every element of the population has the opportunity for sele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sampling frame is avail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likely to produce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Arial"/>
              </a:rPr>
              <a:t>a biased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tricts gener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.g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venience, Judgment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nowball, Quo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ampling</a:t>
            </a:r>
            <a:r>
              <a:rPr b="1" i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2. </a:t>
            </a:r>
            <a:r>
              <a:rPr b="1" i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Probability sampling: 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Probability sampling is also known as ‘random sampling’ or ‘chance 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veryo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population h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opportunity/chance for sel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tabLst>
                <a:tab algn="l" pos="0"/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very element (member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ach uni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the population has a known probability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ing selected for th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ncreases sample's representativene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the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technique is used when it is desirabl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generalize or infer to a larger popu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i="1" lang="en-US" sz="18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Wingdings" charset="2"/>
              <a:buChar char="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0:14:22Z</dcterms:created>
  <dc:creator>USER</dc:creator>
  <dc:description/>
  <dc:language>en-US</dc:language>
  <cp:lastModifiedBy>user</cp:lastModifiedBy>
  <dcterms:modified xsi:type="dcterms:W3CDTF">2020-03-05T08:48:09Z</dcterms:modified>
  <cp:revision>530</cp:revision>
  <dc:subject/>
  <dc:title>Topics to be covered</dc:title>
</cp:coreProperties>
</file>