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DCA2-4DD2-492A-8D35-3CB9794E2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02B8-A009-453C-82C2-8FFBA8841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99D9-F0F7-4AA3-A64D-0D2ACEBFE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A1EA-B128-49F1-B05E-D4B5D9D20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3EFE6-0F28-4645-AFC6-791562A6F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8922-1BF6-4A29-9ECE-2AD14EE0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BA851-00A0-4CC6-8904-256AA69A7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F9407-D35F-4AE0-9EE8-8DE7E91AC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BA576-A6EB-41FA-B54B-F7814F465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C0399-000A-4347-91FF-D5BBEBBC1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6E2AE-4429-49DF-AD71-481848502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3C5C5-7FA2-4B08-8F89-E89A6555E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CB7C6-69D8-4182-8160-F3B10CF86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993CE-5A1B-4E15-8234-EAC3C2D86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1D08D-32D2-4277-BE00-10B317763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5BD6A-E051-45F5-AB0C-EF42E5BE6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05D01-C1C3-497C-944B-DF147BCE9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86037-E892-4E91-9D9D-D6724DAAA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9670D-0FBA-4F0B-B62A-E6D272D6D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51D68-1766-4620-99E1-170C77604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4088E-0C2A-4054-B559-A89074BEB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E3EF0-03B1-4B29-8FCB-F8D98D1C3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76CA5-05BE-4B7C-AB21-050FD31DE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2A6AE-8126-4966-88A0-E9DA23016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B82EE-1570-4084-ABBA-D03EFDBD1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3C722-4683-4248-8F04-D54F1DEA3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51844-3BE8-4F00-9F21-AC1C851A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9FF81-7A55-48EC-B4AB-914385719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80A24-AEE3-495D-992F-413EFB0D3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BAFB4-2044-4094-8CDF-F308CD233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19EEA-F6EE-4CF7-B9CA-3282314D5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AF127-EE8E-42B5-BA76-3ED23EA6A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2D255-935D-44F7-BC82-C3C739B327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50954C-A3DC-4E4F-B0EE-83566376E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53DBEF-F1CB-4199-A35A-2971A7233E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A7D3E-B7C8-4CA6-8234-790B8FAF8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ADE04-59AE-4D67-AD09-1BC443775B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005F-68D9-4C64-9C71-FC1F978E6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0BD26-FF7E-4521-8A65-BFC30934E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72448-6173-4586-9ED5-29F3752E4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834798-197B-434E-8223-F9336FBF6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F22A3-BD54-4934-9927-47C6D101D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9A144-A2A4-4941-BF83-8CE53C224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5F7EC-09C0-41E7-A0EB-811BBFDFC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8B8F0-E612-4F07-882F-A80D92312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169D3-CDE8-4C8F-8814-2F7027237E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1561D-D9DB-4574-BAE6-84CB303A99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BA1F24-4E04-44AA-8460-AD0ABAAAF4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85FF-9382-4A23-ADA1-BFBC9EAD7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7CD2F-DA42-4313-860D-C4B93950B6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3BB76-D4FB-46CF-A853-A83E46E51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05F5D1-878F-46A5-B6E0-059E1F453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1A1D9-9D13-4D1D-BB94-D37162CDC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C17B5-4E82-4AFB-846B-A72A2F28E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8745E-1F2A-4469-81A1-F250D9F3A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893F8-4B22-4D4C-BA60-998790AF8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AAA43-0FA4-44B9-A492-C78942229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166C61-3550-4E92-A163-78A13F603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0BE6DF-0FAC-4BC3-B937-6F3DA5F382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0340-9533-485D-9E58-9F96DE437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C1AA92-8A8D-473D-829C-EBE2727C72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7C6E-176F-4A3B-8229-D354841D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CDB2-5269-45F4-B206-6E4B8396E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6C03-FFE1-45FB-841E-9AEDCE98B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09CC-5B97-4343-80C3-03BDE342A54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6A02-8A2B-465F-93A4-C7F9A5BD6A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DD3E-35F1-4C05-9995-4E471512F48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81E7-7D01-4CE2-B845-231EA54389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6F14-8DD5-489C-8A97-E7486299FE8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0FB5-E443-4AF6-8857-51EADFFF273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E4D3-285B-4F25-9F60-63AF2A6E8992}"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F0B9-8B4D-485E-91BD-D4DBC327F8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58C5-4EE1-4D14-BCC1-62997240FAF1}"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39E8-0013-4EF2-BC26-ED41B34DE50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98F3-0709-4376-8207-DF98AA91F6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FBD1-7B18-4F1D-A5D0-EA943D9962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8F1D-6847-4D34-96C2-F70E6B1D7A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C58F-7545-4757-AFA4-971F712F17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3E7F-7C8A-48E4-AA24-47625CF7BF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A3A3-A69A-4546-AC57-441229DF2C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3963-BBC7-4E1C-A5AC-D4FE8C099B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4B0A-70CA-481A-A1D7-B591EA805D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2D51-3570-44E8-B2E1-956504B8BA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76EF-2788-4986-A176-AD7A083EB1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B26B-A140-4D9C-916E-B02027415D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FCC6-4DEC-4DF0-8114-C745E7FC04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58E7-A369-4651-A01A-93524C7757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5924-B120-4007-B86C-5FB812FCD2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2E23-5EC2-4202-8F1B-BDA8A1CDC3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132C-BA5F-4871-9B57-EC3279BB54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0596-B171-4A4C-A0CD-5139176824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79B7-CE65-4B03-9AA8-21F8F89519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8156-76A5-4763-985A-3B54BE2F95F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9419-BB80-446A-B46D-B0ABD3611A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19-12-10T12:07:16Z</dcterms:modified>
  <cp:revision>867</cp:revision>
  <dc:subject/>
  <dc:title>Topics to be covered</dc:title>
</cp:coreProperties>
</file>