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3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  <p:sldId id="293" r:id="rId45"/>
    <p:sldId id="294" r:id="rId46"/>
    <p:sldId id="295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slide" Target="slides/slide38.xml"/><Relationship Id="rId46" Type="http://schemas.openxmlformats.org/officeDocument/2006/relationships/slide" Target="slides/slide39.xml"/><Relationship Id="rId47" Type="http://schemas.openxmlformats.org/officeDocument/2006/relationships/slide" Target="slides/slide40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move the slid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ACDEE-BB29-4E5F-9D64-7A7ED2ED48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029FF-8843-44D3-BC1A-FE96A34CDE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309B4-E582-4889-AE9B-207B0F92EC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15955-7445-42CC-99C3-9BAEADB6E5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887C-9A28-4F72-858D-97A53740A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18C8-30F0-4E3B-B7FE-72A481863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7FDB-89EE-4191-8930-5818A358D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8414-8672-4C0B-BD1C-CBA48FB43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FF290-13CF-4F4B-A09F-2707514FF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785CD-8B1C-40B9-B044-6C012CE73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358F6-D820-461B-96EE-2D5DE5FF0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F5C49-8E82-4207-85C8-D03962EAB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9EBB9-907A-4A35-A500-9441C348B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53DAF-8047-446F-9BFF-E4AD461D0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E950A-8C14-4652-8D4E-7662F929B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0F16-2F9D-4B79-890F-3C96F0D48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0940F-F63D-4A5C-BA71-8FF9D94EB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DB793-8909-4549-8F61-C11E195CB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140B6-AF1D-47B4-8151-BDEB33E04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07BDE-81F0-4A47-BA5F-54C8F5F82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6D2B8-E836-4861-8AB4-1EFEEC26A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2A3935-6E72-4473-80E0-23AD0B2AE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943C3D-3E63-49A9-8008-71A87B01C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BABF84-82BA-44CE-B9D3-09F290A19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83F6AF-ADBF-4B58-BAD6-9C01B8622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AD50F1-0298-4F1B-8051-52AE32041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AE2F-49BB-434D-BF4E-E58FABDE8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E55D8D-0EDC-427B-8F48-774084CBF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0BF8E4-9725-4D97-96C7-8571B1343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3A4BF2-FF52-439B-9807-F76733DDE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400F32-54F7-4474-825B-BD0A1B674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3C1B58-0080-445A-B7AF-979D69031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D58629-C997-4A01-A0D3-A23C605EB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316963-F90B-4BC9-BBFC-3603F51C9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662914-4017-4807-B418-E4C97E330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607898-BB44-4A87-A438-C9E4B631B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010A7B-EEB1-463D-B170-0EC6D3BDB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A117-8796-4327-96A1-65F054154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036111-F950-4B6A-9F14-9D65ED74D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D97F0E-E074-4F06-B323-FE56369C3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B8E552-36C6-430B-9316-006D37AE8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08CCE9-9D9A-4E5E-ABC8-62E8B7267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660A06-582E-4A67-A076-752EFA997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5F5183-814D-4E5E-B4BA-5BE6CFE06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D6520D-0DC1-4244-96A8-068E04045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58940C-D4E3-474C-B05A-D6C99BAF8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362173-4CD5-4BFC-A3D2-6E5190D7A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F81CCF-5EF5-4CA7-A08F-C54DA9F0E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BDA4-C6DC-46B4-9D73-29F111655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6C1B9B-25CA-41C4-9912-558822084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D41DC7-401A-41E9-9D82-8E3710766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8F4CCD-212C-4AEE-AE7A-409511FC5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7077C4-EA8A-445F-9303-F8F02A6BD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97F318-C276-43E3-8981-C455EA1C6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303ED1-E30F-4076-A73E-7B44A9866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0A88B7-1DBB-44B1-BCF9-82D62FDDE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65E6DE-432D-48DB-B8DF-2936E6F84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DE6BC1-D18B-46E3-99F5-7752343EF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AE785E-CC61-4DB0-A867-DC0C18E9B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FC39-E09F-4832-ADAE-8A64CFC26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A68249-FD70-4BCC-8657-48269D998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DCA4-C82B-44BD-B466-6A3F3B3D8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E37A-9AE7-4D2E-B850-A2FDCBBCA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FE0A-1068-49D9-B37A-A3837BB09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403C6-D2C9-438D-86DF-3A0330E57B97}" type="datetime">
              <a:rPr b="0" lang="en-US" sz="1400" spc="-1" strike="noStrike">
                <a:solidFill>
                  <a:srgbClr val="696464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80AF6-3095-4C83-AF73-CA4D25E303D2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38628-C14B-4968-AD46-FE6E6E6F3131}" type="datetime">
              <a:rPr b="0" lang="en-US" sz="1400" spc="-1" strike="noStrike">
                <a:solidFill>
                  <a:srgbClr val="696464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1F84F-8EC2-4EC3-9D4B-D300A277F3EB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D7A3B-45B8-4D06-A559-D08BA608A0F8}" type="datetime">
              <a:rPr b="0" lang="en-US" sz="1400" spc="-1" strike="noStrike">
                <a:solidFill>
                  <a:srgbClr val="696464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5132D-C71E-4DD8-BCBE-5CF741289676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88BC1-6557-4826-B7CE-AFD4E6B75FC8}" type="datetime">
              <a:rPr b="0" lang="en-US" sz="1400" spc="-1" strike="noStrike">
                <a:solidFill>
                  <a:srgbClr val="696464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96DC0-D3BC-405A-925C-514FCA11545F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BEE56-3E22-4270-9B1E-334073FFAB91}" type="datetime">
              <a:rPr b="0" lang="en-US" sz="1400" spc="-1" strike="noStrike">
                <a:solidFill>
                  <a:srgbClr val="696464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15853-BAFD-4864-9B70-ADFA361B7609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Slide Number Placeholder 1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8091C-FA14-4D3D-BBF8-1625644E6856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2"/>
          <p:cNvSpPr/>
          <p:nvPr/>
        </p:nvSpPr>
        <p:spPr>
          <a:xfrm>
            <a:off x="380880" y="228600"/>
            <a:ext cx="8458200" cy="634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  <a:ea typeface="Times New Roman"/>
              </a:rPr>
              <a:t>Introduction  To Biome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ition of some statistical terms and conce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1. Definition of Statistics and Biome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317600" indent="-1317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b2d1f"/>
                </a:solidFill>
                <a:latin typeface="Arial"/>
                <a:ea typeface="Arial"/>
              </a:rPr>
              <a:t>Statistic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cience or a procedur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f  collecting, organizing, analyzing and drawing conclusion of numerical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17600" indent="-1317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317600" indent="-1317600"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it is the prerequisit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Knowledge </a:t>
            </a:r>
            <a:r>
              <a:rPr b="1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for Biomet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17600" indent="-1317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17600" indent="-1317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Two types of statistic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9e36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9e3611"/>
                </a:solidFill>
                <a:latin typeface="Arial"/>
              </a:rPr>
              <a:t>Descriptive statistics:-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Arial"/>
              </a:rPr>
              <a:t>is the statistics that is used in measuring, collecting, organizing, summarizing and description of mass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-22536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s a statistical method which is concerned with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cribing a set of data but which do not involve generaliza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r drawing conclusions.</a:t>
            </a:r>
            <a:r>
              <a:rPr b="1" lang="en-IN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-225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-22536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000" spc="-1" strike="noStrike">
                <a:solidFill>
                  <a:srgbClr val="000000"/>
                </a:solidFill>
                <a:latin typeface="Arial"/>
                <a:ea typeface="Arial"/>
              </a:rPr>
              <a:t>These are measures of central tendency such as mean, median, mode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Slide Number Placeholder 1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AE51D-2D49-4A64-A105-C37832BAFC61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3"/>
          <p:cNvSpPr/>
          <p:nvPr/>
        </p:nvSpPr>
        <p:spPr>
          <a:xfrm>
            <a:off x="609480" y="460800"/>
            <a:ext cx="769644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cc"/>
              </a:buClr>
              <a:buFont typeface="Wingdings" charset="2"/>
              <a:buChar char=""/>
              <a:tabLst>
                <a:tab algn="l" pos="457200"/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cc"/>
                </a:solidFill>
                <a:latin typeface="Arial"/>
                <a:ea typeface="Times New Roman"/>
              </a:rPr>
              <a:t> </a:t>
            </a:r>
            <a:r>
              <a:rPr b="1" i="1" lang="en-US" sz="2200" spc="-1" strike="noStrike">
                <a:solidFill>
                  <a:srgbClr val="0000cc"/>
                </a:solidFill>
                <a:latin typeface="Arial"/>
                <a:ea typeface="Times New Roman"/>
              </a:rPr>
              <a:t>Methods used in probability sampling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cc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b050"/>
                </a:solidFill>
                <a:latin typeface="Arial"/>
              </a:rPr>
              <a:t>1. Simple random samp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3" descr=""/>
          <p:cNvPicPr/>
          <p:nvPr/>
        </p:nvPicPr>
        <p:blipFill>
          <a:blip r:embed="rId1"/>
          <a:srcRect l="0" t="25313" r="0" b="3445"/>
          <a:stretch/>
        </p:blipFill>
        <p:spPr>
          <a:xfrm>
            <a:off x="838080" y="1447920"/>
            <a:ext cx="7696440" cy="2936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7" name=""/>
          <p:cNvGraphicFramePr/>
          <p:nvPr/>
        </p:nvGraphicFramePr>
        <p:xfrm>
          <a:off x="838080" y="4495680"/>
          <a:ext cx="7925040" cy="1737000"/>
        </p:xfrm>
        <a:graphic>
          <a:graphicData uri="http://schemas.openxmlformats.org/drawingml/2006/table">
            <a:tbl>
              <a:tblPr/>
              <a:tblGrid>
                <a:gridCol w="2981520"/>
                <a:gridCol w="4943520"/>
              </a:tblGrid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55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b050"/>
                          </a:solidFill>
                          <a:latin typeface="Arial"/>
                          <a:ea typeface="Times New Roman"/>
                        </a:rPr>
                        <a:t>Advantag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55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asy to understan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55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asy to analyz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55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55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Disadvantag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55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quires a list of the populatio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55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t is very difficult to achieve (i.e. time, effort and money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55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y miss or under sample key subse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Slide Number Placeholder 1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F8509-955B-476D-BF5F-F98A33D281E2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4" descr=""/>
          <p:cNvPicPr/>
          <p:nvPr/>
        </p:nvPicPr>
        <p:blipFill>
          <a:blip r:embed="rId1"/>
          <a:srcRect l="0" t="22443" r="7812" b="1941"/>
          <a:stretch/>
        </p:blipFill>
        <p:spPr>
          <a:xfrm>
            <a:off x="685800" y="1066680"/>
            <a:ext cx="7620120" cy="2971800"/>
          </a:xfrm>
          <a:prstGeom prst="rect">
            <a:avLst/>
          </a:prstGeom>
          <a:ln w="0">
            <a:noFill/>
          </a:ln>
        </p:spPr>
      </p:pic>
      <p:sp>
        <p:nvSpPr>
          <p:cNvPr id="260" name="Rectangle 3"/>
          <p:cNvSpPr/>
          <p:nvPr/>
        </p:nvSpPr>
        <p:spPr>
          <a:xfrm>
            <a:off x="609480" y="45720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b050"/>
                </a:solidFill>
                <a:latin typeface="Arial"/>
              </a:rPr>
              <a:t>2. Systematic samp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5"/>
          <p:cNvSpPr/>
          <p:nvPr/>
        </p:nvSpPr>
        <p:spPr>
          <a:xfrm>
            <a:off x="685800" y="4050000"/>
            <a:ext cx="80773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4520" indent="-34452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element of randomness is usually introduced into this kind of sampling by using random numbers to pick up the unit with which to star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  <a:ea typeface="Times New Roman"/>
              </a:rPr>
              <a:t>Advant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4618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asy to select the samp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4618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ight b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ore representativ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an S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4618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Under “most” conditions it can be analyzed as S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4618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Useful when elements can’t be listed prior to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461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c00000"/>
                </a:solidFill>
                <a:latin typeface="Arial"/>
                <a:ea typeface="Times New Roman"/>
              </a:rPr>
              <a:t>Disadvantag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4618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equires care with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ycles or periodic trend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 the sampling fra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Slide Number Placeholder 1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23D4C-345B-48B2-B57E-52938A2DC3D0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3"/>
          <p:cNvSpPr/>
          <p:nvPr/>
        </p:nvSpPr>
        <p:spPr>
          <a:xfrm>
            <a:off x="533520" y="394200"/>
            <a:ext cx="8076960" cy="29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b050"/>
                </a:solidFill>
                <a:latin typeface="Arial"/>
              </a:rPr>
              <a:t>3. Stratified Sampl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artition the populatio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to groups (strata), e.g., age, wealth status, sex, religion, education status, agro-ecology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btain a simple random sample from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ach group (stratu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llect data on each sampling unit that was randomly sampled from each group (stratum)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cc"/>
              </a:buClr>
              <a:buFont typeface="Wingdings" charset="2"/>
              <a:buChar char=""/>
              <a:tabLst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Times New Roman"/>
              </a:rPr>
              <a:t>This is useful when the study populations are </a:t>
            </a:r>
            <a:r>
              <a:rPr b="1" i="1" lang="en-US" sz="1800" spc="-1" strike="noStrike">
                <a:solidFill>
                  <a:srgbClr val="0000cc"/>
                </a:solidFill>
                <a:latin typeface="Arial"/>
                <a:ea typeface="Times New Roman"/>
              </a:rPr>
              <a:t>heterogeneous,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Times New Roman"/>
              </a:rPr>
              <a:t> and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  <a:ea typeface="Times New Roman"/>
              </a:rPr>
              <a:t>if comparisons will be made of the results in subgroups of the study popul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5" descr=""/>
          <p:cNvPicPr/>
          <p:nvPr/>
        </p:nvPicPr>
        <p:blipFill>
          <a:blip r:embed="rId1"/>
          <a:srcRect l="4398" t="9686" r="2329" b="0"/>
          <a:stretch/>
        </p:blipFill>
        <p:spPr>
          <a:xfrm>
            <a:off x="1219320" y="3657600"/>
            <a:ext cx="6476760" cy="25909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Slide Number Placeholder 1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B939D-E741-43A9-9510-D235B9059D0C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1"/>
          <p:cNvSpPr/>
          <p:nvPr/>
        </p:nvSpPr>
        <p:spPr>
          <a:xfrm>
            <a:off x="457200" y="842760"/>
            <a:ext cx="8305920" cy="42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>
              <a:tabLst>
                <a:tab algn="l" pos="0"/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b050"/>
                </a:solidFill>
                <a:latin typeface="Arial"/>
              </a:rPr>
              <a:t>Principles of sampling from a stratified popul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qual allocation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opulation from each subgroup are \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pproximately eq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2.  Proportionate alloca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 self-weigh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Used when the subgroups vary dramatically in size of study pop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dvantages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an improv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eliability and precision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stimates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eliminates variability across stra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isadvantages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ight need sampling weigh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Slide Number Placeholder 1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2605A-2F0A-4C54-B28B-A8835B7C1D60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1"/>
          <p:cNvSpPr/>
          <p:nvPr/>
        </p:nvSpPr>
        <p:spPr>
          <a:xfrm>
            <a:off x="914400" y="305280"/>
            <a:ext cx="396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b050"/>
                </a:solidFill>
                <a:latin typeface="Arial"/>
              </a:rPr>
              <a:t>4. Cluster/Area Samp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6" descr=""/>
          <p:cNvPicPr/>
          <p:nvPr/>
        </p:nvPicPr>
        <p:blipFill>
          <a:blip r:embed="rId1"/>
          <a:srcRect l="0" t="12504" r="3407" b="0"/>
          <a:stretch/>
        </p:blipFill>
        <p:spPr>
          <a:xfrm>
            <a:off x="1066680" y="685800"/>
            <a:ext cx="7010640" cy="2666880"/>
          </a:xfrm>
          <a:prstGeom prst="rect">
            <a:avLst/>
          </a:prstGeom>
          <a:ln w="0">
            <a:noFill/>
          </a:ln>
        </p:spPr>
      </p:pic>
      <p:sp>
        <p:nvSpPr>
          <p:cNvPr id="270" name="Rectangle 4"/>
          <p:cNvSpPr/>
          <p:nvPr/>
        </p:nvSpPr>
        <p:spPr>
          <a:xfrm>
            <a:off x="914400" y="3289680"/>
            <a:ext cx="7696080" cy="26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b050"/>
                </a:solidFill>
                <a:latin typeface="Arial"/>
              </a:rPr>
              <a:t>Advant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otentially more economical than other method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Usually logistically simpl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b050"/>
                </a:solidFill>
                <a:latin typeface="Arial"/>
              </a:rPr>
              <a:t>Disadvantag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Units within clusters may b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ess variabl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an the population, thu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luster sampling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ess precise than a simple rando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ample of the same popul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Slide Number Placeholder 1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AB337-B110-4E41-97F8-81E785C0159A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1"/>
          <p:cNvSpPr/>
          <p:nvPr/>
        </p:nvSpPr>
        <p:spPr>
          <a:xfrm>
            <a:off x="609480" y="313200"/>
            <a:ext cx="8077320" cy="179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marL="344520" indent="-344520" algn="just">
              <a:tabLst>
                <a:tab algn="l" pos="0"/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b050"/>
                </a:solidFill>
                <a:latin typeface="Arial"/>
              </a:rPr>
              <a:t>5. Multi-stage sampling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urther development of the idea of cluster sampling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 algn="just">
              <a:buClr>
                <a:srgbClr val="000000"/>
              </a:buClr>
              <a:buFont typeface="Wingdings" charset="2"/>
              <a:buChar char=""/>
              <a:tabLst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technique is meant for big inquiries extending to a considerably large geographical area like an entire countr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 algn="just">
              <a:buClr>
                <a:srgbClr val="00b050"/>
              </a:buClr>
              <a:buFont typeface="Wingdings" charset="2"/>
              <a:buChar char=""/>
              <a:tabLst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Arial"/>
              </a:rPr>
              <a:t>If the technique of random-sampling is applied at all stages, the sampling procedure is described as multi-stage random sampli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2"/>
          <p:cNvSpPr/>
          <p:nvPr/>
        </p:nvSpPr>
        <p:spPr>
          <a:xfrm>
            <a:off x="533520" y="2153880"/>
            <a:ext cx="8153280" cy="451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66680" indent="-166680"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er multi-stage sampling the first stage may be to select large primary sampling units such as states, then districts, then towns and finally certain families within towns (or Region ---zones -----districts-----kebeles----households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b050"/>
                </a:solidFill>
                <a:latin typeface="Arial"/>
              </a:rPr>
              <a:t>Exampl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et’s say you wanted to find ou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which subject is preferred by Amhara region school childr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 population list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— 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ist of all Amhara region schoolchildre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– would be near-impossible to come by, so you canno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ake a sample of the popul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stead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ivide the population into zon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 tak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 simple random sampl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zon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or the next stage, take 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andom sample of school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rom withi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ose zon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inally you could perform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imple random sampling on the student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within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choo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to get the final samp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Slide Number Placeholder 1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23CB6-6275-4AF5-B8F3-E3FB03DB323C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2"/>
          <p:cNvSpPr/>
          <p:nvPr/>
        </p:nvSpPr>
        <p:spPr>
          <a:xfrm>
            <a:off x="380880" y="304920"/>
            <a:ext cx="8229600" cy="46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e3611"/>
                </a:solidFill>
                <a:latin typeface="Arial"/>
                <a:ea typeface="Times New Roman"/>
              </a:rPr>
              <a:t>1.4. Definition of </a:t>
            </a:r>
            <a:r>
              <a:rPr b="1" lang="en-US" sz="2200" spc="-1" strike="noStrike">
                <a:solidFill>
                  <a:srgbClr val="9e3611"/>
                </a:solidFill>
                <a:latin typeface="Arial"/>
              </a:rPr>
              <a:t>Variables and Da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9e361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e3611"/>
                </a:solidFill>
                <a:latin typeface="Arial"/>
                <a:ea typeface="Times New Roman"/>
              </a:rPr>
              <a:t>Variabl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iables are a set of observations on 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ticular character. 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iables are characteristics of populatio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under investigation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ch </a:t>
            </a:r>
            <a:r>
              <a:rPr b="1" lang="en-US" sz="2000" spc="-1" strike="noStrike">
                <a:solidFill>
                  <a:srgbClr val="00b050"/>
                </a:solidFill>
                <a:latin typeface="Arial"/>
              </a:rPr>
              <a:t>show variability (that are continuously changing among individuals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alibri"/>
              </a:rPr>
              <a:t>It is any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Calibri"/>
              </a:rPr>
              <a:t>factor or character 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  <a:ea typeface="Calibri"/>
              </a:rPr>
              <a:t>whose valu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alibri"/>
              </a:rPr>
              <a:t>can change from individual to individual or from time to ti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50"/>
                </a:solidFill>
                <a:latin typeface="Arial"/>
              </a:rPr>
              <a:t>Example of variab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ody weight, feed intake, daily milk yield, sex, eye color, etc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Slide Number Placeholder 1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19761-B239-468D-877A-0C08B71AD788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3"/>
          <p:cNvSpPr/>
          <p:nvPr/>
        </p:nvSpPr>
        <p:spPr>
          <a:xfrm>
            <a:off x="457200" y="181440"/>
            <a:ext cx="8229600" cy="64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Calibri"/>
              </a:rPr>
              <a:t>Types of Vari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9b2d1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b2d1f"/>
                </a:solidFill>
                <a:latin typeface="Arial"/>
              </a:rPr>
              <a:t>Variabl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assified a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antitative (numeric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alitative (categorical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antitative variables: variables having values expressed as numbers and the d/f b/n values </a:t>
            </a:r>
            <a:r>
              <a:rPr b="1" lang="en-US" sz="2000" spc="-1" strike="noStrike">
                <a:solidFill>
                  <a:srgbClr val="00b050"/>
                </a:solidFill>
                <a:latin typeface="Arial"/>
              </a:rPr>
              <a:t>have numerical meaning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b2d1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b2d1f"/>
                </a:solidFill>
                <a:latin typeface="Arial"/>
              </a:rPr>
              <a:t>A quantitative variable can be </a:t>
            </a:r>
            <a:r>
              <a:rPr b="1" lang="en-US" sz="2200" spc="-1" strike="noStrike" u="sng">
                <a:solidFill>
                  <a:srgbClr val="0070c0"/>
                </a:solidFill>
                <a:uFillTx/>
                <a:latin typeface="Arial"/>
              </a:rPr>
              <a:t>continuous</a:t>
            </a:r>
            <a:r>
              <a:rPr b="1" lang="en-US" sz="2200" spc="-1" strike="noStrike">
                <a:solidFill>
                  <a:srgbClr val="0070c0"/>
                </a:solidFill>
                <a:latin typeface="Arial"/>
              </a:rPr>
              <a:t> or </a:t>
            </a:r>
            <a:r>
              <a:rPr b="1" lang="en-US" sz="2200" spc="-1" strike="noStrike" u="sng">
                <a:solidFill>
                  <a:srgbClr val="0070c0"/>
                </a:solidFill>
                <a:uFillTx/>
                <a:latin typeface="Arial"/>
              </a:rPr>
              <a:t>discrete</a:t>
            </a:r>
            <a:r>
              <a:rPr b="1" lang="en-US" sz="2200" spc="-1" strike="noStrike">
                <a:solidFill>
                  <a:srgbClr val="9b2d1f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e3611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e3611"/>
                </a:solidFill>
                <a:latin typeface="Arial"/>
              </a:rPr>
              <a:t>Continuous variables:</a:t>
            </a:r>
            <a:r>
              <a:rPr b="0" lang="en-US" sz="2000" spc="-1" strike="noStrike">
                <a:solidFill>
                  <a:srgbClr val="9e3611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ue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termined using some kind of measuring scale, that ar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ues having continuous no. over a given interva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Length, weight, volume, area, density, time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e3611"/>
                </a:solidFill>
                <a:latin typeface="Arial"/>
              </a:rPr>
              <a:t>b. Discrete variables: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riables having countable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lues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tural numbers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determined by count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Family size, litter size, microbial count, egg production, tiller count,  no. of students in a class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Slide Number Placeholder 1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73162-159E-4DE7-8A20-CDCA1D6603D3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2"/>
          <p:cNvSpPr/>
          <p:nvPr/>
        </p:nvSpPr>
        <p:spPr>
          <a:xfrm>
            <a:off x="457200" y="228600"/>
            <a:ext cx="8229600" cy="61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3680" indent="-463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b2d1f"/>
                </a:solidFill>
                <a:latin typeface="Arial"/>
              </a:rPr>
              <a:t>2. Qualitative (categorical) variables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iables having values expresse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categori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b050"/>
                </a:solidFill>
                <a:latin typeface="Arial"/>
              </a:rPr>
              <a:t>can’t be measured in quantitative for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rather described by the </a:t>
            </a:r>
            <a:r>
              <a:rPr b="1" lang="en-US" sz="1800" spc="-1" strike="noStrike" u="sng">
                <a:solidFill>
                  <a:srgbClr val="00b050"/>
                </a:solidFill>
                <a:uFillTx/>
                <a:latin typeface="Arial"/>
              </a:rPr>
              <a:t>qualities they possess</a:t>
            </a:r>
            <a:r>
              <a:rPr b="1" lang="en-US" sz="1800" spc="-1" strike="noStrike">
                <a:solidFill>
                  <a:srgbClr val="00b05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9b2d1f"/>
                </a:solidFill>
                <a:latin typeface="Arial"/>
              </a:rPr>
              <a:t>A qualitative variable can be </a:t>
            </a:r>
            <a:r>
              <a:rPr b="1" lang="en-US" sz="2200" spc="-1" strike="noStrike">
                <a:solidFill>
                  <a:srgbClr val="0070c0"/>
                </a:solidFill>
                <a:latin typeface="Arial"/>
              </a:rPr>
              <a:t>an ordinal or nomin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>
              <a:buClr>
                <a:srgbClr val="9b2d1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b2d1f"/>
                </a:solidFill>
                <a:latin typeface="Arial"/>
              </a:rPr>
              <a:t>Ordinal variables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litativ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variables having categories that can be rank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and are expresse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y their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relative differenc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 status of students (excellent, very good, good); weight level of objects (small, medium, large); age level (baby, young, old, very old)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b2d1f"/>
                </a:solidFill>
                <a:latin typeface="Arial"/>
              </a:rPr>
              <a:t>b. Nominal variables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litative variables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having categories that cannot be rank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i.e., no category is more valuable than anothe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 sex, color, occupation, religion, identification number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can assign numbers </a:t>
            </a:r>
            <a:r>
              <a:rPr b="1" lang="en-US" sz="1800" spc="-1" strike="noStrike">
                <a:solidFill>
                  <a:srgbClr val="9e3611"/>
                </a:solidFill>
                <a:latin typeface="Arial"/>
              </a:rPr>
              <a:t>(scores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ordinal categories; however, the differences among </a:t>
            </a:r>
            <a:r>
              <a:rPr b="1" lang="en-US" sz="1800" spc="-1" strike="noStrike">
                <a:solidFill>
                  <a:srgbClr val="9e3611"/>
                </a:solidFill>
                <a:latin typeface="Arial"/>
              </a:rPr>
              <a:t>those numbe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not have numerical meaning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a rule </a:t>
            </a:r>
            <a:r>
              <a:rPr b="1" lang="en-US" sz="1800" spc="-1" strike="noStrike">
                <a:solidFill>
                  <a:srgbClr val="9e3611"/>
                </a:solidFill>
                <a:latin typeface="Arial"/>
              </a:rPr>
              <a:t>those scores depict categori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but not a numerical sca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us qualitative variables are coded when data is entered in to a computer for the purpose of data analysi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Slide Number Placeholder 1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1BD49-036B-4B87-8D15-C206C1ABB8F8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1"/>
          <p:cNvSpPr/>
          <p:nvPr/>
        </p:nvSpPr>
        <p:spPr>
          <a:xfrm>
            <a:off x="228600" y="393480"/>
            <a:ext cx="8686800" cy="65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1" lang="en-US" sz="2200" spc="-1" strike="noStrike">
                <a:solidFill>
                  <a:srgbClr val="9e3611"/>
                </a:solidFill>
                <a:latin typeface="Arial"/>
                <a:ea typeface="Times New Roman"/>
              </a:rPr>
              <a:t>What are data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03200" indent="-2365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 are  raw materials for stat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in statistics means numerical results of any scientific measurement,</a:t>
            </a:r>
            <a:r>
              <a:rPr b="1" lang="en-US" sz="1800" spc="-1" strike="noStrike">
                <a:solidFill>
                  <a:srgbClr val="00b050"/>
                </a:solidFill>
                <a:latin typeface="Arial"/>
              </a:rPr>
              <a:t> counts or observations. 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ar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gur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o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gi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at convey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numerical informa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out the study variables in a given sampl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ch valu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data set is </a:t>
            </a:r>
            <a:r>
              <a:rPr b="1" i="1" lang="en-US" sz="2000" spc="-1" strike="noStrike">
                <a:solidFill>
                  <a:srgbClr val="9e3611"/>
                </a:solidFill>
                <a:latin typeface="Arial"/>
              </a:rPr>
              <a:t>data value or datu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a can be obtained fro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62120" indent="-2905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285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outinely kep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cord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(like dairy farm records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62120" indent="-2905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285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ring Literatur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62120" indent="-2905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285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urveys (using observations, Questionnaires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62120" indent="-2905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285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unt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(e.g. counting diseased animals in a group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62120" indent="-2905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285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perimen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(e.g. effect of feed intake on body weight gai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62120" indent="-2905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285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of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62120" indent="-2905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285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 kg of calf we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62120" indent="-2905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285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 liters/day of milk y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62120" indent="-2905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285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le or female sex of anim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62120" indent="-2905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285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lue or green eye color, etc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62120" indent="-2905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285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b050"/>
              </a:buClr>
              <a:buFont typeface="Wingdings" charset="2"/>
              <a:buChar char="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b050"/>
                </a:solidFill>
                <a:latin typeface="Arial"/>
              </a:rPr>
              <a:t>Without data, statistical methods do not have mea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Slide Number Placeholder 1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AC7B9-5090-41DB-80F3-FF002828EE4B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2"/>
          <p:cNvSpPr/>
          <p:nvPr/>
        </p:nvSpPr>
        <p:spPr>
          <a:xfrm>
            <a:off x="504720" y="380880"/>
            <a:ext cx="8305920" cy="446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9e3611"/>
                </a:solidFill>
                <a:latin typeface="Arial"/>
              </a:rPr>
              <a:t>2. Differential statistics / Inferential statistics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: -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s a statistical methods used for drawing conclusions about a population based on the information obtained from sample drawn from the popula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000000"/>
                </a:solidFill>
                <a:latin typeface="Arial"/>
              </a:rPr>
              <a:t>It performs </a:t>
            </a:r>
            <a:r>
              <a:rPr b="1" lang="en-IN" sz="2200" spc="-1" strike="noStrike">
                <a:solidFill>
                  <a:srgbClr val="000000"/>
                </a:solidFill>
                <a:latin typeface="Arial"/>
              </a:rPr>
              <a:t>prediction, hypothesis testing, and making of generalization </a:t>
            </a:r>
            <a:r>
              <a:rPr b="0" lang="en-IN" sz="2200" spc="-1" strike="noStrike">
                <a:solidFill>
                  <a:srgbClr val="000000"/>
                </a:solidFill>
                <a:latin typeface="Arial"/>
              </a:rPr>
              <a:t>from sample to population, i.e. a conclusion reached on the basis of evidence and reason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400" spc="-1" strike="noStrike">
                <a:solidFill>
                  <a:srgbClr val="000000"/>
                </a:solidFill>
                <a:latin typeface="Arial"/>
              </a:rPr>
              <a:t>Examples of inferential statistics: </a:t>
            </a:r>
            <a:r>
              <a:rPr b="0" lang="en-IN" sz="2400" spc="-1" strike="noStrike">
                <a:solidFill>
                  <a:srgbClr val="000000"/>
                </a:solidFill>
                <a:latin typeface="Arial"/>
              </a:rPr>
              <a:t>measures of       dispersion like variances and standard dev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Slide Number Placeholder 1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C4FAC-852F-40FE-8FE3-6185CF6AFA3B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2"/>
          <p:cNvSpPr/>
          <p:nvPr/>
        </p:nvSpPr>
        <p:spPr>
          <a:xfrm>
            <a:off x="457200" y="228600"/>
            <a:ext cx="8305920" cy="65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00000"/>
                </a:solidFill>
                <a:latin typeface="Arial"/>
              </a:rPr>
              <a:t>Types of data based on their arrang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  Raw data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the data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written down as collected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from the fiel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site of experimental trial, i.e. data that have not been summarized and organized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 Ordered data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ata   arranged in ascending or descending order or th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ata organized and ready for analysi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00000"/>
                </a:solidFill>
                <a:latin typeface="Arial"/>
              </a:rPr>
              <a:t>Types of data based on their sourc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mary Data: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at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llected by the investigator her/himself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the purpose of specific inquiry or stud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ary data:-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ata used by an investigator/researcher which has already been collected b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people or organiz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 CSA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ow do we get primary data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Direct personal observ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the research area by the researcher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esults obtained from such data are very much reli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Indirect investiga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- Here the researcher prepares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estionnai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send to the researchable area to be collected by enumerators and then get back the information to the researche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Slide Number Placeholder 1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108CA-DAC9-4EEC-A891-96BC981773D2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2"/>
          <p:cNvSpPr/>
          <p:nvPr/>
        </p:nvSpPr>
        <p:spPr>
          <a:xfrm>
            <a:off x="533520" y="228600"/>
            <a:ext cx="8153280" cy="45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e3611"/>
                </a:solidFill>
                <a:latin typeface="Arial"/>
              </a:rPr>
              <a:t>Presentation of Summarized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Summarized data can be presented both in numerically and graphicall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e36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e3611"/>
                </a:solidFill>
                <a:latin typeface="Arial"/>
              </a:rPr>
              <a:t>Numerical presentati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measure of central tendency (location indicators): e.g. mean median, mo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frequency distributions (like frequencies and percentages) mainly for qualitative d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measures of dispersions (e.g. range, variance, standard deviations, CV, et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e3611"/>
                </a:solidFill>
                <a:latin typeface="Arial"/>
              </a:rPr>
              <a:t>2. Graphical presentation of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aphs like bar graph, line graph, pie charts, etc are some of the graphical devices for presentation of statistical dat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Slide Number Placeholder 1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463E8-7FB2-4AEE-B85D-AF930158A602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1"/>
          <p:cNvSpPr/>
          <p:nvPr/>
        </p:nvSpPr>
        <p:spPr>
          <a:xfrm>
            <a:off x="457200" y="454320"/>
            <a:ext cx="8305920" cy="60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e3611"/>
                </a:solidFill>
                <a:latin typeface="Arial"/>
                <a:ea typeface="Times New Roman"/>
              </a:rPr>
              <a:t>1.5. Measures of central tendency (location indicator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e3611"/>
                </a:solidFill>
                <a:latin typeface="Arial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sures of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entral tendenci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 valu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culated from the raw data used to describe or represent a given data se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se values show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cluster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re the values around the ce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ly used measures of central tendency a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166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arithmetic mean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166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edian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166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se three measures of central tendenci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tend to lie at the center of the data se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which is a property that gave the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cription measures of central tendenci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value to be considered as representative of a given dat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s to lie somewhere at the center an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flect the nature of the whole data s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Slide Number Placeholder 1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0F01A-7532-46FC-B039-488106B912EB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2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8153280" cy="2590560"/>
          </a:xfrm>
          <a:prstGeom prst="rect">
            <a:avLst/>
          </a:prstGeom>
          <a:ln w="0">
            <a:noFill/>
          </a:ln>
        </p:spPr>
      </p:pic>
      <p:sp>
        <p:nvSpPr>
          <p:cNvPr id="290" name="Rectangle 1"/>
          <p:cNvSpPr/>
          <p:nvPr/>
        </p:nvSpPr>
        <p:spPr>
          <a:xfrm>
            <a:off x="1295280" y="4038840"/>
            <a:ext cx="6553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Figure. Interpretation of mean, median and mo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Slide Number Placeholder 1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BB591-48DF-47AE-AF6E-E951D95FBD28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6"/>
          <p:cNvSpPr/>
          <p:nvPr/>
        </p:nvSpPr>
        <p:spPr>
          <a:xfrm>
            <a:off x="457200" y="316800"/>
            <a:ext cx="81532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rithmetic mean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ost widely use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representativ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measur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f central tendency and usually referred a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ean or aver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 But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ffected by outlier valu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 Cannot be calculated whe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data is miss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s the actual value of data in to accou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t is the sum of all values of the data divided by the number of data poi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raw data it is calculated a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8" descr=""/>
          <p:cNvPicPr/>
          <p:nvPr/>
        </p:nvPicPr>
        <p:blipFill>
          <a:blip r:embed="rId1"/>
          <a:stretch/>
        </p:blipFill>
        <p:spPr>
          <a:xfrm>
            <a:off x="2819520" y="0"/>
            <a:ext cx="304560" cy="6094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7" descr=""/>
          <p:cNvPicPr/>
          <p:nvPr/>
        </p:nvPicPr>
        <p:blipFill>
          <a:blip r:embed="rId2"/>
          <a:stretch/>
        </p:blipFill>
        <p:spPr>
          <a:xfrm>
            <a:off x="380880" y="3100320"/>
            <a:ext cx="1600200" cy="87336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10"/>
          <p:cNvSpPr/>
          <p:nvPr/>
        </p:nvSpPr>
        <p:spPr>
          <a:xfrm>
            <a:off x="4467240" y="101880"/>
            <a:ext cx="209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14"/>
          <p:cNvSpPr/>
          <p:nvPr/>
        </p:nvSpPr>
        <p:spPr>
          <a:xfrm>
            <a:off x="2061360" y="2971800"/>
            <a:ext cx="114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11" descr=""/>
          <p:cNvPicPr/>
          <p:nvPr/>
        </p:nvPicPr>
        <p:blipFill>
          <a:blip r:embed="rId3"/>
          <a:stretch/>
        </p:blipFill>
        <p:spPr>
          <a:xfrm>
            <a:off x="3276720" y="3124080"/>
            <a:ext cx="2020680" cy="366840"/>
          </a:xfrm>
          <a:prstGeom prst="rect">
            <a:avLst/>
          </a:prstGeom>
          <a:ln w="0">
            <a:noFill/>
          </a:ln>
        </p:spPr>
      </p:pic>
      <p:sp>
        <p:nvSpPr>
          <p:cNvPr id="298" name="Rectangle 10"/>
          <p:cNvSpPr/>
          <p:nvPr/>
        </p:nvSpPr>
        <p:spPr>
          <a:xfrm>
            <a:off x="2057400" y="3507120"/>
            <a:ext cx="556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∑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xi = the sum of the values starting from i = 1 up to i = n; n = sampl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12"/>
          <p:cNvSpPr/>
          <p:nvPr/>
        </p:nvSpPr>
        <p:spPr>
          <a:xfrm>
            <a:off x="457200" y="4115520"/>
            <a:ext cx="77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data collected from the population, the mean value (μ) is computed 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11" descr=""/>
          <p:cNvPicPr/>
          <p:nvPr/>
        </p:nvPicPr>
        <p:blipFill>
          <a:blip r:embed="rId4"/>
          <a:stretch/>
        </p:blipFill>
        <p:spPr>
          <a:xfrm>
            <a:off x="914400" y="4572000"/>
            <a:ext cx="914400" cy="514440"/>
          </a:xfrm>
          <a:prstGeom prst="rect">
            <a:avLst/>
          </a:prstGeom>
          <a:ln w="0">
            <a:noFill/>
          </a:ln>
        </p:spPr>
      </p:pic>
      <p:sp>
        <p:nvSpPr>
          <p:cNvPr id="301" name="Rectangle 13"/>
          <p:cNvSpPr/>
          <p:nvPr/>
        </p:nvSpPr>
        <p:spPr>
          <a:xfrm>
            <a:off x="2514600" y="464904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re N = the population 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14"/>
          <p:cNvSpPr/>
          <p:nvPr/>
        </p:nvSpPr>
        <p:spPr>
          <a:xfrm>
            <a:off x="457200" y="5031360"/>
            <a:ext cx="80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5360" indent="-22536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For grouped data, each values of xi should be weighed by its respective frequency and the above formula is modified as follow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15" descr=""/>
          <p:cNvPicPr/>
          <p:nvPr/>
        </p:nvPicPr>
        <p:blipFill>
          <a:blip r:embed="rId5"/>
          <a:stretch/>
        </p:blipFill>
        <p:spPr>
          <a:xfrm>
            <a:off x="762120" y="5715000"/>
            <a:ext cx="2895480" cy="76212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16" descr=""/>
          <p:cNvPicPr/>
          <p:nvPr/>
        </p:nvPicPr>
        <p:blipFill>
          <a:blip r:embed="rId6"/>
          <a:stretch/>
        </p:blipFill>
        <p:spPr>
          <a:xfrm>
            <a:off x="4267080" y="5638680"/>
            <a:ext cx="3962520" cy="9144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Slide Number Placeholder 1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1971B-EFFD-4A8C-B69A-9E0CC8EEAE8C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"/>
          <p:cNvSpPr/>
          <p:nvPr/>
        </p:nvSpPr>
        <p:spPr>
          <a:xfrm>
            <a:off x="457200" y="155880"/>
            <a:ext cx="8305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b050"/>
                </a:solidFill>
                <a:uFillTx/>
                <a:latin typeface="Arial"/>
                <a:ea typeface="Times New Roman"/>
              </a:rPr>
              <a:t>Exerc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50"/>
                </a:solidFill>
                <a:latin typeface="Arial"/>
                <a:ea typeface="Times New Roman"/>
              </a:rPr>
              <a:t>Compute the arithmetic mean for ungrouped and grouped data shown by Tables 2.1 and 2.2, respectively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762120" y="1295280"/>
          <a:ext cx="6933960" cy="4907160"/>
        </p:xfrm>
        <a:graphic>
          <a:graphicData uri="http://schemas.openxmlformats.org/drawingml/2006/table">
            <a:tbl>
              <a:tblPr/>
              <a:tblGrid>
                <a:gridCol w="2627280"/>
                <a:gridCol w="4306680"/>
              </a:tblGrid>
              <a:tr h="701640">
                <a:tc gridSpan="2">
                  <a:txBody>
                    <a:bodyPr lIns="68760" rIns="68760" tIns="0" bIns="0" anchor="t">
                      <a:noAutofit/>
                    </a:bodyPr>
                    <a:p>
                      <a:pPr marL="495360" indent="-4953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able 2.1.  Percent Butterfat content of milk of 11 randomly selected cows from DMU dairy far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d of c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 butterfat of mil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Slide Number Placeholder 1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F85CB-1C10-444C-9D5A-E1E81ECDA124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9" name=""/>
          <p:cNvGraphicFramePr/>
          <p:nvPr/>
        </p:nvGraphicFramePr>
        <p:xfrm>
          <a:off x="1371600" y="762120"/>
          <a:ext cx="6248520" cy="3182760"/>
        </p:xfrm>
        <a:graphic>
          <a:graphicData uri="http://schemas.openxmlformats.org/drawingml/2006/table">
            <a:tbl>
              <a:tblPr/>
              <a:tblGrid>
                <a:gridCol w="2846520"/>
                <a:gridCol w="3402000"/>
              </a:tblGrid>
              <a:tr h="70164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able 2.2. Frequency distribution of dogs that had different litter 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25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tter siz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requency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Slide Number Placeholder 1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EE6D8-2EF2-4CDB-9026-CDE739BD041F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1"/>
          <p:cNvSpPr/>
          <p:nvPr/>
        </p:nvSpPr>
        <p:spPr>
          <a:xfrm>
            <a:off x="533520" y="329400"/>
            <a:ext cx="8076960" cy="54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 med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a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defined a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middle value in an ordered data se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 i.e., it is a value that divides the data into two halv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raw dat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edian value can be determined first by arranging the data into ascending (or descending) ord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edian value is computed 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M = (n+1)/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if the data set is odd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M =[ (n/2)+ (n/2)+1]/2  if the data set is even, where M= median and n=the number of observ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example, if the sample data contains 10 observations, (n/2) = X5( fifth observation) and (n/2)+1 = X5+1 = X6 (sixth observation).  Therefore, the median value would be half way between the fifth and sixth observation. i.e., (X5+X6)/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Slide Number Placeholder 1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79736-1842-4F36-9AEB-38DAF34C7D01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2"/>
          <p:cNvSpPr/>
          <p:nvPr/>
        </p:nvSpPr>
        <p:spPr>
          <a:xfrm>
            <a:off x="533520" y="762120"/>
            <a:ext cx="8076960" cy="38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ified example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odd number of observations  like = 4, 1, 2, 5, 9;  Median = the value of the middle observation = 4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even number of observation like = 4, 1, 2,2,5,9;  Median = the average value of the middle two observation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(2+4)/2 = 3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B: To find the middle observations both in odd and/or even number of observations, the raw data must be arranged in either ascending or descending ord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3"/>
          <p:cNvSpPr/>
          <p:nvPr/>
        </p:nvSpPr>
        <p:spPr>
          <a:xfrm>
            <a:off x="914400" y="4952880"/>
            <a:ext cx="70102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0b050"/>
              </a:buClr>
              <a:buFont typeface="Wingdings" charset="2"/>
              <a:buChar char="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b050"/>
                </a:solidFill>
                <a:uFillTx/>
                <a:latin typeface="Arial"/>
              </a:rPr>
              <a:t>Exercise:  </a:t>
            </a:r>
            <a:r>
              <a:rPr b="1" i="1" lang="en-US" sz="1800" spc="-1" strike="noStrike">
                <a:solidFill>
                  <a:srgbClr val="00b050"/>
                </a:solidFill>
                <a:latin typeface="Arial"/>
              </a:rPr>
              <a:t>using data of tables 2.1 and 2.2 determine the median values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Slide Number Placeholder 1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6E3C4-90B7-43CB-93C4-A69528132FC5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1"/>
          <p:cNvSpPr/>
          <p:nvPr/>
        </p:nvSpPr>
        <p:spPr>
          <a:xfrm>
            <a:off x="304920" y="-176760"/>
            <a:ext cx="8534160" cy="66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50"/>
                </a:solidFill>
                <a:latin typeface="Arial"/>
                <a:ea typeface="Times New Roman"/>
              </a:rPr>
              <a:t>The M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ode is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ost frequently observed value in the data se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When mixtures of populations are sampled, the data can have more than one modal value. i.e., multimodal distribu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90520">
              <a:lnSpc>
                <a:spcPct val="1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 given set of data may be </a:t>
            </a:r>
            <a:r>
              <a:rPr b="1" lang="en-US" sz="1800" spc="-1" strike="noStrike">
                <a:solidFill>
                  <a:srgbClr val="00b050"/>
                </a:solidFill>
                <a:latin typeface="Arial"/>
                <a:ea typeface="Times New Roman"/>
              </a:rPr>
              <a:t>modal, bimodal, or multimodal distribu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90520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oda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= having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ne mod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.g. 4, 1, 2, 2, 5,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90520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imod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= having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wo mod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.g. 4, 4, 1, 2, 2, 5,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90520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ultimod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= having greater than or equal to three mod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90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.g. 4, 4, 1, 1, 2, 2, 5, 5,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b050"/>
                </a:solidFill>
                <a:uFillTx/>
                <a:latin typeface="Arial"/>
              </a:rPr>
              <a:t>Exercise:  </a:t>
            </a:r>
            <a:r>
              <a:rPr b="1" i="1" lang="en-US" sz="2000" spc="-1" strike="noStrike">
                <a:solidFill>
                  <a:srgbClr val="00b050"/>
                </a:solidFill>
                <a:latin typeface="Arial"/>
              </a:rPr>
              <a:t>using data of tables 2.1 and 2.2 determine the mode values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e3611"/>
                </a:solidFill>
                <a:latin typeface="Arial"/>
                <a:ea typeface="Times New Roman"/>
              </a:rPr>
              <a:t>Summary on the usage of measures of central tenden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Arial"/>
                <a:ea typeface="Times New Roman"/>
              </a:rPr>
              <a:t>Mod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can be used for both </a:t>
            </a:r>
            <a:r>
              <a:rPr b="1" lang="en-US" sz="2000" spc="-1" strike="noStrike">
                <a:solidFill>
                  <a:srgbClr val="548dd4"/>
                </a:solidFill>
                <a:latin typeface="Arial"/>
                <a:ea typeface="Times New Roman"/>
              </a:rPr>
              <a:t>quantitative and qualitativ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variab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50"/>
                </a:solidFill>
                <a:latin typeface="Arial"/>
                <a:ea typeface="Times New Roman"/>
              </a:rPr>
              <a:t>Media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can be used for </a:t>
            </a:r>
            <a:r>
              <a:rPr b="1" lang="en-US" sz="2000" spc="-1" strike="noStrike">
                <a:solidFill>
                  <a:srgbClr val="548dd4"/>
                </a:solidFill>
                <a:latin typeface="Arial"/>
                <a:ea typeface="Times New Roman"/>
              </a:rPr>
              <a:t>quantitativ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(both continuous and discrete) as well as fo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rdin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scale variable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50"/>
                </a:solidFill>
                <a:latin typeface="Arial"/>
                <a:ea typeface="Times New Roman"/>
              </a:rPr>
              <a:t>Mea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for describing data, the variable has to be </a:t>
            </a:r>
            <a:r>
              <a:rPr b="0" lang="en-US" sz="2000" spc="-1" strike="noStrike">
                <a:solidFill>
                  <a:srgbClr val="548dd4"/>
                </a:solidFill>
                <a:latin typeface="Arial"/>
                <a:ea typeface="Times New Roman"/>
              </a:rPr>
              <a:t>quantitativ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Slide Number Placeholder 1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B6FF2-7976-498A-A54C-E5B20838B32C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2"/>
          <p:cNvSpPr/>
          <p:nvPr/>
        </p:nvSpPr>
        <p:spPr>
          <a:xfrm>
            <a:off x="838080" y="609480"/>
            <a:ext cx="7772400" cy="40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000" spc="-1" strike="noStrike">
                <a:solidFill>
                  <a:srgbClr val="9e3611"/>
                </a:solidFill>
                <a:latin typeface="Arial"/>
              </a:rPr>
              <a:t>Biometry</a:t>
            </a:r>
            <a:r>
              <a:rPr b="1" lang="en-IN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IN" sz="2000" spc="-1" strike="noStrike">
                <a:solidFill>
                  <a:srgbClr val="000000"/>
                </a:solidFill>
                <a:latin typeface="Arial"/>
              </a:rPr>
              <a:t> is the application of statistics used to solve </a:t>
            </a:r>
            <a:r>
              <a:rPr b="1" lang="en-IN" sz="2000" spc="-1" strike="noStrike">
                <a:solidFill>
                  <a:srgbClr val="000000"/>
                </a:solidFill>
                <a:latin typeface="Arial"/>
              </a:rPr>
              <a:t>biological proble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Arial"/>
              </a:rPr>
              <a:t>More scientifically, it is </a:t>
            </a:r>
            <a:r>
              <a:rPr b="1" lang="en-IN" sz="2000" spc="-1" strike="noStrike">
                <a:solidFill>
                  <a:srgbClr val="000000"/>
                </a:solidFill>
                <a:latin typeface="Arial"/>
              </a:rPr>
              <a:t>the application of statistical method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analyz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iological dat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the fields of </a:t>
            </a:r>
            <a:r>
              <a:rPr b="1" i="1" lang="en-US" sz="2000" spc="-1" strike="noStrike">
                <a:solidFill>
                  <a:srgbClr val="9b2d1f"/>
                </a:solidFill>
                <a:latin typeface="Arial"/>
              </a:rPr>
              <a:t>biological sciences and medicine </a:t>
            </a:r>
            <a:r>
              <a:rPr b="0" lang="en-IN" sz="2000" spc="-1" strike="noStrike">
                <a:solidFill>
                  <a:srgbClr val="000000"/>
                </a:solidFill>
                <a:latin typeface="Arial"/>
              </a:rPr>
              <a:t>in order to solve biological problem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Arial"/>
              </a:rPr>
              <a:t>Biometry can also be called biometrics or biostatistics or biomathematic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44520" indent="-344520">
              <a:lnSpc>
                <a:spcPct val="100000"/>
              </a:lnSpc>
              <a:buClr>
                <a:srgbClr val="00b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N" sz="2000" spc="-1" strike="noStrike">
                <a:solidFill>
                  <a:srgbClr val="00b050"/>
                </a:solidFill>
                <a:latin typeface="Arial"/>
                <a:ea typeface="Arial"/>
              </a:rPr>
              <a:t>Hence</a:t>
            </a:r>
            <a:r>
              <a:rPr b="1" i="1" lang="en-IN" sz="1800" spc="-1" strike="noStrike">
                <a:solidFill>
                  <a:srgbClr val="00b050"/>
                </a:solidFill>
                <a:latin typeface="Arial"/>
                <a:ea typeface="Arial"/>
              </a:rPr>
              <a:t>, </a:t>
            </a:r>
            <a:r>
              <a:rPr b="1" i="1" lang="en-US" sz="2000" spc="-1" strike="noStrike">
                <a:solidFill>
                  <a:srgbClr val="00b050"/>
                </a:solidFill>
                <a:latin typeface="Arial"/>
                <a:ea typeface="Arial"/>
              </a:rPr>
              <a:t>knowledge of statistics is required to apply statistical methods in resear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Slide Number Placeholder 1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8188B-CF0B-4A88-96F9-7D904C112B84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1"/>
          <p:cNvSpPr/>
          <p:nvPr/>
        </p:nvSpPr>
        <p:spPr>
          <a:xfrm>
            <a:off x="380880" y="166680"/>
            <a:ext cx="8229600" cy="32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4520" indent="-34452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a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preferred measure of central tendenc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henever it can be used amongst the three. This is becaus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uses all the values in its computational procedu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Whereas, the other two are rather location parameter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dian may ignore useful data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it is only influenced by one or two observations as the case may b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pite all this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re should be exercis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hen using mean value for data representation as it is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affected of the three when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the data are considerably skew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Slide Number Placeholder 1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470C9-A74A-43D8-9AAD-0C39C772D777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1"/>
          <p:cNvSpPr/>
          <p:nvPr/>
        </p:nvSpPr>
        <p:spPr>
          <a:xfrm>
            <a:off x="442800" y="306000"/>
            <a:ext cx="417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.6. Measures of disper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2"/>
          <p:cNvSpPr/>
          <p:nvPr/>
        </p:nvSpPr>
        <p:spPr>
          <a:xfrm>
            <a:off x="457200" y="685800"/>
            <a:ext cx="8458200" cy="60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measure of dispersion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n expression of variability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a data s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cribes </a:t>
            </a:r>
            <a:r>
              <a:rPr b="1" lang="en-US" sz="2000" spc="-1" strike="noStrike" u="sng">
                <a:solidFill>
                  <a:srgbClr val="00b050"/>
                </a:solidFill>
                <a:uFillTx/>
                <a:latin typeface="Times New Roman"/>
                <a:ea typeface="Times New Roman"/>
              </a:rPr>
              <a:t>how spread are values  from the center</a:t>
            </a:r>
            <a:r>
              <a:rPr b="0" lang="en-US" sz="2000" spc="-1" strike="noStrike" u="sng">
                <a:solidFill>
                  <a:srgbClr val="00b050"/>
                </a:solidFill>
                <a:uFillTx/>
                <a:latin typeface="Times New Roman"/>
                <a:ea typeface="Times New Roman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hich is 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posite of how cluster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re the values around the cente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ly used measures of dispersions inclu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95240" indent="-2840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ang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95240" indent="-2840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ariances (sample and population varianc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95240" indent="-2840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andard deviatio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sample and population Standard deviatio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95240" indent="-2840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andard Error (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95240" indent="-2840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efficient of variation (CV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measure of dispersion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s to be reported with average valu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ecause the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erage values (mean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lone do not adequately describe a data s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example consider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al score on biostatistics of two class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students, 2006 and 2007 class displayed by Table 3.1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ean score for the 2006 and 2007 class i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5.0% and 75.4%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pectivel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us, report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mean value alone mislead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at the two class students ar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able in perform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Slide Number Placeholder 1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61A42-7740-4A3E-AB92-6DF7BD2D69AD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533520" y="1752480"/>
          <a:ext cx="8001000" cy="4556160"/>
        </p:xfrm>
        <a:graphic>
          <a:graphicData uri="http://schemas.openxmlformats.org/drawingml/2006/table">
            <a:tbl>
              <a:tblPr/>
              <a:tblGrid>
                <a:gridCol w="3105000"/>
                <a:gridCol w="2448000"/>
                <a:gridCol w="2448000"/>
              </a:tblGrid>
              <a:tr h="701640"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Table 3.1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iostatistics final score of 2006 and 2007 class students (x/10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0080"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 of stud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core (X/10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0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6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class (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7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 (B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(∑ X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n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-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-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riance (s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4.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.8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andard deviation (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4" name="Rectangle 1"/>
          <p:cNvSpPr/>
          <p:nvPr/>
        </p:nvSpPr>
        <p:spPr>
          <a:xfrm>
            <a:off x="457200" y="158400"/>
            <a:ext cx="8305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the other han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f some measure of dispersion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ke Range is reported together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 the mean value, </a:t>
            </a:r>
            <a:r>
              <a:rPr b="1" lang="en-US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the reader would understand that the two class students are widely different in performance.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.e., </a:t>
            </a:r>
            <a:r>
              <a:rPr b="0" lang="en-US" sz="1800" spc="-1" strike="noStrike">
                <a:solidFill>
                  <a:srgbClr val="9b2d1f"/>
                </a:solidFill>
                <a:latin typeface="Times New Roman"/>
                <a:ea typeface="Times New Roman"/>
              </a:rPr>
              <a:t>the </a:t>
            </a:r>
            <a:r>
              <a:rPr b="1" lang="en-US" sz="1800" spc="-1" strike="noStrike">
                <a:solidFill>
                  <a:srgbClr val="9b2d1f"/>
                </a:solidFill>
                <a:latin typeface="Times New Roman"/>
                <a:ea typeface="Times New Roman"/>
              </a:rPr>
              <a:t>2006 class students are highly varied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performanc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but </a:t>
            </a:r>
            <a:r>
              <a:rPr b="1" lang="en-US" sz="1800" spc="-1" strike="noStrike">
                <a:solidFill>
                  <a:srgbClr val="9b2d1f"/>
                </a:solidFill>
                <a:latin typeface="Times New Roman"/>
                <a:ea typeface="Times New Roman"/>
              </a:rPr>
              <a:t>the 2007 class students are relatively close to each other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ever, the reader cannot get this idea by inspecting the mean value alo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Slide Number Placeholder 1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80E8C-5178-4B8C-95A6-351EAD0A4614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1"/>
          <p:cNvSpPr/>
          <p:nvPr/>
        </p:nvSpPr>
        <p:spPr>
          <a:xfrm>
            <a:off x="380880" y="482760"/>
            <a:ext cx="830592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22860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22860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is the </a:t>
            </a:r>
            <a:r>
              <a:rPr b="0" lang="en-US" sz="2000" spc="-1" strike="noStrike">
                <a:solidFill>
                  <a:srgbClr val="9b2d1f"/>
                </a:solidFill>
                <a:latin typeface="Arial"/>
                <a:ea typeface="Times New Roman"/>
              </a:rPr>
              <a:t>d/c b/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 highest and lowest value in a data se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22860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can be expressed </a:t>
            </a:r>
            <a:r>
              <a:rPr b="1" lang="en-US" sz="2000" spc="-1" strike="noStrike">
                <a:solidFill>
                  <a:srgbClr val="9b2d1f"/>
                </a:solidFill>
                <a:latin typeface="Arial"/>
                <a:ea typeface="Times New Roman"/>
              </a:rPr>
              <a:t>as differe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 such as the range of the 2006 class score is 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  <a:ea typeface="Times New Roman"/>
              </a:rPr>
              <a:t>within 40%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r it can also be expressed </a:t>
            </a:r>
            <a:r>
              <a:rPr b="1" lang="en-US" sz="2000" spc="-1" strike="noStrike">
                <a:solidFill>
                  <a:srgbClr val="9b2d1f"/>
                </a:solidFill>
                <a:latin typeface="Arial"/>
                <a:ea typeface="Times New Roman"/>
              </a:rPr>
              <a:t>as interval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uch as 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  <a:ea typeface="Times New Roman"/>
              </a:rPr>
              <a:t>the said range is </a:t>
            </a:r>
            <a:r>
              <a:rPr b="1" lang="en-US" sz="2000" spc="-1" strike="noStrike">
                <a:solidFill>
                  <a:srgbClr val="9b2d1f"/>
                </a:solidFill>
                <a:latin typeface="Arial"/>
                <a:ea typeface="Times New Roman"/>
              </a:rPr>
              <a:t>between 55 and 95%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22860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 is </a:t>
            </a:r>
            <a:r>
              <a:rPr b="1" lang="en-US" sz="2000" spc="-1" strike="noStrike">
                <a:solidFill>
                  <a:srgbClr val="9b2d1f"/>
                </a:solidFill>
                <a:latin typeface="Arial"/>
              </a:rPr>
              <a:t>simp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understand an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ly graspable measure of dispersion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ever, it is a </a:t>
            </a:r>
            <a:r>
              <a:rPr b="1" lang="en-US" sz="2000" spc="-1" strike="noStrike">
                <a:solidFill>
                  <a:srgbClr val="9b2d1f"/>
                </a:solidFill>
                <a:latin typeface="Arial"/>
              </a:rPr>
              <a:t>crude measure of dispers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it can 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easily overestimate the true dispers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data contains 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outlier values</a:t>
            </a:r>
            <a:r>
              <a:rPr b="0" lang="en-US" sz="2000" spc="-1" strike="noStrike">
                <a:solidFill>
                  <a:srgbClr val="0070c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22860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instance consider the scores of two classes of students (class A and B) displayed by Table 3.1. The mean score of class A is 75% and that of class B is 75.4%. The range of the scores is between 55-95% and 65-85%, respectively. Looking at this report, a reader would understand that class A students ar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ighly varied in their scor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22860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fore, range in this situatio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veremphasiz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 true dispersion of the values in the presence of outlier values as it only takes into consideratio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wo values in the data se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Slide Number Placeholder 1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98129-15B2-4A78-8278-BD361DFB45C7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1"/>
          <p:cNvSpPr/>
          <p:nvPr/>
        </p:nvSpPr>
        <p:spPr>
          <a:xfrm>
            <a:off x="304920" y="377280"/>
            <a:ext cx="83818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22860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Variance and standard dev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22860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se are expressed </a:t>
            </a:r>
            <a:r>
              <a:rPr b="1" lang="en-US" sz="2000" spc="-1" strike="noStrike">
                <a:solidFill>
                  <a:srgbClr val="9b2d1f"/>
                </a:solidFill>
                <a:latin typeface="Arial"/>
                <a:ea typeface="Times New Roman"/>
              </a:rPr>
              <a:t>as the dispersion of the dat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et from the </a:t>
            </a:r>
            <a:r>
              <a:rPr b="1" lang="en-US" sz="2000" spc="-1" strike="noStrike">
                <a:solidFill>
                  <a:srgbClr val="9b2d1f"/>
                </a:solidFill>
                <a:latin typeface="Arial"/>
                <a:ea typeface="Times New Roman"/>
              </a:rPr>
              <a:t>mea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9b2d1f"/>
              </a:buClr>
              <a:buFont typeface="Arial"/>
              <a:buAutoNum type="arabicPeriod"/>
              <a:tabLst>
                <a:tab algn="l" pos="22860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b2d1f"/>
                </a:solidFill>
                <a:latin typeface="Arial"/>
              </a:rPr>
              <a:t>Variance:-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xpressed a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viding the sum of the squared deviations by the total number of data poi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22860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22860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wo types of varianc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228600"/>
                <a:tab algn="l" pos="285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opulation variance:  </a:t>
            </a:r>
            <a:r>
              <a:rPr b="1" lang="en-US" sz="2200" spc="-1" strike="noStrike">
                <a:solidFill>
                  <a:srgbClr val="0000cc"/>
                </a:solidFill>
                <a:latin typeface="Arial"/>
                <a:ea typeface="Arial"/>
              </a:rPr>
              <a:t>σ</a:t>
            </a:r>
            <a:r>
              <a:rPr b="1" lang="en-US" sz="2200" spc="-1" strike="noStrike" baseline="30000">
                <a:solidFill>
                  <a:srgbClr val="0000cc"/>
                </a:solidFill>
                <a:latin typeface="Arial"/>
                <a:ea typeface="Arial"/>
              </a:rPr>
              <a:t>2</a:t>
            </a:r>
            <a:r>
              <a:rPr b="1" lang="en-US" sz="2200" spc="-1" strike="noStrike">
                <a:solidFill>
                  <a:srgbClr val="0000cc"/>
                </a:solidFill>
                <a:latin typeface="Arial"/>
                <a:ea typeface="Arial"/>
              </a:rPr>
              <a:t> = ∑ (xi –μ)</a:t>
            </a:r>
            <a:r>
              <a:rPr b="1" lang="en-US" sz="2200" spc="-1" strike="noStrike" baseline="30000">
                <a:solidFill>
                  <a:srgbClr val="0000cc"/>
                </a:solidFill>
                <a:latin typeface="Arial"/>
                <a:ea typeface="Arial"/>
              </a:rPr>
              <a:t>2</a:t>
            </a:r>
            <a:r>
              <a:rPr b="1" lang="en-US" sz="2200" spc="-1" strike="noStrike">
                <a:solidFill>
                  <a:srgbClr val="0000cc"/>
                </a:solidFill>
                <a:latin typeface="Arial"/>
                <a:ea typeface="Arial"/>
              </a:rPr>
              <a:t>/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228600"/>
                <a:tab algn="l" pos="285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Sample variance:  </a:t>
            </a:r>
            <a:r>
              <a:rPr b="1" lang="en-US" sz="2200" spc="-1" strike="noStrike">
                <a:solidFill>
                  <a:srgbClr val="0000cc"/>
                </a:solidFill>
                <a:latin typeface="Arial"/>
                <a:ea typeface="Arial"/>
              </a:rPr>
              <a:t>S</a:t>
            </a:r>
            <a:r>
              <a:rPr b="1" lang="en-US" sz="2200" spc="-1" strike="noStrike" baseline="30000">
                <a:solidFill>
                  <a:srgbClr val="0000cc"/>
                </a:solidFill>
                <a:latin typeface="Arial"/>
                <a:ea typeface="Arial"/>
              </a:rPr>
              <a:t>2</a:t>
            </a:r>
            <a:r>
              <a:rPr b="1" lang="en-US" sz="2200" spc="-1" strike="noStrike">
                <a:solidFill>
                  <a:srgbClr val="0000cc"/>
                </a:solidFill>
                <a:latin typeface="Arial"/>
                <a:ea typeface="Arial"/>
              </a:rPr>
              <a:t> = ∑ (xi –    )</a:t>
            </a:r>
            <a:r>
              <a:rPr b="1" lang="en-US" sz="2200" spc="-1" strike="noStrike" baseline="30000">
                <a:solidFill>
                  <a:srgbClr val="0000cc"/>
                </a:solidFill>
                <a:latin typeface="Arial"/>
                <a:ea typeface="Arial"/>
              </a:rPr>
              <a:t>2</a:t>
            </a:r>
            <a:r>
              <a:rPr b="1" lang="en-US" sz="2200" spc="-1" strike="noStrike">
                <a:solidFill>
                  <a:srgbClr val="0000cc"/>
                </a:solidFill>
                <a:latin typeface="Arial"/>
                <a:ea typeface="Arial"/>
              </a:rPr>
              <a:t>/ n-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cc"/>
              </a:buClr>
              <a:buFont typeface="Wingdings" charset="2"/>
              <a:buChar char=""/>
              <a:tabLst>
                <a:tab algn="l" pos="228600"/>
                <a:tab algn="l" pos="285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228600"/>
                <a:tab algn="l" pos="285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22860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ariance is also termed a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ean square,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since it is the mean of the total squared deviation of each value from the mean. i.e.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22860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variance = Mean square =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total sum of squared deviation/degrees of freedo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511200"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22860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en abbreviated, the expression can be written 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511200" algn="ctr">
              <a:lnSpc>
                <a:spcPct val="100000"/>
              </a:lnSpc>
              <a:tabLst>
                <a:tab algn="l" pos="0"/>
                <a:tab algn="l" pos="22860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cc"/>
                </a:solidFill>
                <a:uFillTx/>
                <a:latin typeface="Arial"/>
                <a:ea typeface="Arial"/>
              </a:rPr>
              <a:t>S</a:t>
            </a:r>
            <a:r>
              <a:rPr b="1" lang="en-US" sz="1800" spc="-1" strike="noStrike" u="sng" baseline="30000">
                <a:solidFill>
                  <a:srgbClr val="0000cc"/>
                </a:solidFill>
                <a:uFillTx/>
                <a:latin typeface="Arial"/>
                <a:ea typeface="Arial"/>
              </a:rPr>
              <a:t>2</a:t>
            </a:r>
            <a:r>
              <a:rPr b="1" lang="en-US" sz="1800" spc="-1" strike="noStrike" u="sng">
                <a:solidFill>
                  <a:srgbClr val="0000cc"/>
                </a:solidFill>
                <a:uFillTx/>
                <a:latin typeface="Arial"/>
                <a:ea typeface="Arial"/>
              </a:rPr>
              <a:t> = MS = TSS/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22860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0" name="Object 2"/>
              <p:cNvSpPr txBox="1"/>
              <p:nvPr/>
            </p:nvSpPr>
            <p:spPr>
              <a:xfrm>
                <a:off x="5486400" y="3124080"/>
                <a:ext cx="3049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b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p:transition>
    <p:wipe dir="l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Slide Number Placeholder 1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DF5EE-DA57-4C29-A641-594CF4697B2C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1"/>
          <p:cNvSpPr/>
          <p:nvPr/>
        </p:nvSpPr>
        <p:spPr>
          <a:xfrm>
            <a:off x="457200" y="272160"/>
            <a:ext cx="830592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4520" indent="-344520" algn="just"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Sample variance S</a:t>
            </a:r>
            <a:r>
              <a:rPr b="1" lang="en-US" sz="2000" spc="-1" strike="noStrike" baseline="30000">
                <a:solidFill>
                  <a:srgbClr val="0000cc"/>
                </a:solidFill>
                <a:latin typeface="Times New Roman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n estimator of the 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population variance σ</a:t>
            </a:r>
            <a:r>
              <a:rPr b="1" lang="en-US" sz="2000" spc="-1" strike="noStrike" baseline="30000">
                <a:solidFill>
                  <a:srgbClr val="0000cc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nominat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the sample variance is 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n-1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ferred as 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grees of freed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ather than n(sample size) because if the denominator is sample size,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</a:t>
            </a:r>
            <a:r>
              <a:rPr b="1" lang="en-US" sz="2000" spc="-1" strike="noStrike" u="sng" baseline="30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2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underestimates the true dispersion σ</a:t>
            </a:r>
            <a:r>
              <a:rPr b="1" lang="en-US" sz="2000" spc="-1" strike="noStrike" u="sng" baseline="30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2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riance expresses the dispersion in the data values in squared unit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example using data of the 2006 class score shown by table 3.3 below, the sample variance is computed 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∑ (xi –    )</a:t>
            </a:r>
            <a:r>
              <a:rPr b="1" lang="en-US" sz="2000" spc="-1" strike="noStrike" baseline="30000">
                <a:solidFill>
                  <a:srgbClr val="0000cc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/ n-1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1500/7 = 214.29 %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indicates that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the score of a student on average deviated from the average scor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f the class by 214.29%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i.e.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 deviation from the center is expresse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percent squa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 algn="just"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Since variance expresses deviation in squared unit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is not easily understandable by common us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Therefore, th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ositive square root of vari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used to express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eviation in linear uni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this gives a quantity called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tandard deviation (S).</a:t>
            </a:r>
            <a:r>
              <a:rPr b="1" lang="en-US" sz="2000" spc="-1" strike="noStrike">
                <a:solidFill>
                  <a:srgbClr val="00b05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 algn="just"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 algn="just"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Arial"/>
              </a:rPr>
              <a:t>That is why estimating Standard deviation from the variance value is importa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4" name="Object 4"/>
              <p:cNvSpPr txBox="1"/>
              <p:nvPr/>
            </p:nvSpPr>
            <p:spPr>
              <a:xfrm>
                <a:off x="2209680" y="2895480"/>
                <a:ext cx="3049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b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p:transition>
    <p:wipe dir="l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Slide Number Placeholder 1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BC10D-4A07-4448-B24A-3AD6B14F872F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2"/>
          <p:cNvSpPr/>
          <p:nvPr/>
        </p:nvSpPr>
        <p:spPr>
          <a:xfrm>
            <a:off x="228600" y="380880"/>
            <a:ext cx="845820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39760" indent="-97308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. standard deviation (S)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 described as 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the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positive square root of varian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it is used to expres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viation in linear units (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39760" indent="-97308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39760" indent="-973080"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standard deviation (S) = √S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√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 ∑ (xi –    )</a:t>
            </a:r>
            <a:r>
              <a:rPr b="1" lang="en-US" sz="1800" spc="-1" strike="noStrike" baseline="30000">
                <a:solidFill>
                  <a:srgbClr val="0000cc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/ n-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39760" indent="-97308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39760" indent="-97308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7" name="Object 4"/>
              <p:cNvSpPr txBox="1"/>
              <p:nvPr/>
            </p:nvSpPr>
            <p:spPr>
              <a:xfrm>
                <a:off x="6324480" y="1295280"/>
                <a:ext cx="3049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b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338" name="Rectangle 7"/>
          <p:cNvSpPr/>
          <p:nvPr/>
        </p:nvSpPr>
        <p:spPr>
          <a:xfrm>
            <a:off x="457200" y="1752480"/>
            <a:ext cx="838188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r the 2006 class students score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cc"/>
                </a:solidFill>
                <a:uFillTx/>
                <a:latin typeface="Arial"/>
              </a:rPr>
              <a:t>S = √214.29 = 14.64%.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.e., in the 2006 class,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score of a given student deviated from the class average by </a:t>
            </a:r>
            <a:r>
              <a:rPr b="0" lang="en-US" sz="2200" spc="-1" strike="noStrike">
                <a:solidFill>
                  <a:srgbClr val="0000cc"/>
                </a:solidFill>
                <a:latin typeface="Arial"/>
              </a:rPr>
              <a:t>14.64%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s is much easier to understand since it is expressed in similar units as the values in the data se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o Summarize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Variance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is the most preferred measure of dispersion that satisfies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two important qualities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t take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l values in the data se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n its computation an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refore it is not biased as range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.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t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ability distribu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s well understoo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refore this makes it  important in higher statistic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Slide Number Placeholder 1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A648C-68DF-4215-A358-65C40B7B57B0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1371600" y="674640"/>
          <a:ext cx="6705720" cy="4624560"/>
        </p:xfrm>
        <a:graphic>
          <a:graphicData uri="http://schemas.openxmlformats.org/drawingml/2006/table">
            <a:tbl>
              <a:tblPr/>
              <a:tblGrid>
                <a:gridCol w="2381400"/>
                <a:gridCol w="2016000"/>
                <a:gridCol w="2308320"/>
              </a:tblGrid>
              <a:tr h="305280"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1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6 class Score (Xi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</a:t>
                      </a:r>
                      <a:r>
                        <a:rPr b="1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5 – 75 = 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 </a:t>
                      </a:r>
                      <a:r>
                        <a:rPr b="1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= 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 – 75 = 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r>
                        <a:rPr b="1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= 2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 – 75 = 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1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= 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 – 75 = 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= 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 – 75 = -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5 2 = 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 – 75 = -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0</a:t>
                      </a:r>
                      <a:r>
                        <a:rPr b="1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= 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 – 75 = -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5</a:t>
                      </a:r>
                      <a:r>
                        <a:rPr b="1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= 2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 – 75 = -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0</a:t>
                      </a:r>
                      <a:r>
                        <a:rPr b="1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= 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∑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 Xi –     ) =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∑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1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= 1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r>
                        <a:rPr b="1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∑             </a:t>
                      </a:r>
                      <a:r>
                        <a:rPr b="1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n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00/7 = 214.29 %</a:t>
                      </a:r>
                      <a:r>
                        <a:rPr b="1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2" name="Object 6"/>
              <p:cNvSpPr txBox="1"/>
              <p:nvPr/>
            </p:nvSpPr>
            <p:spPr>
              <a:xfrm>
                <a:off x="4267080" y="1143000"/>
                <a:ext cx="83844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xi</m:t>
                    </m:r>
                    <m:r>
                      <m:t xml:space="preserve">−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343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5" name="Object 10"/>
              <p:cNvSpPr txBox="1"/>
              <p:nvPr/>
            </p:nvSpPr>
            <p:spPr>
              <a:xfrm>
                <a:off x="6400800" y="1066680"/>
                <a:ext cx="804960" cy="3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xi</m:t>
                        </m:r>
                        <m:r>
                          <m:t xml:space="preserve">−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46" name="Rectangle 1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7" name="Object 12"/>
              <p:cNvSpPr txBox="1"/>
              <p:nvPr/>
            </p:nvSpPr>
            <p:spPr>
              <a:xfrm>
                <a:off x="4800600" y="4267080"/>
                <a:ext cx="257040" cy="28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" name="Object 5"/>
              <p:cNvSpPr txBox="1"/>
              <p:nvPr/>
            </p:nvSpPr>
            <p:spPr>
              <a:xfrm>
                <a:off x="6172200" y="4267080"/>
                <a:ext cx="804960" cy="3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xi</m:t>
                        </m:r>
                        <m:r>
                          <m:t xml:space="preserve">−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9" name="Object 15"/>
              <p:cNvSpPr txBox="1"/>
              <p:nvPr/>
            </p:nvSpPr>
            <p:spPr>
              <a:xfrm>
                <a:off x="4191120" y="4648320"/>
                <a:ext cx="804600" cy="3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xi</m:t>
                        </m:r>
                        <m:r>
                          <m:t xml:space="preserve">−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50" name="Rectangle 16"/>
          <p:cNvSpPr/>
          <p:nvPr/>
        </p:nvSpPr>
        <p:spPr>
          <a:xfrm>
            <a:off x="533520" y="381240"/>
            <a:ext cx="861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ble 3.2. The 2006 class score  Biostatisticsa data used for illustration of variance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Slide Number Placeholder 1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EB684-A265-48FF-B25B-98D1ED5F11E4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2"/>
          <p:cNvSpPr/>
          <p:nvPr/>
        </p:nvSpPr>
        <p:spPr>
          <a:xfrm>
            <a:off x="533520" y="457200"/>
            <a:ext cx="8229600" cy="53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b2d1f"/>
                </a:solidFill>
                <a:latin typeface="Arial"/>
              </a:rPr>
              <a:t>Standard error of mean (SE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defend as the standard deviation of the mean divided by the square root of the sample siz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9b2d1f"/>
                </a:solidFill>
                <a:latin typeface="Arial"/>
              </a:rPr>
              <a:t>Standard error of mean (SEM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mbolized 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M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Standard error of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n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(SEM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helpful to judge how much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eviant is th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ample mean from the unknown population me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rom which the sample is draw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i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hypothesis testing procedur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to how much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ndard error level can be tolerate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fore deciding that the sample estimate is bias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nce, calculating CV (coefficient of variation) value can be used as a guide to decid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ample estimate is biased or no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4" name="Object 1"/>
              <p:cNvSpPr txBox="1"/>
              <p:nvPr/>
            </p:nvSpPr>
            <p:spPr>
              <a:xfrm>
                <a:off x="2362320" y="2362320"/>
                <a:ext cx="1371600" cy="57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</m:rad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5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6" name="Object 3"/>
              <p:cNvSpPr txBox="1"/>
              <p:nvPr/>
            </p:nvSpPr>
            <p:spPr>
              <a:xfrm>
                <a:off x="6553080" y="1828800"/>
                <a:ext cx="37152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p:transition>
    <p:wipe dir="l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Slide Number Placeholder 1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46EAF-18B6-4E2C-84D6-4C5F1A02FC92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"/>
          <p:cNvSpPr/>
          <p:nvPr/>
        </p:nvSpPr>
        <p:spPr>
          <a:xfrm>
            <a:off x="228600" y="466920"/>
            <a:ext cx="822960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The Coefficient of variation (CV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it describes variability in the data set as a proportion to the mean, i.e.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V is 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lative measure of variabi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Coefficient of variation is expressed as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CV  =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9" name="Object 1"/>
              <p:cNvSpPr txBox="1"/>
              <p:nvPr/>
            </p:nvSpPr>
            <p:spPr>
              <a:xfrm>
                <a:off x="6400800" y="2133720"/>
                <a:ext cx="914400" cy="7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S</m:t>
                        </m:r>
                      </m:num>
                      <m:den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den>
                    </m:f>
                    <m:r>
                      <m:t xml:space="preserve">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0" name="Rectangle 3"/>
          <p:cNvSpPr/>
          <p:nvPr/>
        </p:nvSpPr>
        <p:spPr>
          <a:xfrm>
            <a:off x="380880" y="2909880"/>
            <a:ext cx="83822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5360" indent="-22536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can be used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to compare the relative dispersion (variabili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of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data sets measured in different units as well as magnitud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instanc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w variable or homogeneous is the distribution of weights of same age group individual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a given communit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 a rule of thumb (standard agreement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ollowing can be used as a guide for such kind of decision based on CV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Slide Number Placeholder 1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EEF0E-401A-40F9-A9E4-0E11860B09A7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2"/>
          <p:cNvSpPr/>
          <p:nvPr/>
        </p:nvSpPr>
        <p:spPr>
          <a:xfrm>
            <a:off x="533520" y="304920"/>
            <a:ext cx="8229600" cy="68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e3611"/>
                </a:solidFill>
                <a:latin typeface="Arial"/>
              </a:rPr>
              <a:t>Application of statistics in researc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tistics or biometrics can be applied: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511200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o design data collection methodolog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ased o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type of research both in Survey type (exploratory) and experimental resear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511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Questionnaires, interview, group discussion, experiments, et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511200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2" marL="569880" indent="-450720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o summarize and describe data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027080" indent="-45072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ing Tables,  figures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ar graphs, line graphs, scatter plots, pie charts etc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027080" indent="-45072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statistical quantities lik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verag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(measures of central tendencies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027080" indent="-45072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ing measures of dispersions, such as Range and Varia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(standard deviation, standard erro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69880" indent="-4507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511200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o infer population parameter from sample statistics, i.e., 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 make generalization about population characteristic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511200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511200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o make comparison among populations, such as Hypothesis testing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ypothesis testing involves comparing populations in order to make clear cut decis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Slide Number Placeholder 1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1B88C-581F-4A7B-881D-32A403022C4C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2"/>
          <p:cNvSpPr/>
          <p:nvPr/>
        </p:nvSpPr>
        <p:spPr>
          <a:xfrm>
            <a:off x="533520" y="457200"/>
            <a:ext cx="81532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 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CV≤ 10%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ample estimate is considered as 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good approxim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the parametric value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is usually achieved in experimental re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CV is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between 10 and 20%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is also considered as a good approximation of the parametric valu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2840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is is in fact 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ery good precis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level for samples obtained from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urvey type researc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 But, for data generated from experimental research, this should be taken as th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upper tolerable limi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f deviation for a sample statisti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 If 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CV is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between </a:t>
            </a:r>
            <a:r>
              <a:rPr b="1" lang="en-US" sz="1800" spc="-1" strike="noStrike" u="sng">
                <a:solidFill>
                  <a:srgbClr val="0000cc"/>
                </a:solidFill>
                <a:uFillTx/>
                <a:latin typeface="Arial"/>
              </a:rPr>
              <a:t>20 and 30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%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may b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olerated for exploratory researc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but for designed experiments, it is indicative of too much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rror or an un-standardized methodolog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llowed, and thus one has to consider revising the methodology of data collection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2840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art from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evising the methodology (randomization) of data collec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obviously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ncreasing the sample siz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s also a good approach to improve precision of estima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Slide Number Placeholder 1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405AA-2951-45EF-85F2-D22594DF214B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1"/>
          <p:cNvSpPr/>
          <p:nvPr/>
        </p:nvSpPr>
        <p:spPr>
          <a:xfrm>
            <a:off x="533520" y="259560"/>
            <a:ext cx="8305560" cy="61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lvl="1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e3611"/>
                </a:solidFill>
                <a:latin typeface="Arial"/>
                <a:ea typeface="Times New Roman"/>
              </a:rPr>
              <a:t>1.2. </a:t>
            </a:r>
            <a:r>
              <a:rPr b="1" lang="en-US" sz="2000" spc="-1" strike="noStrike">
                <a:solidFill>
                  <a:srgbClr val="9e3611"/>
                </a:solidFill>
                <a:latin typeface="Arial"/>
                <a:ea typeface="Times New Roman"/>
              </a:rPr>
              <a:t>Definition of </a:t>
            </a:r>
            <a:r>
              <a:rPr b="1" lang="en-US" sz="2000" spc="-1" strike="noStrike">
                <a:solidFill>
                  <a:srgbClr val="9e3611"/>
                </a:solidFill>
                <a:latin typeface="Arial"/>
                <a:ea typeface="Arial"/>
              </a:rPr>
              <a:t>Population, sample and related terminolo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200" spc="-1" strike="noStrike">
                <a:solidFill>
                  <a:srgbClr val="9e3611"/>
                </a:solidFill>
                <a:latin typeface="Arial"/>
                <a:ea typeface="Times New Roman"/>
              </a:rPr>
              <a:t>populatio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It is the collection of all possible individuals, objects or measurement of interest, or  it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is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the entire subjects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 of the research interest.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It differs from time to time, which either increase or decrease through time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11200" indent="-39204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Types of popul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1200" indent="-39204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re are different ways of classifying populations based 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1200" indent="-39204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ze of populations as finite and infin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68400" indent="-392040"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Finite populations are those that can be count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68400" indent="-392040"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nfinite populations are those that are too large to cou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1200" indent="-39204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ature of members 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68400" indent="-392040" algn="just">
              <a:lnSpc>
                <a:spcPct val="15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iving or non liv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68400" indent="-392040"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Real or imaginary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: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Real populations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exist in time and space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, while as imaginary populations are those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experimentally created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Slide Number Placeholder 1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7CD35-0C57-49EA-89C5-863D327DF6A8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2"/>
          <p:cNvSpPr/>
          <p:nvPr/>
        </p:nvSpPr>
        <p:spPr>
          <a:xfrm>
            <a:off x="380880" y="457200"/>
            <a:ext cx="8305920" cy="51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b050"/>
                </a:solidFill>
                <a:latin typeface="Arial"/>
                <a:ea typeface="Times New Roman"/>
              </a:rPr>
              <a:t>Sub sets of a 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b050"/>
              </a:buClr>
              <a:buFont typeface="Arial"/>
              <a:buAutoNum type="arabicPeriod"/>
              <a:tabLst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b050"/>
                </a:solidFill>
                <a:latin typeface="Arial"/>
                <a:ea typeface="Times New Roman"/>
              </a:rPr>
              <a:t>Target Population/theoretical population/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efers to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NTIRE group of individuals or objec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to which researchers are interested in generalizing the conclusio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b050"/>
              </a:buClr>
              <a:buFont typeface="Arial"/>
              <a:buAutoNum type="arabicPeriod"/>
              <a:tabLst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b050"/>
                </a:solidFill>
                <a:latin typeface="Arial"/>
                <a:ea typeface="Times New Roman"/>
              </a:rPr>
              <a:t>Accessible Population/study population/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refer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e population in research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o which the researchers ca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pply their conclusio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is population is a subset of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arget popul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rom the accessible population researchers draw their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am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457200" algn="just">
              <a:lnSpc>
                <a:spcPct val="100000"/>
              </a:lnSpc>
              <a:buClr>
                <a:srgbClr val="00b050"/>
              </a:buClr>
              <a:buFont typeface="Wingdings" charset="2"/>
              <a:buChar char=""/>
              <a:tabLst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b050"/>
                </a:solidFill>
                <a:latin typeface="Arial"/>
                <a:ea typeface="Times New Roman"/>
              </a:rPr>
              <a:t>Sampling frame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ist of unit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the population from which the sample is drawn.  e.g., list of livestock produc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457200" algn="just">
              <a:lnSpc>
                <a:spcPct val="150000"/>
              </a:lnSpc>
              <a:buClr>
                <a:srgbClr val="00b050"/>
              </a:buClr>
              <a:buFont typeface="Wingdings" charset="2"/>
              <a:buChar char=""/>
              <a:tabLst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b050"/>
                </a:solidFill>
                <a:latin typeface="Arial"/>
                <a:ea typeface="Times New Roman"/>
              </a:rPr>
              <a:t>Sample: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ubset of the popul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lected to stud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457200" algn="just">
              <a:lnSpc>
                <a:spcPct val="100000"/>
              </a:lnSpc>
              <a:buClr>
                <a:srgbClr val="00b050"/>
              </a:buClr>
              <a:buFont typeface="Wingdings" charset="2"/>
              <a:buChar char=""/>
              <a:tabLst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b050"/>
                </a:solidFill>
                <a:latin typeface="Arial"/>
                <a:ea typeface="Times New Roman"/>
              </a:rPr>
              <a:t>Sampling unit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lemen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of the population that are selected –   like Individual people, health facilities, districts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Slide Number Placeholder 1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C8130-C82A-4674-9E9F-6B932114B381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2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6953400" cy="4343400"/>
          </a:xfrm>
          <a:prstGeom prst="rect">
            <a:avLst/>
          </a:prstGeom>
          <a:ln w="0">
            <a:noFill/>
          </a:ln>
        </p:spPr>
      </p:pic>
      <p:sp>
        <p:nvSpPr>
          <p:cNvPr id="249" name="Rectangle 1"/>
          <p:cNvSpPr/>
          <p:nvPr/>
        </p:nvSpPr>
        <p:spPr>
          <a:xfrm>
            <a:off x="1066680" y="5105880"/>
            <a:ext cx="647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e: Adolescents = youth = young people = teenagers  = youngsters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Slide Number Placeholder 1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4126A-825F-4594-A2EE-AAF399A34A95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"/>
          <p:cNvSpPr/>
          <p:nvPr/>
        </p:nvSpPr>
        <p:spPr>
          <a:xfrm>
            <a:off x="533520" y="393120"/>
            <a:ext cx="8076960" cy="54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>
              <a:tabLst>
                <a:tab algn="l" pos="0"/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cc"/>
                </a:solidFill>
                <a:latin typeface="Arial"/>
                <a:ea typeface="Times New Roman"/>
              </a:rPr>
              <a:t>1.3. Sampling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200" spc="-1" strike="noStrike">
                <a:solidFill>
                  <a:srgbClr val="0000cc"/>
                </a:solidFill>
                <a:latin typeface="Arial"/>
                <a:ea typeface="Times New Roman"/>
              </a:rPr>
              <a:t>and Types of sampl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What is Sampli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 proces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y which we study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 small part of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 population (sample) to make judgments about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ntire pop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ampling involve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lecting a number of unit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rom a defined popul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Why Do We Sampl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When the population of interest is large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ampling can be more effici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ea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o know or to estimat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e characteristics of a popul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ake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ess tim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an reaching the entire popul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ake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ess money/resourc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an actually provid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ore accurate dat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85840" algn="just">
              <a:lnSpc>
                <a:spcPct val="100000"/>
              </a:lnSpc>
              <a:buClr>
                <a:srgbClr val="0000cc"/>
              </a:buClr>
              <a:buFont typeface="Wingdings" charset="2"/>
              <a:buChar char=""/>
              <a:tabLst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Slide Number Placeholder 1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27236-5862-4933-9ED0-FDD04C235CA7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"/>
          <p:cNvSpPr/>
          <p:nvPr/>
        </p:nvSpPr>
        <p:spPr>
          <a:xfrm>
            <a:off x="304920" y="-13680"/>
            <a:ext cx="8610480" cy="69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cc"/>
                </a:solidFill>
                <a:latin typeface="Arial"/>
                <a:ea typeface="Times New Roman"/>
              </a:rPr>
              <a:t>Types of sampling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b050"/>
                </a:solidFill>
                <a:latin typeface="Arial"/>
                <a:ea typeface="Times New Roman"/>
              </a:rPr>
              <a:t>1.</a:t>
            </a:r>
            <a:r>
              <a:rPr b="1" i="1" lang="en-US" sz="1800" spc="-1" strike="noStrike">
                <a:solidFill>
                  <a:srgbClr val="00b050"/>
                </a:solidFill>
                <a:latin typeface="Arial"/>
              </a:rPr>
              <a:t> N</a:t>
            </a:r>
            <a:r>
              <a:rPr b="1" i="1" lang="en-US" sz="2000" spc="-1" strike="noStrike">
                <a:solidFill>
                  <a:srgbClr val="00b050"/>
                </a:solidFill>
                <a:latin typeface="Arial"/>
                <a:ea typeface="Times New Roman"/>
              </a:rPr>
              <a:t>on-probability sampling or purposive samp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t is a sampling method in which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o probability is assigned for each elementary uni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; rather </a:t>
            </a:r>
            <a:r>
              <a:rPr b="1" lang="en-US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judgment is used to select the sampl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3445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hances of selecting a subject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t know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3445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3445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t every element of the population has the opportunity for selec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the 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3445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3445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 sampling frame is availab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3445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re likely to produce </a:t>
            </a:r>
            <a:r>
              <a:rPr b="1" lang="en-US" sz="1800" spc="-1" strike="noStrike">
                <a:solidFill>
                  <a:srgbClr val="00b050"/>
                </a:solidFill>
                <a:latin typeface="Arial"/>
                <a:ea typeface="Arial"/>
              </a:rPr>
              <a:t>a biased 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3445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stricts general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.g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nvenience, Judgment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Snowball, Quot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sampling</a:t>
            </a:r>
            <a:r>
              <a:rPr b="1" i="1" lang="en-US" sz="2000" spc="-1" strike="noStrike">
                <a:solidFill>
                  <a:srgbClr val="00b05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b050"/>
                </a:solidFill>
                <a:latin typeface="Arial"/>
              </a:rPr>
              <a:t>2. </a:t>
            </a:r>
            <a:r>
              <a:rPr b="1" i="1" lang="en-US" sz="2000" spc="-1" strike="noStrike">
                <a:solidFill>
                  <a:srgbClr val="00b050"/>
                </a:solidFill>
                <a:latin typeface="Arial"/>
                <a:ea typeface="Times New Roman"/>
              </a:rPr>
              <a:t>Probability sampling: </a:t>
            </a:r>
            <a:r>
              <a:rPr b="1" i="1" lang="en-US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Probability sampling is also known as ‘random sampling’ or ‘chance samp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3445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veryon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 the population ha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 opportunity/chance for sele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344520">
              <a:lnSpc>
                <a:spcPct val="100000"/>
              </a:lnSpc>
              <a:tabLst>
                <a:tab algn="l" pos="0"/>
                <a:tab algn="l" pos="457200"/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3445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very element (member/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each unit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the population has a known probability of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eing selected for the 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3445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3445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t Increases sample's representativenes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the pop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3445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is technique is used when it is desirabl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o generalize or infer to a larger popul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r>
              <a:rPr b="1" i="1" lang="en-US" sz="1800" spc="-1" strike="noStrike">
                <a:solidFill>
                  <a:srgbClr val="00b05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b050"/>
              </a:buClr>
              <a:buFont typeface="Wingdings" charset="2"/>
              <a:buChar char=""/>
              <a:tabLst>
                <a:tab algn="l" pos="457200"/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1T10:14:22Z</dcterms:created>
  <dc:creator>USER</dc:creator>
  <dc:description/>
  <dc:language>en-US</dc:language>
  <cp:lastModifiedBy>user</cp:lastModifiedBy>
  <dcterms:modified xsi:type="dcterms:W3CDTF">2020-03-05T08:48:09Z</dcterms:modified>
  <cp:revision>530</cp:revision>
  <dc:subject/>
  <dc:title>Topics to be covered</dc:title>
</cp:coreProperties>
</file>